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D7BC-81A7-4474-9348-9C75BF43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BC2-3621-4BBA-9EAB-3A2DC5EB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B1E-89F7-48EE-8AE6-53A3961A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793-430F-447C-9BE0-6CC252EC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DBB-2372-4226-8153-B9FEFBAA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E701-923F-4E6F-957F-EE022F67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451-DD42-4C73-9B5B-A6A6F4F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834-66F8-4A2E-BFD6-5DECBB24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715-C1B3-4373-85F9-3AEE5A65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518-2218-4B80-861B-4AFE6C2F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A8C-AFAD-41A2-B00F-73F47BCA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62F-B963-48E3-80A9-B91057B3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F6CF-EA16-49B2-A286-FDB5F9510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libertovillalobosguijuelo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4582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STITUCIÓN ESPAÑOLA 40 AÑOS DE SINTONÍA DEMOCRÁTICA.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0 AÑOS AUNANDO IDE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800600"/>
            <a:ext cx="1330200" cy="1752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4800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. E. I. P. “FILIBERTO VILLALOBOS” AVD DEL PRÍNCIPE FELIPE, 38  TFNO: 9235809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7770 GUIJUELO (SALAMAN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ilibertovillalobosguijuel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24040" y="-371520"/>
            <a:ext cx="569592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07732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52480" y="-152280"/>
            <a:ext cx="5695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4582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-380880"/>
            <a:ext cx="8229600" cy="76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-304920"/>
            <a:ext cx="792504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4080"/>
            <a:ext cx="868680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439560"/>
            <a:ext cx="792504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84872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0102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30T17:43:36Z</dcterms:created>
  <dc:creator>usuario</dc:creator>
  <dc:description/>
  <dc:language>en-US</dc:language>
  <cp:lastModifiedBy>usuario</cp:lastModifiedBy>
  <dcterms:modified xsi:type="dcterms:W3CDTF">2019-01-30T18:25:0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