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EEA05-21C8-4D42-B02C-599959979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83FCE-D46D-4F70-B227-CC6897AB0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FB3C2-629B-46DC-9F58-C74974DA6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6C27A-DBE1-4BA2-8B31-3C346E59F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AAEAA-DD47-4F96-9368-FD4B2F277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002BD-DF02-4D76-85BC-51ED23FE9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7A2A6-3F33-4120-90C7-1E15EE76D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00F15-EB82-4C14-A5D0-91CA06673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F5CB8-65B2-4545-885B-BD4780629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815F0-2783-4A24-8303-0BF928C19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39DB6-A1E8-47A9-803B-816415FFF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5ABFD-08F9-486C-8CBE-65AEAB42F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CE6E6-911F-45E6-8192-8DD455AAD0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filibertovillalobosguijuelo.com/" TargetMode="External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360" y="274680"/>
            <a:ext cx="8458200" cy="31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CONSTITUCIÓN ESPAÑOLA 40 AÑOS DE SINTONÍA DEMOCRÁTICA.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40 AÑOS AUNANDO IDEA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533520" y="4800600"/>
            <a:ext cx="1330200" cy="17524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0" y="2635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86000" y="4800600"/>
            <a:ext cx="4572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. E. I. P. “FILIBERTO VILLALOBOS” AVD DEL PRÍNCIPE FELIPE, 38  TFNO: 9235809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37770 GUIJUELO (SALAMANC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filibertovillalobosguijuelo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724040" y="-371520"/>
            <a:ext cx="5695920" cy="760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8382240" cy="624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8077320" cy="60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8229600" cy="620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752480" y="-152280"/>
            <a:ext cx="5695920" cy="701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8458200" cy="626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520" y="-380880"/>
            <a:ext cx="8229600" cy="76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609480" y="-304920"/>
            <a:ext cx="7925040" cy="760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752480" y="0"/>
            <a:ext cx="6248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28600" y="154080"/>
            <a:ext cx="8686800" cy="65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09480" y="439560"/>
            <a:ext cx="7925040" cy="593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828800" y="0"/>
            <a:ext cx="5138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838080" y="533520"/>
            <a:ext cx="7848720" cy="587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822960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800100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822960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143000" y="0"/>
            <a:ext cx="701028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30T17:43:36Z</dcterms:created>
  <dc:creator>usuario</dc:creator>
  <dc:description/>
  <dc:language>en-US</dc:language>
  <cp:lastModifiedBy>usuario</cp:lastModifiedBy>
  <dcterms:modified xsi:type="dcterms:W3CDTF">2019-01-30T18:25:04Z</dcterms:modified>
  <cp:revision>1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