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8D1-31D5-4FB8-9EF9-A81A9A93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611-224C-4E43-8114-52B55AFE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8F2-30AB-41B6-B663-E60F2BE2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6CD-7526-4867-A936-8A3555F7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9FA-63AD-43FE-8A00-CC8F701A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71E-F08A-467C-8634-5C8C5D51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EE4-35CC-4B1C-BF7F-CC01E3EE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D4C-9A50-4B6B-BB62-5603FE5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1E3-120C-4555-811F-C70B21E9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D0E-4205-4ABF-A1FF-5DA8E1D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3C9-86F3-4B28-8973-9E70E864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B26-2F4F-4F91-85FA-51270F6B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EAAE-587D-46C2-838A-9BBEF2B625F3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E87D-C31D-4BC4-970D-C9CCEFCA3073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Discapacidades intelectual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l espectro del autism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5" action="ppaction://hlinksldjump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6" action="ppaction://hlinksldjump"/>
              </a:rPr>
              <a:t>Trastorno específico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7" action="ppaction://hlinksldjump"/>
              </a:rPr>
              <a:t>Trastornos motor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8" action="ppaction://hlinksldjump"/>
              </a:rPr>
              <a:t>Otros trastornos  del desarrollo neurológic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4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4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4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009E-704B-4C0E-A6CE-1EA0F9F7A49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0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41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2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963F-1128-4A5D-97A8-4AF0347A6A3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45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6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2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3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3015-A7D0-4438-863F-26CA4792225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56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7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motores o vocales persistentes (solo motores o vocales)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transitorio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otro trastorno especificado de tics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6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4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7F19-C3B6-42DB-83C3-CD443B7B9EE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6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68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73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74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75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7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9DE8-6399-406D-9C8A-4B2DBFA50C2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7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79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5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5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5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53BE-DD08-46A3-9311-EC14E3BA0B5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63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64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65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3A1D-6D56-4B65-8B52-DF48F28ABBF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74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7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76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C394-B4B7-42A5-B9D8-0B4061A1FB20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Unificación del trastorno mixto receptivo-expresivo y trastorno expresiv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(en torno a los 4 año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médicas ni neurológica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adquisición y uso del lenguaje: vocabulario, estructura de frases limitada, errores en el discurs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B: por debajo de lo esperado a su edad, c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5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6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7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3342-EE43-4258-A44A-45D8A2E04DB2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milar al trastorno fonológic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producción de sonidos del habl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or debajo de lo esperado a su edad (inicio temprano, en torno a los 4 años),  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congénitas o adquiridas (parálisis cerebral,…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9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90D-F9A9-4FC9-93E6-9510F39C051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n cambios significativos respecto a DSM-IV-TR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lteraciones de la fluidez y en el patrón de habla en 1 o más síntomas (7 en total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ausan ansiedad al hablar o limitaciones en la comunicación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del desarrollo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s a déficits sensoriales o motores del habla, ni lesión neurológica u condición médic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7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8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9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A1BE-5104-46C7-9CDE-6B3F57AC696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uevo diagnóstico (componente pragmático del lenguaje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Dificultades en la comunicación verbal y no verbal (uso de la comunicación con objetos sociales, ajustar la comunicación al contexto, seguir reglas de conversación y narración, compresión de lo no-explícito y significados no litera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oduce limitaciones funcionales en uno o más dominio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n un momento temprano del desarroll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otra condición médica, neurológica o bajas aptitudes gramaticales, y no se explica mejor por TEA, DI, retraso global u otro trastorno ment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BF42-7E00-49D0-B279-653B0828A7D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9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30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1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4754-4D99-46B4-B2A5-B1C41601E470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1T22:38:58Z</dcterms:modified>
  <cp:revision>55</cp:revision>
  <dc:subject/>
  <dc:title>DSM-V</dc:title>
</cp:coreProperties>
</file>