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6D6C-D3FF-43A1-94CB-ED9FAC541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46FC-BEE0-4B13-A44E-40EA0956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C6FF-78DB-455F-BBA8-0D42A3383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23F3-0FF3-4D23-B9AC-5B663889B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2C5C-3A52-46F5-89F7-E32CB4F9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3396-A054-4EB9-8105-1D705BCD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1D85-F899-4EC8-8116-67DFAC6F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24D7-97EE-4470-A1CE-A6251A6DF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3102-0E4D-4535-932D-8082BA90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4804-CE09-4C47-AE1E-DB2D946F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E61D-D286-4785-BFB9-6E4F770C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90E3-47D9-4683-980D-86F8AF40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CDF7-7AFF-41E7-A74A-446838613874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DSM-V.ppt" TargetMode="Externa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2.xml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Enure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Encopre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Otro trastorno alimentario de la excreción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rastorno de la excreción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9A5B-DA54-4033-9177-80F0B6059980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10 Rectángulo redondeado"/>
          <p:cNvGrpSpPr/>
          <p:nvPr/>
        </p:nvGrpSpPr>
        <p:grpSpPr>
          <a:xfrm>
            <a:off x="5797440" y="1463760"/>
            <a:ext cx="3260880" cy="755640"/>
            <a:chOff x="5797440" y="1463760"/>
            <a:chExt cx="3260880" cy="755640"/>
          </a:xfrm>
        </p:grpSpPr>
        <p:pic>
          <p:nvPicPr>
            <p:cNvPr id="47" name="10 Rectángulo redondeado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797440" y="1463760"/>
              <a:ext cx="32608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5889600" y="1531800"/>
              <a:ext cx="3079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Cambios en DSM-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11 Rectángulo redondeado"/>
          <p:cNvGrpSpPr/>
          <p:nvPr/>
        </p:nvGrpSpPr>
        <p:grpSpPr>
          <a:xfrm>
            <a:off x="938160" y="822240"/>
            <a:ext cx="4329000" cy="963720"/>
            <a:chOff x="938160" y="822240"/>
            <a:chExt cx="4329000" cy="963720"/>
          </a:xfrm>
        </p:grpSpPr>
        <p:pic>
          <p:nvPicPr>
            <p:cNvPr id="50" name="11 Rectángulo redondeado" descr=""/>
            <p:cNvPicPr/>
            <p:nvPr/>
          </p:nvPicPr>
          <p:blipFill>
            <a:blip r:embed="rId8"/>
            <a:stretch/>
          </p:blipFill>
          <p:spPr>
            <a:xfrm>
              <a:off x="938160" y="822240"/>
              <a:ext cx="43290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excre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9 Rectángulo redondeado"/>
          <p:cNvSpPr/>
          <p:nvPr/>
        </p:nvSpPr>
        <p:spPr>
          <a:xfrm>
            <a:off x="642960" y="2214720"/>
            <a:ext cx="8215200" cy="314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57160" y="2499840"/>
            <a:ext cx="785808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ASPECTOS DESTAC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esaparición de la categoría de trastornos de inicio en la infancia y la adolescencia y pasa a ser una categoría independien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esvinculado de otros cuadros o trastornos por la alteración de hábitos básicos o por la edad de apari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38B3-DD63-47FA-938B-91F5B7B7A08B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8 Marcador de pie de página"/>
          <p:cNvSpPr/>
          <p:nvPr/>
        </p:nvSpPr>
        <p:spPr>
          <a:xfrm>
            <a:off x="314316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0 Rectángulo redondeado"/>
          <p:cNvGrpSpPr/>
          <p:nvPr/>
        </p:nvGrpSpPr>
        <p:grpSpPr>
          <a:xfrm>
            <a:off x="938160" y="822240"/>
            <a:ext cx="4329000" cy="963720"/>
            <a:chOff x="938160" y="822240"/>
            <a:chExt cx="4329000" cy="963720"/>
          </a:xfrm>
        </p:grpSpPr>
        <p:pic>
          <p:nvPicPr>
            <p:cNvPr id="58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822240"/>
              <a:ext cx="43290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excre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61" name="13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9 Rectángulo redondeado"/>
          <p:cNvSpPr/>
          <p:nvPr/>
        </p:nvSpPr>
        <p:spPr>
          <a:xfrm>
            <a:off x="642960" y="2214720"/>
            <a:ext cx="8215200" cy="314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ENURE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Mantiene los mismos criterios que DSM-IV-T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misión repetida de orina en la cama o en la ropa (involuntaria o intencional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Frecuencia: 2 episodios por semana en 3 meses consecutivos o malestar clínicamente significativo o deterioro social, académico 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dad cronológica al menos 5 añ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atribuible a efectos fisiológicos de sustancia ni enfermedad médic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: sólo nocturna, sólo diurna, nocturna y diurn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1DD2-DDFF-41FE-9DCA-FA5ECB544981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8 Marcador de pie de página"/>
          <p:cNvSpPr/>
          <p:nvPr/>
        </p:nvSpPr>
        <p:spPr>
          <a:xfrm>
            <a:off x="314316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10 Rectángulo redondeado"/>
          <p:cNvGrpSpPr/>
          <p:nvPr/>
        </p:nvGrpSpPr>
        <p:grpSpPr>
          <a:xfrm>
            <a:off x="938160" y="822240"/>
            <a:ext cx="4329000" cy="963720"/>
            <a:chOff x="938160" y="822240"/>
            <a:chExt cx="4329000" cy="963720"/>
          </a:xfrm>
        </p:grpSpPr>
        <p:pic>
          <p:nvPicPr>
            <p:cNvPr id="69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822240"/>
              <a:ext cx="43290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excre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72" name="13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ENCOPRE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Mantiene los mismos criterios que DSM-IV-T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vacuación repetida de heces, involuntaria o intencionad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l menos 1 episodio al mes durante 3 mes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dad: por lo menos 4 añ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atribuible a efectos fisiológicos de sustancia ni enfermedad médic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: con estreñimiento e incontinencia por rebosamiento o sin estreñimiento e incontinencia por rebosamiento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1C50-3CE5-41A5-BD94-78AFA261A5F5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10 Rectángulo redondeado"/>
          <p:cNvGrpSpPr/>
          <p:nvPr/>
        </p:nvGrpSpPr>
        <p:grpSpPr>
          <a:xfrm>
            <a:off x="938160" y="822240"/>
            <a:ext cx="4329000" cy="963720"/>
            <a:chOff x="938160" y="822240"/>
            <a:chExt cx="4329000" cy="963720"/>
          </a:xfrm>
        </p:grpSpPr>
        <p:pic>
          <p:nvPicPr>
            <p:cNvPr id="80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822240"/>
              <a:ext cx="43290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excre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83" name="13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OTRO TRASTORNOS ESPECIFICOS DE LA EXCRE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categorí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cumple todos los criterios de alguna de las categorías precedent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umplimentar como “otro trastorno específico de la excreción” más la razón especifica: baja frecuencia de enuresis o encopresi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LA EXCRECIÓN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-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uando no hay suficiente información para diagnóstico más específico y no comunica razón específic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4271-3E8B-4D1D-8636-041181B4EDA6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10 Rectángulo redondeado"/>
          <p:cNvGrpSpPr/>
          <p:nvPr/>
        </p:nvGrpSpPr>
        <p:grpSpPr>
          <a:xfrm>
            <a:off x="938160" y="822240"/>
            <a:ext cx="4329000" cy="963720"/>
            <a:chOff x="938160" y="822240"/>
            <a:chExt cx="4329000" cy="963720"/>
          </a:xfrm>
        </p:grpSpPr>
        <p:pic>
          <p:nvPicPr>
            <p:cNvPr id="91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822240"/>
              <a:ext cx="43290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excre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94" name="13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2:52:41Z</dcterms:created>
  <dc:creator>USUARIO</dc:creator>
  <dc:description/>
  <dc:language>en-US</dc:language>
  <cp:lastModifiedBy>USUARIO</cp:lastModifiedBy>
  <dcterms:modified xsi:type="dcterms:W3CDTF">2014-06-01T21:51:33Z</dcterms:modified>
  <cp:revision>20</cp:revision>
  <dc:subject/>
  <dc:title>DSM-V</dc:title>
</cp:coreProperties>
</file>