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99E6-A3E0-49F1-8E5D-09BDEB03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723B-5510-4967-A101-D8BAC71B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CDD-D85C-4F75-9D3F-6FE1862E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DA36-4C6F-4C7F-BED4-B664464C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E112-D228-4E91-9E76-E5764334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7FC3-A1B9-4E94-90D4-9CD05093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FD2F-8ADD-46FE-8138-06CEDBDE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7D4C-E632-4CFC-9048-DE61366A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E8F1-1D4A-4EF2-BD87-880266FB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7EBB-D185-4038-AAD4-8643C21D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E81E-7606-46BE-9C4D-0401444B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5653-9D2E-4DE1-90FD-746B55F9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7E8C-C41F-4EB1-A448-6F31569A1A9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:/Users/USUARIO/Desktop/CURSO1314/EOEP-SEDE/FORMACI&#211;N_DSMV/DSM-V.ppt" TargetMode="External"/><Relationship Id="rId2" Type="http://schemas.openxmlformats.org/officeDocument/2006/relationships/slide" Target="slide3.xml"/><Relationship Id="rId3" Type="http://schemas.openxmlformats.org/officeDocument/2006/relationships/image" Target="../media/image1.png"/><Relationship Id="rId4" Type="http://schemas.openxmlformats.org/officeDocument/2006/relationships/slide" Target="slide4.xml"/><Relationship Id="rId5" Type="http://schemas.openxmlformats.org/officeDocument/2006/relationships/image" Target="../media/image2.png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" Target="slide2.xml"/><Relationship Id="rId10" Type="http://schemas.openxmlformats.org/officeDocument/2006/relationships/image" Target="../media/image5.png"/><Relationship Id="rId11" Type="http://schemas.openxmlformats.org/officeDocument/2006/relationships/slide" Target="slide6.xml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828C-F28D-49CD-A57F-BCBFD3D44D1F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15 Rectángulo redondeado"/>
          <p:cNvGrpSpPr/>
          <p:nvPr/>
        </p:nvGrpSpPr>
        <p:grpSpPr>
          <a:xfrm>
            <a:off x="2011320" y="2676600"/>
            <a:ext cx="4541760" cy="682560"/>
            <a:chOff x="2011320" y="2676600"/>
            <a:chExt cx="4541760" cy="682560"/>
          </a:xfrm>
        </p:grpSpPr>
        <p:pic>
          <p:nvPicPr>
            <p:cNvPr id="45" name="15 Rectángulo redondeado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011320" y="267660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100240" y="274320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Modelo alternativo del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17 Rectángulo redondeado"/>
          <p:cNvGrpSpPr/>
          <p:nvPr/>
        </p:nvGrpSpPr>
        <p:grpSpPr>
          <a:xfrm>
            <a:off x="79200" y="4248000"/>
            <a:ext cx="4548240" cy="684360"/>
            <a:chOff x="79200" y="4248000"/>
            <a:chExt cx="4548240" cy="684360"/>
          </a:xfrm>
        </p:grpSpPr>
        <p:pic>
          <p:nvPicPr>
            <p:cNvPr id="48" name="17 Rectángulo redondeado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9200" y="4248000"/>
              <a:ext cx="454824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71360" y="4314960"/>
              <a:ext cx="437220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: GRUPO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19 Rectángulo redondeado"/>
          <p:cNvGrpSpPr/>
          <p:nvPr/>
        </p:nvGrpSpPr>
        <p:grpSpPr>
          <a:xfrm>
            <a:off x="1865160" y="4962600"/>
            <a:ext cx="4548240" cy="682560"/>
            <a:chOff x="1865160" y="4962600"/>
            <a:chExt cx="4548240" cy="682560"/>
          </a:xfrm>
        </p:grpSpPr>
        <p:pic>
          <p:nvPicPr>
            <p:cNvPr id="51" name="19 Rectángulo redondeado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865160" y="4962600"/>
              <a:ext cx="45482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957320" y="502920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GRUPO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54" name="22 Rectángulo redondeado" descr=""/>
            <p:cNvPicPr/>
            <p:nvPr/>
          </p:nvPicPr>
          <p:blipFill>
            <a:blip r:embed="rId8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24 Rectángulo redondeado"/>
          <p:cNvGrpSpPr/>
          <p:nvPr/>
        </p:nvGrpSpPr>
        <p:grpSpPr>
          <a:xfrm>
            <a:off x="2011320" y="1889280"/>
            <a:ext cx="4541760" cy="682560"/>
            <a:chOff x="2011320" y="1889280"/>
            <a:chExt cx="4541760" cy="682560"/>
          </a:xfrm>
        </p:grpSpPr>
        <p:pic>
          <p:nvPicPr>
            <p:cNvPr id="57" name="24 Rectángulo redondeado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011320" y="188928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100240" y="195732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Principales cambios en 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14 Rectángulo redondeado"/>
          <p:cNvGrpSpPr/>
          <p:nvPr/>
        </p:nvGrpSpPr>
        <p:grpSpPr>
          <a:xfrm>
            <a:off x="4084560" y="5608800"/>
            <a:ext cx="4541760" cy="682560"/>
            <a:chOff x="4084560" y="5608800"/>
            <a:chExt cx="4541760" cy="682560"/>
          </a:xfrm>
        </p:grpSpPr>
        <p:pic>
          <p:nvPicPr>
            <p:cNvPr id="60" name="14 Rectángulo redondeado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084560" y="560880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172040" y="567216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GRUPO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D12F-5476-460E-AC6F-6A677196253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15 Rectángulo redondeado"/>
          <p:cNvGrpSpPr/>
          <p:nvPr/>
        </p:nvGrpSpPr>
        <p:grpSpPr>
          <a:xfrm>
            <a:off x="725400" y="2322360"/>
            <a:ext cx="8047080" cy="4035600"/>
            <a:chOff x="725400" y="2322360"/>
            <a:chExt cx="8047080" cy="4035600"/>
          </a:xfrm>
        </p:grpSpPr>
        <p:pic>
          <p:nvPicPr>
            <p:cNvPr id="66" name="15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2322360"/>
              <a:ext cx="8047080" cy="40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977760" y="2549520"/>
              <a:ext cx="7545600" cy="35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Aproximación alternativa al diagnóstic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riterios generales para 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Elementos del funcionamiento de la personalidad como un continuo. Nivel de desajuste global actua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- con rasgo específico (desajuste moderado de la personalidad y presencia de rasgos patológicos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69" name="22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24 Rectángulo redondeado"/>
          <p:cNvGrpSpPr/>
          <p:nvPr/>
        </p:nvGrpSpPr>
        <p:grpSpPr>
          <a:xfrm>
            <a:off x="225360" y="1536840"/>
            <a:ext cx="4541760" cy="682560"/>
            <a:chOff x="225360" y="1536840"/>
            <a:chExt cx="4541760" cy="682560"/>
          </a:xfrm>
        </p:grpSpPr>
        <p:pic>
          <p:nvPicPr>
            <p:cNvPr id="72" name="24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225360" y="153684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14280" y="160020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Principales cambios en 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75" name="10 Flecha izquierda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E64D-114B-420E-854B-6CA0EEBCD723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15 Rectángulo redondeado"/>
          <p:cNvGrpSpPr/>
          <p:nvPr/>
        </p:nvGrpSpPr>
        <p:grpSpPr>
          <a:xfrm>
            <a:off x="512640" y="1676520"/>
            <a:ext cx="4540320" cy="682560"/>
            <a:chOff x="512640" y="1676520"/>
            <a:chExt cx="4540320" cy="682560"/>
          </a:xfrm>
        </p:grpSpPr>
        <p:pic>
          <p:nvPicPr>
            <p:cNvPr id="81" name="15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512640" y="1676520"/>
              <a:ext cx="45403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600120" y="174312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Modelo alternativo del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84" name="22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14 Rectángulo redondeado"/>
          <p:cNvGrpSpPr/>
          <p:nvPr/>
        </p:nvGrpSpPr>
        <p:grpSpPr>
          <a:xfrm>
            <a:off x="512640" y="2535120"/>
            <a:ext cx="8113680" cy="3756240"/>
            <a:chOff x="512640" y="2535120"/>
            <a:chExt cx="8113680" cy="3756240"/>
          </a:xfrm>
        </p:grpSpPr>
        <p:pic>
          <p:nvPicPr>
            <p:cNvPr id="87" name="14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12640" y="2535120"/>
              <a:ext cx="8113680" cy="375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49160" y="2749680"/>
              <a:ext cx="7645680" cy="32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riterios generales TP (7 criterios de desajust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Elementos del funcionamiento de la personalida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Del yo: identidad y auto-direc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Interpersonal: empatía e intimida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Evaluación de los rasgos patológicos: afectividad negativa, distanciamiento, antagonismo, desinhibición, psicoticismo. Otros 25 específico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0" name="10 Flecha izquierda" descr=""/>
            <p:cNvPicPr/>
            <p:nvPr/>
          </p:nvPicPr>
          <p:blipFill>
            <a:blip r:embed="rId4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C097-32D8-4CB6-987F-287ADE769C50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17 Rectángulo redondeado"/>
          <p:cNvGrpSpPr/>
          <p:nvPr/>
        </p:nvGrpSpPr>
        <p:grpSpPr>
          <a:xfrm>
            <a:off x="225360" y="1609560"/>
            <a:ext cx="4541760" cy="676440"/>
            <a:chOff x="225360" y="1609560"/>
            <a:chExt cx="4541760" cy="676440"/>
          </a:xfrm>
        </p:grpSpPr>
        <p:pic>
          <p:nvPicPr>
            <p:cNvPr id="96" name="17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225360" y="1609560"/>
              <a:ext cx="454176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14280" y="167148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: GRUPO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19 Rectángulo redondeado"/>
          <p:cNvGrpSpPr/>
          <p:nvPr/>
        </p:nvGrpSpPr>
        <p:grpSpPr>
          <a:xfrm>
            <a:off x="798480" y="2462040"/>
            <a:ext cx="4541760" cy="682920"/>
            <a:chOff x="798480" y="2462040"/>
            <a:chExt cx="4541760" cy="682920"/>
          </a:xfrm>
        </p:grpSpPr>
        <p:pic>
          <p:nvPicPr>
            <p:cNvPr id="99" name="19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798480" y="2462040"/>
              <a:ext cx="45417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885960" y="252900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Paranoid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102" name="22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4 Rectángulo redondeado"/>
          <p:cNvGrpSpPr/>
          <p:nvPr/>
        </p:nvGrpSpPr>
        <p:grpSpPr>
          <a:xfrm>
            <a:off x="798480" y="3249720"/>
            <a:ext cx="4541760" cy="682560"/>
            <a:chOff x="798480" y="3249720"/>
            <a:chExt cx="4541760" cy="682560"/>
          </a:xfrm>
        </p:grpSpPr>
        <p:pic>
          <p:nvPicPr>
            <p:cNvPr id="105" name="14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798480" y="324972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85960" y="331488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Esquizoid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10 Rectángulo redondeado"/>
          <p:cNvGrpSpPr/>
          <p:nvPr/>
        </p:nvGrpSpPr>
        <p:grpSpPr>
          <a:xfrm>
            <a:off x="798480" y="4035600"/>
            <a:ext cx="4541760" cy="682560"/>
            <a:chOff x="798480" y="4035600"/>
            <a:chExt cx="4541760" cy="682560"/>
          </a:xfrm>
        </p:grpSpPr>
        <p:pic>
          <p:nvPicPr>
            <p:cNvPr id="108" name="10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798480" y="403560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885960" y="410040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Esquizotípic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1" name="11 Flecha izquierda" descr=""/>
            <p:cNvPicPr/>
            <p:nvPr/>
          </p:nvPicPr>
          <p:blipFill>
            <a:blip r:embed="rId6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9F83-50FA-4AD9-9721-BAB0D0C1D923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17 Rectángulo redondeado"/>
          <p:cNvGrpSpPr/>
          <p:nvPr/>
        </p:nvGrpSpPr>
        <p:grpSpPr>
          <a:xfrm>
            <a:off x="225360" y="1609560"/>
            <a:ext cx="4541760" cy="676440"/>
            <a:chOff x="225360" y="1609560"/>
            <a:chExt cx="4541760" cy="676440"/>
          </a:xfrm>
        </p:grpSpPr>
        <p:pic>
          <p:nvPicPr>
            <p:cNvPr id="117" name="17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225360" y="1609560"/>
              <a:ext cx="454176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14280" y="167148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: GRUPO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19 Rectángulo redondeado"/>
          <p:cNvGrpSpPr/>
          <p:nvPr/>
        </p:nvGrpSpPr>
        <p:grpSpPr>
          <a:xfrm>
            <a:off x="798480" y="2462040"/>
            <a:ext cx="4541760" cy="682920"/>
            <a:chOff x="798480" y="2462040"/>
            <a:chExt cx="4541760" cy="682920"/>
          </a:xfrm>
        </p:grpSpPr>
        <p:pic>
          <p:nvPicPr>
            <p:cNvPr id="120" name="19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798480" y="2462040"/>
              <a:ext cx="45417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885960" y="252900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ANTISOC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123" name="22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14 Rectángulo redondeado"/>
          <p:cNvGrpSpPr/>
          <p:nvPr/>
        </p:nvGrpSpPr>
        <p:grpSpPr>
          <a:xfrm>
            <a:off x="798480" y="3249720"/>
            <a:ext cx="4541760" cy="682560"/>
            <a:chOff x="798480" y="3249720"/>
            <a:chExt cx="4541760" cy="682560"/>
          </a:xfrm>
        </p:grpSpPr>
        <p:pic>
          <p:nvPicPr>
            <p:cNvPr id="126" name="14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798480" y="324972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85960" y="331488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10 Rectángulo redondeado"/>
          <p:cNvGrpSpPr/>
          <p:nvPr/>
        </p:nvGrpSpPr>
        <p:grpSpPr>
          <a:xfrm>
            <a:off x="798480" y="4035600"/>
            <a:ext cx="4541760" cy="682560"/>
            <a:chOff x="798480" y="4035600"/>
            <a:chExt cx="4541760" cy="682560"/>
          </a:xfrm>
        </p:grpSpPr>
        <p:pic>
          <p:nvPicPr>
            <p:cNvPr id="129" name="10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798480" y="403560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885960" y="410040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HISTRION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9 Rectángulo redondeado"/>
          <p:cNvGrpSpPr/>
          <p:nvPr/>
        </p:nvGrpSpPr>
        <p:grpSpPr>
          <a:xfrm>
            <a:off x="798480" y="4748040"/>
            <a:ext cx="4541760" cy="682920"/>
            <a:chOff x="798480" y="4748040"/>
            <a:chExt cx="4541760" cy="682920"/>
          </a:xfrm>
        </p:grpSpPr>
        <p:pic>
          <p:nvPicPr>
            <p:cNvPr id="132" name="9 Rectángulo redondeado" descr=""/>
            <p:cNvPicPr/>
            <p:nvPr/>
          </p:nvPicPr>
          <p:blipFill>
            <a:blip r:embed="rId6"/>
            <a:stretch/>
          </p:blipFill>
          <p:spPr>
            <a:xfrm>
              <a:off x="798480" y="4748040"/>
              <a:ext cx="45417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885960" y="481500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NARCISIS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35" name="11 Flecha izquierda" descr=""/>
            <p:cNvPicPr/>
            <p:nvPr/>
          </p:nvPicPr>
          <p:blipFill>
            <a:blip r:embed="rId7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110D-25AF-46F9-A7D5-676450C37D57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17 Rectángulo redondeado"/>
          <p:cNvGrpSpPr/>
          <p:nvPr/>
        </p:nvGrpSpPr>
        <p:grpSpPr>
          <a:xfrm>
            <a:off x="225360" y="1609560"/>
            <a:ext cx="4541760" cy="676440"/>
            <a:chOff x="225360" y="1609560"/>
            <a:chExt cx="4541760" cy="676440"/>
          </a:xfrm>
        </p:grpSpPr>
        <p:pic>
          <p:nvPicPr>
            <p:cNvPr id="141" name="17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225360" y="1609560"/>
              <a:ext cx="454176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14280" y="167148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: GRUPO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19 Rectángulo redondeado"/>
          <p:cNvGrpSpPr/>
          <p:nvPr/>
        </p:nvGrpSpPr>
        <p:grpSpPr>
          <a:xfrm>
            <a:off x="798480" y="2462040"/>
            <a:ext cx="4541760" cy="682920"/>
            <a:chOff x="798480" y="2462040"/>
            <a:chExt cx="4541760" cy="682920"/>
          </a:xfrm>
        </p:grpSpPr>
        <p:pic>
          <p:nvPicPr>
            <p:cNvPr id="144" name="19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798480" y="2462040"/>
              <a:ext cx="45417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885960" y="252900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EVAS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147" name="22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14 Rectángulo redondeado"/>
          <p:cNvGrpSpPr/>
          <p:nvPr/>
        </p:nvGrpSpPr>
        <p:grpSpPr>
          <a:xfrm>
            <a:off x="798480" y="3249720"/>
            <a:ext cx="4541760" cy="682560"/>
            <a:chOff x="798480" y="3249720"/>
            <a:chExt cx="4541760" cy="682560"/>
          </a:xfrm>
        </p:grpSpPr>
        <p:pic>
          <p:nvPicPr>
            <p:cNvPr id="150" name="14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798480" y="324972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885960" y="331488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DEPENDIEN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10 Rectángulo redondeado"/>
          <p:cNvGrpSpPr/>
          <p:nvPr/>
        </p:nvGrpSpPr>
        <p:grpSpPr>
          <a:xfrm>
            <a:off x="798480" y="4035600"/>
            <a:ext cx="4541760" cy="682560"/>
            <a:chOff x="798480" y="4035600"/>
            <a:chExt cx="4541760" cy="682560"/>
          </a:xfrm>
        </p:grpSpPr>
        <p:pic>
          <p:nvPicPr>
            <p:cNvPr id="153" name="10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798480" y="403560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885960" y="410040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OBSESIVO-COMPULS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56" name="11 Flecha izquierda" descr=""/>
            <p:cNvPicPr/>
            <p:nvPr/>
          </p:nvPicPr>
          <p:blipFill>
            <a:blip r:embed="rId6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1T23:42:51Z</dcterms:created>
  <dc:creator>USUARIO</dc:creator>
  <dc:description/>
  <dc:language>en-US</dc:language>
  <cp:lastModifiedBy>USUARIO</cp:lastModifiedBy>
  <dcterms:modified xsi:type="dcterms:W3CDTF">2014-06-02T00:00:41Z</dcterms:modified>
  <cp:revision>6</cp:revision>
  <dc:subject/>
  <dc:title>DSM-V</dc:title>
</cp:coreProperties>
</file>