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CC7-AD3E-4500-9531-47F2597E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327-5BED-4959-880B-9B81F2C2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44F-FD21-4D99-AEE0-6886DBE5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D85-B52C-4022-BFDA-208360DB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F00-DE42-483C-A9D3-1253D9F9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0E7-EDC5-4FC8-9FEE-D849100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3A9-4D39-4987-AB52-9BAA8735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7E4-A0E1-4E02-9E27-FF0997C3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48C-21E1-4D07-8D8C-6A4EE12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144-B35C-47B0-9175-DA3802CF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BAC-3C68-4D32-9EC6-6388EDB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2D4-DA58-430A-A559-9AB08CF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B84-3EB4-4717-8402-E28FC86258A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Otro trastorno relacionados con trauma y estresore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1C1E-22E2-481F-953C-F576ED3BF8D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 con los trastornos de est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gra algunos que aparecían con los trastornos de ansiedad y otros que estaban dentro de la categoría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significativos en el trastorno de estrés postraumático (eventos más explícitos, desaparece el criterio A2, cuatro grupos de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 separados para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estrés agudo, directo o indirecto. Eliminación criterio A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vinculación reactivo,  y trastorno de la actividad social desinhibida (trastornos separad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672-4086-4399-A62B-EC683DEF34A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, pero separa los dos tipos (inhibido y desinhibido), como trastorno de la vinculación reactivo y trastorno de la actividad social desinhib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el trastorno de vinculación reactivo especifica más los indicadores y añade varios criterios de exclu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constante de conducta inhibida, emocional retraída hacia adultos cuidadores: falta de búsqueda de consuelo, o falta de respuesta cuando se consue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ersistente alteración social: mínima respuesta social, limitado afecto positivo, episodios de irritabilidad inexplic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insuficientes cuidado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criterios de TEA. Antes de l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047-E85F-4A26-89FB-460DC8A7EA3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niño se acerca activamente a adultos no familiares: reducida reticencia a acercarse, conducta excesivamente familiar, reducida comprobación de la opinión de los adultos cuidadores, disposición a ir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s conductas no se limitan a impulsiv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cuidados insuficiente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9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722-4B58-4EEC-B3D1-30FB1772CED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 adultos y mayores de 6 años, de los niños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dultos: exposición a muerte real o peligro de muerte, lesiones o violencia sexual (4 criterios); presencia de síntomas intrusivos (recuerdos recurrentes, sueños, sensación de que el acontecimiento está sucediendo, malestar ante estímulos que lo recuerdan); evitación de estímulos asociados al trauma (7 criterios); alteraciones negativas de las cogniciones (7 criterios); alteraciones de la activación y reactividad (6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disociativos (despersonalización, desrealización), inicio demo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niños: exposición a muerte real o peligro de muerte, lesiones o violencia sexual (2 criterios); presencia de síntomas intrusivos (recuerdos recurrentes, sueños, sensación de que el acontecimiento está sucediendo, malestar ante estímulos que lo recuerdan); evitación de estímulos asociados al trauma (5 criterios); alteraciones negativas de las cogniciones (5 criterios); alteraciones de la activación y reactividad (5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76BA-9245-4CA7-904B-BB88F538585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exposición a muerte real o peligro de muerte, lesiones o violencia sexual (4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intrusivos (recuerdos recurrentes, sueños, sensación de que el acontecimiento está sucediendo, malestar ante estímulos que lo recuerdan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 de evitación de estímulos asociados al trauma (2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fecto negativo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isociativos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ctivación (5): problemas de sueños, irritabilidad, hiper-vigilancia, concentración, respuestas exageradas de sobresal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ción mínima 3 días y un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1788-6A88-4A33-878E-C614E7E4AFA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emocionales o de conducta e respuesta a estresores, dentro de los tres meses siguientes al evento, con malestar y deterioro social significativo. No persisten más de 6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responden a due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ánimo depresivo, ansiedad, mixto, alteraciones del comportamiento, mixto con alteraciones emocionales y comportamiento, no especifi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79C-7CDF-42CF-A8B4-59FC753D333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13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6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RELACIONADOS CON TRAUMA Y ESTRES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relacionados con trauma y estresores” más la razón especi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37E1-BB8B-40DF-A7A2-993C38BF842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2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7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28:38Z</dcterms:modified>
  <cp:revision>26</cp:revision>
  <dc:subject/>
  <dc:title>DSM-V</dc:title>
</cp:coreProperties>
</file>