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BF03-F796-4CAA-85AA-F1BC5BE9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E54-E972-46A8-971D-0F062D1A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667-58B9-49CC-9CE4-74782304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AB34-23FF-4296-A176-6599E9E1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F7DD-083C-42E9-A68F-0E2B5F26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E89-DC70-4C26-AA13-72E53C70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F70-7BBA-44EF-8C4C-5A60392F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CEC9-2A1C-4C62-964F-F1A5CA1C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1398-210E-4CCF-A5A2-77E5DCBD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4EDA-C975-422C-9379-116C34FA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A13-67A8-4E0A-93BF-53692C43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530-90BE-4B28-AE7D-E2F26C72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C172-B619-469D-AB21-48AA946D714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image" Target="../media/image1.png"/><Relationship Id="rId11" Type="http://schemas.openxmlformats.org/officeDocument/2006/relationships/slide" Target="slide2.xm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357280"/>
            <a:ext cx="7858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de desregulación emocional disrup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epresivo may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presivo persistente (distim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disfórico premestr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 depresivo inducido por sustancias/medic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Otros trastorno depresivo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depresivo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2859-5787-42F7-ADD6-F7CA2F553EE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725400" y="1322280"/>
            <a:ext cx="5327640" cy="750960"/>
            <a:chOff x="725400" y="1322280"/>
            <a:chExt cx="5327640" cy="750960"/>
          </a:xfrm>
        </p:grpSpPr>
        <p:pic>
          <p:nvPicPr>
            <p:cNvPr id="50" name="11 Rectángulo redondeado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25400" y="1322280"/>
              <a:ext cx="53276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17560" y="1389240"/>
              <a:ext cx="5151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parado de otros trastornos del ánimo (en DSM-IV-TR dentro de esa categoría). Capítulo aparte de los trastornos bipola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 trastorno en la etapa de infancia: desregulación emocional disruptivo. Hasta los 18 años, por irritabilidad persistente y episodios de descontrol conductual extrem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 episodio depresivo pasa a ser la definición de trastorno depresivo mayo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crea trastorno depresivo persistente (agrupa trastorno depresivo mayor y distimi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añade el especificador “con síntomas mixtos, cuando se cumple varios síntomas de episodio manía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elimina el criterio de “ 2 meses después de fallecimiento” para diagnóstico de trastorno depresivo mayor en duel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 trastorno  disfórico premenstrual abandona el trastorno depresivo “no especificado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8991-5F6F-4DE5-ABBF-45892AC6C26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DISREGULACIÓN DISRUPTIVA DEL ESTADO DE ÁNI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, para evitar sobre-diagnóstico y excesivo tratamiento en ni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Graves pataletas verbales y/o conductuales, desproporcionadas en intensidad y duración. No acordes al nivel de desarrol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3 o más veces por semana. Duración: al menos 12 meses, sin 2 o más meses sin síntomas. Ambientes: al menos en dos (casa, escuela, compañero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do de ánimo persistentemente irritable, enfadado cada día y observable por otr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ntre los 6 y los 18 años. Aparece antes de los 10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 maniaco o hipomaniaco: todos los criterios, nunca más de 1 dí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deben ocurrir durante un trastorno depresivo mayor u otro trastorno men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F6B3-3741-4231-B810-1C8E2B53524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2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2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21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2856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MAY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inco síntomas durante 2 semanas, uno será estado de ánimo depresivo la mayor parte del día (en niños puede ser irritable) y pérdida de interés o capacidad para el placer, además d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Pérdida importante de peso, pérdida o aumento de apetit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Insomnio, hipersom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Agitación o enlentecimiento psicomotor. Fatiga o pérdida de energí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Sentimiento de inutilidad o culpa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Disminución de l a capacidad para concentrar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Pensamiento recurrentes de muerte, ideación suicida o tentativa o plan específic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lestar clínico significativo y deterioro social, laboral o otras áre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debido a una sustancia o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 habido episodio maniaco o hipomanía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malestar ansioso, características mixtas, melancólicas, atípicas, catatonia, comienzo en el post-parto, patrón estacional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1E05-80ED-4401-B96B-889B1D40BEF1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PERSIST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olidación del trastorno distímico y del trastorno depresivo crón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do de ánimo triste  durante al menos dos años. En niños puede ser irritable, al menos 1 año. C. No ha estado dos meses sin síntom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esencia de dos o más síntoma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Pérdida o aumento de apetito; Insomnio, hipersomnia; Fatiga o pérdida de energía; Baja autoestima; Disminución de l a capacidad para concentrarse; Sentimientos de desesperanz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 habido episodio maniaco o hipomaníaco. No debido a sustancia o enferme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malestar ansioso, características mixtas, melancólicas, atípicas, comienzo en el post-parto,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remisión total o parcial; comienzo temprano o tardío; c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AA15-3C0D-4BCE-A62F-C8D5DCB27E6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ISFÓRICO PREMESTR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bandona el grupo de trastorno no especificad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incipales indicadores( 1 o más): labilidad emocional, irritabilidad, disforia y ansiedad , que ocurren repetidamente en el ciclo premenstru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combinados: disminución del interés, dificultad de concentración, letargia, cambio del apetito, cambio del sueño, sentido de estar sobrepasado, síntomas fís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Remiten después de la menstru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563B-0D63-46B9-88B5-A6E49E8AE070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02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5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INDUCIDO POR SUSTANCIAS O MEDIC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aparece el “trastorno del estado de ánimo inducido por sustancias” y aparecen dos: trastorno bipolar inducido/relacionado por sustancias/medicación y  trastorno depresivo inducido por sustancias/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l estado de ánimo deprimi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urante o después de intoxicación de sustancia, síndrome de abstinencia o exposición a 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mienzo durante intoxicación o abstin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pre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86AF-B145-4467-9BB8-9626D41252C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14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7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l estado de ánimo deprimi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una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 características depresivas, de episodio depresivo mayor o mixt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pre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C4E8-2A3A-439B-BC87-437FEB626021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26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9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 DEPRESIV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presión breve recurrente(2-13 días, al menos 4 síntomas, al menos 1 vez al me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 depresivo breve (4-13 días, al menos 4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 depresivo con síntomas insuficientes (al menos 1 síntoma, dos seman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SÍNTOMAS SOMÁTICOS Y RELACIONAD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con malestar ansioso, gravedad (4 niveles), síntomas mix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D1D1-4E59-448E-A525-EBDA17B9E45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37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40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1:53:55Z</dcterms:created>
  <dc:creator>USUARIO</dc:creator>
  <dc:description/>
  <dc:language>en-US</dc:language>
  <cp:lastModifiedBy>USUARIO</cp:lastModifiedBy>
  <dcterms:modified xsi:type="dcterms:W3CDTF">2014-06-01T22:10:17Z</dcterms:modified>
  <cp:revision>30</cp:revision>
  <dc:subject/>
  <dc:title>Diapositiva 1</dc:title>
</cp:coreProperties>
</file>