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AA07B-35F6-44F6-9B11-81794F87B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2B810-1E04-42B0-B9C6-40593B4CB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5135B-0ABA-4CB7-BDA5-AFBE512A3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6BF0A-093E-41DE-B570-812C8BA8A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5A371-4902-4EA0-A59C-4EDBD949D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55376-564B-4787-90D6-64B213262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1835F-F4BF-41DD-982C-9C775E24C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9BC76-623C-431E-A8AA-C87CD55A7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1B391-F440-41E6-9F09-ECB129816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7F880-56F8-442F-A966-DFB729D9C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AA4C5-5CD2-409E-B7F7-E5CEAAA32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B27DE-E676-4EB1-9DDF-D3763023E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1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93608-CEE7-4B09-8BF7-4F14A2C90188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DSM-V.ppt" TargetMode="External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6.xml"/><Relationship Id="rId7" Type="http://schemas.openxmlformats.org/officeDocument/2006/relationships/slide" Target="slide7.xml"/><Relationship Id="rId8" Type="http://schemas.openxmlformats.org/officeDocument/2006/relationships/slide" Target="slide7.xml"/><Relationship Id="rId9" Type="http://schemas.openxmlformats.org/officeDocument/2006/relationships/slide" Target="slide8.xml"/><Relationship Id="rId10" Type="http://schemas.openxmlformats.org/officeDocument/2006/relationships/slide" Target="slide8.xml"/><Relationship Id="rId11" Type="http://schemas.openxmlformats.org/officeDocument/2006/relationships/image" Target="../media/image1.png"/><Relationship Id="rId12" Type="http://schemas.openxmlformats.org/officeDocument/2006/relationships/slide" Target="slide2.xml"/><Relationship Id="rId13" Type="http://schemas.openxmlformats.org/officeDocument/2006/relationships/image" Target="../media/image2.png"/><Relationship Id="rId1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9 Rectángulo redondeado"/>
          <p:cNvSpPr/>
          <p:nvPr/>
        </p:nvSpPr>
        <p:spPr>
          <a:xfrm>
            <a:off x="642960" y="2214720"/>
            <a:ext cx="8215200" cy="4000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DSM-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857160" y="2500200"/>
            <a:ext cx="785808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Trastorno obsesivo-compulsivo (TOC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Trastorno dismórfico corpor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Trastorno por acumulació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ff"/>
                </a:solidFill>
                <a:uFillTx/>
                <a:latin typeface="Calibri"/>
                <a:hlinkClick r:id="rId5" action="ppaction://hlinksldjump"/>
              </a:rPr>
              <a:t>Tricotilomaní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ff"/>
                </a:solidFill>
                <a:uFillTx/>
                <a:latin typeface="Calibri"/>
                <a:hlinkClick r:id="rId6" action="ppaction://hlinksldjump"/>
              </a:rPr>
              <a:t>Trastorno por excoriació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ff"/>
                </a:solidFill>
                <a:uFillTx/>
                <a:latin typeface="Calibri"/>
                <a:hlinkClick r:id="rId7" action="ppaction://hlinksldjump"/>
              </a:rPr>
              <a:t>TOC inducido por sustancias/medicació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ff"/>
                </a:solidFill>
                <a:uFillTx/>
                <a:latin typeface="Calibri"/>
                <a:hlinkClick r:id="rId8" action="ppaction://hlinksldjump"/>
              </a:rPr>
              <a:t>TOC debido a otra condición médic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ff"/>
                </a:solidFill>
                <a:uFillTx/>
                <a:latin typeface="Calibri"/>
                <a:hlinkClick r:id="rId9" action="ppaction://hlinksldjump"/>
              </a:rPr>
              <a:t>Otro TOC especificad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ff"/>
                </a:solidFill>
                <a:uFillTx/>
                <a:latin typeface="Calibri"/>
                <a:hlinkClick r:id="rId10" action="ppaction://hlinksldjump"/>
              </a:rPr>
              <a:t>TOC no especificad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5E120-8596-4D1E-AC21-0F71A3019075}" type="datetime">
              <a:rPr b="0" lang="es-ES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8 Marcador de pie de página"/>
          <p:cNvSpPr/>
          <p:nvPr/>
        </p:nvSpPr>
        <p:spPr>
          <a:xfrm>
            <a:off x="3124080" y="6356520"/>
            <a:ext cx="551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404040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11 Rectángulo redondeado"/>
          <p:cNvGrpSpPr/>
          <p:nvPr/>
        </p:nvGrpSpPr>
        <p:grpSpPr>
          <a:xfrm>
            <a:off x="1054080" y="676440"/>
            <a:ext cx="4718160" cy="1396800"/>
            <a:chOff x="1054080" y="676440"/>
            <a:chExt cx="4718160" cy="1396800"/>
          </a:xfrm>
        </p:grpSpPr>
        <p:pic>
          <p:nvPicPr>
            <p:cNvPr id="47" name="11 Rectángulo redondeado" descr=""/>
            <p:cNvPicPr/>
            <p:nvPr/>
          </p:nvPicPr>
          <p:blipFill>
            <a:blip r:embed="rId11"/>
            <a:stretch/>
          </p:blipFill>
          <p:spPr>
            <a:xfrm>
              <a:off x="1054080" y="676440"/>
              <a:ext cx="4718160" cy="139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1206360" y="777960"/>
              <a:ext cx="4445280" cy="11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Trastorno obsesivo compulsiv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" name="12 Rectángulo redondeado"/>
          <p:cNvGrpSpPr/>
          <p:nvPr/>
        </p:nvGrpSpPr>
        <p:grpSpPr>
          <a:xfrm>
            <a:off x="5797440" y="1463760"/>
            <a:ext cx="3260880" cy="755640"/>
            <a:chOff x="5797440" y="1463760"/>
            <a:chExt cx="3260880" cy="755640"/>
          </a:xfrm>
        </p:grpSpPr>
        <p:pic>
          <p:nvPicPr>
            <p:cNvPr id="50" name="12 Rectángulo redondeado" descr="">
              <a:hlinkClick r:id="rId12" action="ppaction://hlinksldjump"/>
            </p:cNvPr>
            <p:cNvPicPr/>
            <p:nvPr/>
          </p:nvPicPr>
          <p:blipFill>
            <a:blip r:embed="rId13"/>
            <a:stretch/>
          </p:blipFill>
          <p:spPr>
            <a:xfrm>
              <a:off x="5797440" y="1463760"/>
              <a:ext cx="3260880" cy="7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5889600" y="1531800"/>
              <a:ext cx="30798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Cambios en DSM-V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9 Rectángulo redondeado"/>
          <p:cNvSpPr/>
          <p:nvPr/>
        </p:nvSpPr>
        <p:spPr>
          <a:xfrm>
            <a:off x="642960" y="2214720"/>
            <a:ext cx="8215200" cy="4000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DSM-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857160" y="2500200"/>
            <a:ext cx="785808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040"/>
                </a:solidFill>
                <a:latin typeface="Calibri"/>
              </a:rPr>
              <a:t>ASPECTOS DESTACADO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Deja de considerarse trastorno de ansiedad y tiene entidad propia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Agrupa otros trastornos como dismórfico corporal o tricotilomanía (antes control de impulsos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Nuevos: trastornos por acumulación y trastorno por excoriación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Especificadores: “con pobre insight” o introspección,  “relacionado con tics”, “dismorfia muscular”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571BF-4A33-48A0-80B7-475C2D00D9B6}" type="datetime">
              <a:rPr b="0" lang="es-ES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8 Marcador de pie de página"/>
          <p:cNvSpPr/>
          <p:nvPr/>
        </p:nvSpPr>
        <p:spPr>
          <a:xfrm>
            <a:off x="3124080" y="6356520"/>
            <a:ext cx="551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404040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10 Flecha izquierda"/>
          <p:cNvGrpSpPr/>
          <p:nvPr/>
        </p:nvGrpSpPr>
        <p:grpSpPr>
          <a:xfrm>
            <a:off x="8083440" y="6321600"/>
            <a:ext cx="689040" cy="396720"/>
            <a:chOff x="8083440" y="6321600"/>
            <a:chExt cx="689040" cy="396720"/>
          </a:xfrm>
        </p:grpSpPr>
        <p:pic>
          <p:nvPicPr>
            <p:cNvPr id="58" name="10 Flecha izquierda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8083440" y="6321600"/>
              <a:ext cx="68904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8215200" y="6429240"/>
              <a:ext cx="50004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11 Rectángulo redondeado"/>
          <p:cNvGrpSpPr/>
          <p:nvPr/>
        </p:nvGrpSpPr>
        <p:grpSpPr>
          <a:xfrm>
            <a:off x="1054080" y="676440"/>
            <a:ext cx="4737240" cy="1396800"/>
            <a:chOff x="1054080" y="676440"/>
            <a:chExt cx="4737240" cy="1396800"/>
          </a:xfrm>
        </p:grpSpPr>
        <p:pic>
          <p:nvPicPr>
            <p:cNvPr id="61" name="11 Rectángulo redondeado" descr=""/>
            <p:cNvPicPr/>
            <p:nvPr/>
          </p:nvPicPr>
          <p:blipFill>
            <a:blip r:embed="rId3"/>
            <a:stretch/>
          </p:blipFill>
          <p:spPr>
            <a:xfrm>
              <a:off x="1054080" y="676440"/>
              <a:ext cx="4737240" cy="139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1206360" y="777960"/>
              <a:ext cx="4445280" cy="11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Trastornos obsesivos compulsiv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9 Rectángulo redondeado"/>
          <p:cNvSpPr/>
          <p:nvPr/>
        </p:nvSpPr>
        <p:spPr>
          <a:xfrm>
            <a:off x="642960" y="2214720"/>
            <a:ext cx="8215200" cy="4000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DSM-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857160" y="2500200"/>
            <a:ext cx="785808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040"/>
                </a:solidFill>
                <a:latin typeface="Calibri"/>
              </a:rPr>
              <a:t>TRASTORNO OBSESIVO COMPULSIV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Menos criterios para las obsesiones, elimina obligación que sean producto de su pensamiento. Elimina criterio B (irracionalidad de los síntomas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presencia de obsesiones o compulsiones (2 criterios): pensamiento o impulsos recurrentes que causan ansiedad; intenta ignorar o suprimir los pensamientos; o comportamientos de carácter repetitivo en respuesta a una obsesión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Suponen pérdida de tiempo, más de 1 hora la día o interfieren en la rutina diaria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No se explica mejor por los síntomas de otros trastorno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Especificar: conciencia de la enfermedad  buena o ajustada; poca conciencia de la enfermedad; sin conciencia de la enfermedad; relacionado con tic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85C39-216D-4D07-A4AE-921CD5A67075}" type="datetime">
              <a:rPr b="0" lang="es-ES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8 Marcador de pie de página"/>
          <p:cNvSpPr/>
          <p:nvPr/>
        </p:nvSpPr>
        <p:spPr>
          <a:xfrm>
            <a:off x="3124080" y="6356520"/>
            <a:ext cx="551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404040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10 Flecha izquierda"/>
          <p:cNvGrpSpPr/>
          <p:nvPr/>
        </p:nvGrpSpPr>
        <p:grpSpPr>
          <a:xfrm>
            <a:off x="8083440" y="6321600"/>
            <a:ext cx="689040" cy="396720"/>
            <a:chOff x="8083440" y="6321600"/>
            <a:chExt cx="689040" cy="396720"/>
          </a:xfrm>
        </p:grpSpPr>
        <p:pic>
          <p:nvPicPr>
            <p:cNvPr id="69" name="10 Flecha izquierda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8083440" y="6321600"/>
              <a:ext cx="68904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8215200" y="6429240"/>
              <a:ext cx="50004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11 Rectángulo redondeado"/>
          <p:cNvGrpSpPr/>
          <p:nvPr/>
        </p:nvGrpSpPr>
        <p:grpSpPr>
          <a:xfrm>
            <a:off x="1054080" y="676440"/>
            <a:ext cx="4737240" cy="1396800"/>
            <a:chOff x="1054080" y="676440"/>
            <a:chExt cx="4737240" cy="1396800"/>
          </a:xfrm>
        </p:grpSpPr>
        <p:pic>
          <p:nvPicPr>
            <p:cNvPr id="72" name="11 Rectángulo redondeado" descr=""/>
            <p:cNvPicPr/>
            <p:nvPr/>
          </p:nvPicPr>
          <p:blipFill>
            <a:blip r:embed="rId3"/>
            <a:stretch/>
          </p:blipFill>
          <p:spPr>
            <a:xfrm>
              <a:off x="1054080" y="676440"/>
              <a:ext cx="4737240" cy="139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"/>
            <p:cNvSpPr/>
            <p:nvPr/>
          </p:nvSpPr>
          <p:spPr>
            <a:xfrm>
              <a:off x="1206360" y="777960"/>
              <a:ext cx="4445280" cy="11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Trastornos obsesivos compulsiv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9 Rectángulo redondeado"/>
          <p:cNvSpPr/>
          <p:nvPr/>
        </p:nvSpPr>
        <p:spPr>
          <a:xfrm>
            <a:off x="642960" y="2214720"/>
            <a:ext cx="8215200" cy="4000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DSM-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857160" y="2500200"/>
            <a:ext cx="785808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040"/>
                </a:solidFill>
                <a:latin typeface="Calibri"/>
              </a:rPr>
              <a:t>TRASTORNO DISMÓRFICO CORPOR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Cambio de capítulo (deja trastornos de impulsos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Preocupación con defectos percibidos en la apariencia física que no es observado por otro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Ha realizado comportamientos repetitivos o actos mentales (compararse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No se explica mejor por preocupaciones por el tamaño y la silueta (T. alimentación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Dismorfia muscular: preocupación por insuficiente músculo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Especificar: conciencia de la enfermedad  buena o ajustada; poca conciencia de la enfermedad; sin conciencia de la enfermeda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34B84-7883-448C-9728-880E55F54C10}" type="datetime">
              <a:rPr b="0" lang="es-ES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8 Marcador de pie de página"/>
          <p:cNvSpPr/>
          <p:nvPr/>
        </p:nvSpPr>
        <p:spPr>
          <a:xfrm>
            <a:off x="3124080" y="6356520"/>
            <a:ext cx="551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404040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10 Flecha izquierda"/>
          <p:cNvGrpSpPr/>
          <p:nvPr/>
        </p:nvGrpSpPr>
        <p:grpSpPr>
          <a:xfrm>
            <a:off x="8083440" y="6321600"/>
            <a:ext cx="689040" cy="396720"/>
            <a:chOff x="8083440" y="6321600"/>
            <a:chExt cx="689040" cy="396720"/>
          </a:xfrm>
        </p:grpSpPr>
        <p:pic>
          <p:nvPicPr>
            <p:cNvPr id="80" name="10 Flecha izquierda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8083440" y="6321600"/>
              <a:ext cx="68904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"/>
            <p:cNvSpPr/>
            <p:nvPr/>
          </p:nvSpPr>
          <p:spPr>
            <a:xfrm>
              <a:off x="8215200" y="6429240"/>
              <a:ext cx="50004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11 Rectángulo redondeado"/>
          <p:cNvGrpSpPr/>
          <p:nvPr/>
        </p:nvGrpSpPr>
        <p:grpSpPr>
          <a:xfrm>
            <a:off x="1054080" y="676440"/>
            <a:ext cx="4737240" cy="1396800"/>
            <a:chOff x="1054080" y="676440"/>
            <a:chExt cx="4737240" cy="1396800"/>
          </a:xfrm>
        </p:grpSpPr>
        <p:pic>
          <p:nvPicPr>
            <p:cNvPr id="83" name="11 Rectángulo redondeado" descr=""/>
            <p:cNvPicPr/>
            <p:nvPr/>
          </p:nvPicPr>
          <p:blipFill>
            <a:blip r:embed="rId3"/>
            <a:stretch/>
          </p:blipFill>
          <p:spPr>
            <a:xfrm>
              <a:off x="1054080" y="676440"/>
              <a:ext cx="4737240" cy="139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"/>
            <p:cNvSpPr/>
            <p:nvPr/>
          </p:nvSpPr>
          <p:spPr>
            <a:xfrm>
              <a:off x="1206360" y="777960"/>
              <a:ext cx="4445280" cy="11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Trastornos obsesivos compulsiv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9 Rectángulo redondeado"/>
          <p:cNvSpPr/>
          <p:nvPr/>
        </p:nvSpPr>
        <p:spPr>
          <a:xfrm>
            <a:off x="642960" y="2214720"/>
            <a:ext cx="8215200" cy="4000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DSM-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857160" y="2500200"/>
            <a:ext cx="785808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040"/>
                </a:solidFill>
                <a:latin typeface="Calibri"/>
              </a:rPr>
              <a:t>TRASTORNO POR ACUMULACIÓ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Dificultad persistente a deshacerse de las posesiones (necesidad de guardar los objetos) y le produce malestar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Desorden o congestión de la vivienda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No atribuible a otra condición médic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Especificar: conciencia de la enfermedad  buena o ajustada; poca conciencia de la enfermedad; sin conciencia de la enfermedad; adquisición excesiva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2B96C-C3A6-4820-8C80-CBC3130E992A}" type="datetime">
              <a:rPr b="0" lang="es-ES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8 Marcador de pie de página"/>
          <p:cNvSpPr/>
          <p:nvPr/>
        </p:nvSpPr>
        <p:spPr>
          <a:xfrm>
            <a:off x="3124080" y="6356520"/>
            <a:ext cx="551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404040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10 Flecha izquierda"/>
          <p:cNvGrpSpPr/>
          <p:nvPr/>
        </p:nvGrpSpPr>
        <p:grpSpPr>
          <a:xfrm>
            <a:off x="8083440" y="6321600"/>
            <a:ext cx="689040" cy="396720"/>
            <a:chOff x="8083440" y="6321600"/>
            <a:chExt cx="689040" cy="396720"/>
          </a:xfrm>
        </p:grpSpPr>
        <p:pic>
          <p:nvPicPr>
            <p:cNvPr id="91" name="10 Flecha izquierda" descr=""/>
            <p:cNvPicPr/>
            <p:nvPr/>
          </p:nvPicPr>
          <p:blipFill>
            <a:blip r:embed="rId1"/>
            <a:stretch/>
          </p:blipFill>
          <p:spPr>
            <a:xfrm>
              <a:off x="8083440" y="6321600"/>
              <a:ext cx="68904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8215200" y="6429240"/>
              <a:ext cx="50004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11 Rectángulo redondeado"/>
          <p:cNvGrpSpPr/>
          <p:nvPr/>
        </p:nvGrpSpPr>
        <p:grpSpPr>
          <a:xfrm>
            <a:off x="1054080" y="676440"/>
            <a:ext cx="4737240" cy="1396800"/>
            <a:chOff x="1054080" y="676440"/>
            <a:chExt cx="4737240" cy="1396800"/>
          </a:xfrm>
        </p:grpSpPr>
        <p:pic>
          <p:nvPicPr>
            <p:cNvPr id="94" name="11 Rectángulo redondeado" descr=""/>
            <p:cNvPicPr/>
            <p:nvPr/>
          </p:nvPicPr>
          <p:blipFill>
            <a:blip r:embed="rId2"/>
            <a:stretch/>
          </p:blipFill>
          <p:spPr>
            <a:xfrm>
              <a:off x="1054080" y="676440"/>
              <a:ext cx="4737240" cy="139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/>
            <p:nvPr/>
          </p:nvSpPr>
          <p:spPr>
            <a:xfrm>
              <a:off x="1206360" y="777960"/>
              <a:ext cx="4445280" cy="11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Trastornos obsesivos compulsiv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9 Rectángulo redondeado"/>
          <p:cNvSpPr/>
          <p:nvPr/>
        </p:nvSpPr>
        <p:spPr>
          <a:xfrm>
            <a:off x="642960" y="2214720"/>
            <a:ext cx="8215200" cy="4000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DSM-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857160" y="2500200"/>
            <a:ext cx="785808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040"/>
                </a:solidFill>
                <a:latin typeface="Calibri"/>
              </a:rPr>
              <a:t>TRICOTILOMANÍ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No hay cambios significativos en los criterios (arrancamiento de cabello con pérdida perceptible), salvo la eliminación de la tensión/alivio al llevarlo a cabo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040"/>
                </a:solidFill>
                <a:latin typeface="Calibri"/>
              </a:rPr>
              <a:t>TRASTORNO POR EXCORIACIÓN (RASCADO / ARRANCAMIENTO DE LA PIEL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- Rascado o arrancamiento que provoca lesiones cutáneas, con intentos de disminuir o parar el rascado, ocupando gran cantidad de su tiempo, con deterioro social, con comportamientos o rituales asociado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1F54D-2CDC-4B00-AA6F-E8FE94177AC2}" type="datetime">
              <a:rPr b="0" lang="es-ES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8 Marcador de pie de página"/>
          <p:cNvSpPr/>
          <p:nvPr/>
        </p:nvSpPr>
        <p:spPr>
          <a:xfrm>
            <a:off x="3124080" y="6356520"/>
            <a:ext cx="551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404040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10 Flecha izquierda"/>
          <p:cNvGrpSpPr/>
          <p:nvPr/>
        </p:nvGrpSpPr>
        <p:grpSpPr>
          <a:xfrm>
            <a:off x="8083440" y="6321600"/>
            <a:ext cx="689040" cy="396720"/>
            <a:chOff x="8083440" y="6321600"/>
            <a:chExt cx="689040" cy="396720"/>
          </a:xfrm>
        </p:grpSpPr>
        <p:pic>
          <p:nvPicPr>
            <p:cNvPr id="102" name="10 Flecha izquierda" descr=""/>
            <p:cNvPicPr/>
            <p:nvPr/>
          </p:nvPicPr>
          <p:blipFill>
            <a:blip r:embed="rId1"/>
            <a:stretch/>
          </p:blipFill>
          <p:spPr>
            <a:xfrm>
              <a:off x="8083440" y="6321600"/>
              <a:ext cx="68904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8215200" y="6429240"/>
              <a:ext cx="50004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11 Rectángulo redondeado"/>
          <p:cNvGrpSpPr/>
          <p:nvPr/>
        </p:nvGrpSpPr>
        <p:grpSpPr>
          <a:xfrm>
            <a:off x="1054080" y="676440"/>
            <a:ext cx="4737240" cy="1396800"/>
            <a:chOff x="1054080" y="676440"/>
            <a:chExt cx="4737240" cy="1396800"/>
          </a:xfrm>
        </p:grpSpPr>
        <p:pic>
          <p:nvPicPr>
            <p:cNvPr id="105" name="11 Rectángulo redondeado" descr=""/>
            <p:cNvPicPr/>
            <p:nvPr/>
          </p:nvPicPr>
          <p:blipFill>
            <a:blip r:embed="rId2"/>
            <a:stretch/>
          </p:blipFill>
          <p:spPr>
            <a:xfrm>
              <a:off x="1054080" y="676440"/>
              <a:ext cx="4737240" cy="139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1206360" y="777960"/>
              <a:ext cx="4445280" cy="11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Trastornos obsesivos compulsiv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9 Rectángulo redondeado"/>
          <p:cNvSpPr/>
          <p:nvPr/>
        </p:nvSpPr>
        <p:spPr>
          <a:xfrm>
            <a:off x="642960" y="2214720"/>
            <a:ext cx="8215200" cy="4000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DSM-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857160" y="2499840"/>
            <a:ext cx="7858080" cy="36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040"/>
                </a:solidFill>
                <a:latin typeface="Calibri"/>
              </a:rPr>
              <a:t>TOC INDUCIDO POR MEDICACIÓN/SUSTANCI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Obsesiones, compulsiones, rascado, arrancamiento de piel o cabello, característicos de TOC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Consecuencia fisiológica de intoxicación por sustancias, abstinencia o medicación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No aparece en transcurso de delirium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040"/>
                </a:solidFill>
                <a:latin typeface="Calibri"/>
              </a:rPr>
              <a:t>TRASTORNO DEPRESIVO DEBIDO A OTRA CONDICIÓN MÉDIC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Obsesiones, compulsiones, rascado, arrancamiento de piel o cabello, característicos de TOC.  Consecuencia fisiológica de una enfermedad médica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No aparece en transcurso de delirium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Especificar: síntomas similares a TOC, rumiaciones sobre la apariencia, síntomas de acumulación, arrancamiento o rascado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33A3E-A222-4F60-878D-E96DCF92D44F}" type="datetime">
              <a:rPr b="0" lang="es-ES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8 Marcador de pie de página"/>
          <p:cNvSpPr/>
          <p:nvPr/>
        </p:nvSpPr>
        <p:spPr>
          <a:xfrm>
            <a:off x="3124080" y="6356520"/>
            <a:ext cx="551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404040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10 Flecha izquierda"/>
          <p:cNvGrpSpPr/>
          <p:nvPr/>
        </p:nvGrpSpPr>
        <p:grpSpPr>
          <a:xfrm>
            <a:off x="8083440" y="6321600"/>
            <a:ext cx="689040" cy="396720"/>
            <a:chOff x="8083440" y="6321600"/>
            <a:chExt cx="689040" cy="396720"/>
          </a:xfrm>
        </p:grpSpPr>
        <p:pic>
          <p:nvPicPr>
            <p:cNvPr id="113" name="10 Flecha izquierda" descr=""/>
            <p:cNvPicPr/>
            <p:nvPr/>
          </p:nvPicPr>
          <p:blipFill>
            <a:blip r:embed="rId1"/>
            <a:stretch/>
          </p:blipFill>
          <p:spPr>
            <a:xfrm>
              <a:off x="8083440" y="6321600"/>
              <a:ext cx="68904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8215200" y="6429240"/>
              <a:ext cx="50004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11 Rectángulo redondeado"/>
          <p:cNvGrpSpPr/>
          <p:nvPr/>
        </p:nvGrpSpPr>
        <p:grpSpPr>
          <a:xfrm>
            <a:off x="1054080" y="676440"/>
            <a:ext cx="4737240" cy="1396800"/>
            <a:chOff x="1054080" y="676440"/>
            <a:chExt cx="4737240" cy="1396800"/>
          </a:xfrm>
        </p:grpSpPr>
        <p:pic>
          <p:nvPicPr>
            <p:cNvPr id="116" name="11 Rectángulo redondeado" descr=""/>
            <p:cNvPicPr/>
            <p:nvPr/>
          </p:nvPicPr>
          <p:blipFill>
            <a:blip r:embed="rId2"/>
            <a:stretch/>
          </p:blipFill>
          <p:spPr>
            <a:xfrm>
              <a:off x="1054080" y="676440"/>
              <a:ext cx="4737240" cy="139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1206360" y="777960"/>
              <a:ext cx="4445280" cy="11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Trastornos obsesivos compulsiv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9 Rectángulo redondeado"/>
          <p:cNvSpPr/>
          <p:nvPr/>
        </p:nvSpPr>
        <p:spPr>
          <a:xfrm>
            <a:off x="642960" y="2214720"/>
            <a:ext cx="8215200" cy="4000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DSM-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857160" y="2500200"/>
            <a:ext cx="785808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040"/>
                </a:solidFill>
                <a:latin typeface="Calibri"/>
              </a:rPr>
              <a:t>OTRO TOC ESPECIFIC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Nueva categoría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No cumple todos los criterios de alguna de las categorías precedente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040"/>
                </a:solidFill>
                <a:latin typeface="Calibri"/>
              </a:rPr>
              <a:t>TOC NO ESPECIFICAD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040"/>
                </a:solidFill>
                <a:latin typeface="Calibri"/>
              </a:rPr>
              <a:t>- </a:t>
            </a: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Cuando no hay suficiente información para diagnóstico más específico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A6223-8601-4222-AE83-9F671BF1421C}" type="datetime">
              <a:rPr b="0" lang="es-ES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8 Marcador de pie de página"/>
          <p:cNvSpPr/>
          <p:nvPr/>
        </p:nvSpPr>
        <p:spPr>
          <a:xfrm>
            <a:off x="3124080" y="6356520"/>
            <a:ext cx="551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404040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10 Flecha izquierda"/>
          <p:cNvGrpSpPr/>
          <p:nvPr/>
        </p:nvGrpSpPr>
        <p:grpSpPr>
          <a:xfrm>
            <a:off x="8083440" y="6321600"/>
            <a:ext cx="689040" cy="396720"/>
            <a:chOff x="8083440" y="6321600"/>
            <a:chExt cx="689040" cy="396720"/>
          </a:xfrm>
        </p:grpSpPr>
        <p:pic>
          <p:nvPicPr>
            <p:cNvPr id="124" name="10 Flecha izquierda" descr=""/>
            <p:cNvPicPr/>
            <p:nvPr/>
          </p:nvPicPr>
          <p:blipFill>
            <a:blip r:embed="rId1"/>
            <a:stretch/>
          </p:blipFill>
          <p:spPr>
            <a:xfrm>
              <a:off x="8083440" y="6321600"/>
              <a:ext cx="68904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"/>
            <p:cNvSpPr/>
            <p:nvPr/>
          </p:nvSpPr>
          <p:spPr>
            <a:xfrm>
              <a:off x="8215200" y="6429240"/>
              <a:ext cx="50004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11 Rectángulo redondeado"/>
          <p:cNvGrpSpPr/>
          <p:nvPr/>
        </p:nvGrpSpPr>
        <p:grpSpPr>
          <a:xfrm>
            <a:off x="1054080" y="676440"/>
            <a:ext cx="4737240" cy="1396800"/>
            <a:chOff x="1054080" y="676440"/>
            <a:chExt cx="4737240" cy="1396800"/>
          </a:xfrm>
        </p:grpSpPr>
        <p:pic>
          <p:nvPicPr>
            <p:cNvPr id="127" name="11 Rectángulo redondeado" descr=""/>
            <p:cNvPicPr/>
            <p:nvPr/>
          </p:nvPicPr>
          <p:blipFill>
            <a:blip r:embed="rId2"/>
            <a:stretch/>
          </p:blipFill>
          <p:spPr>
            <a:xfrm>
              <a:off x="1054080" y="676440"/>
              <a:ext cx="4737240" cy="139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"/>
            <p:cNvSpPr/>
            <p:nvPr/>
          </p:nvSpPr>
          <p:spPr>
            <a:xfrm>
              <a:off x="1206360" y="777960"/>
              <a:ext cx="4445280" cy="11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Trastornos obsesivos compulsiv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2:52:41Z</dcterms:created>
  <dc:creator>USUARIO</dc:creator>
  <dc:description/>
  <dc:language>en-US</dc:language>
  <cp:lastModifiedBy>USUARIO</cp:lastModifiedBy>
  <dcterms:modified xsi:type="dcterms:W3CDTF">2014-06-02T07:42:12Z</dcterms:modified>
  <cp:revision>20</cp:revision>
  <dc:subject/>
  <dc:title>DSM-V</dc:title>
</cp:coreProperties>
</file>