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6AC-3C3D-461C-98FA-842F43E6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9B0-B8B3-4ABC-80F2-D369B37E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E70-4E86-44EE-920B-CDFDA9E0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ADB-406F-4013-B96E-87C30647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032-F019-4A6D-A29E-71D3EE0F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88C-5033-4DC3-AE6A-7723299A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0EB-CAA8-47EB-AE80-4264304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C80-528F-4DCB-BF6E-B0950E0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57D-F6A3-4AEC-A0CF-0CFED36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077-B15D-4EC0-97FA-1217F5FB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A56-069C-4604-BB37-C49EEDB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225-2933-4F1F-B5C5-72DAE420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656F-E5B5-48A5-B5EF-CF12A9F96EF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image" Target="../media/image1.png"/><Relationship Id="rId14" Type="http://schemas.openxmlformats.org/officeDocument/2006/relationships/slide" Target="slide2.xm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ansiedad por sepa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Mutismo sel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Fobia específ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ansiedad social (fobia so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 pán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Agorafo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de ansiedad generaliz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 ansiedad inducido por sustancias/medicam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rastorno de ansiedad debido a otra afección mé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Otro trastorno de ansiedad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Trastorno de ansiedad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D087-F816-4553-B77B-C5E6126A68D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 ANSIEDAD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limitados, no ansiedad generalizada que ocurre menos días, ataques de viento, ataque de nerv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2259-8494-41C1-ABAB-FE6D45BF6B1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4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2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trastorno TOC (nuevo capítulo), de estrés postraumático y trastorno de estrés y se mueven a otros capítulos específ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en criterios para fobia específica  (duración 6 meses, reconocer que la ansiedad es excesiva para mayores de 18 años) y trastorno de ansiedad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son un especif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pánico y agorafobia se diagnostíian por sepa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incluyen el mutismo selectivo y el trastorno de ansiedad por separ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4010-0814-4EE6-BF38-CEAFC63B482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POR SEPA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 criterio de inicio antes de los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nsiedad excesiva por separación del hogar o de las personas vinculadas: malestar, preocupación excesiva, negativa a salir, miedo a estar solo, pesadillas, quejas de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4 semanas en niños y 6 o más en adul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8523-0AFB-4CE4-9F61-0AA0CCC155D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MUTISMO SEL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 respecto a DSM-IV-TR (5 criterios) referidos al fracaso a hablar en situaciones sociales, interfiere en el rendimiento social, al menos 1 mes, no debido a falta de lenguaje y otro trastorno de la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927B-DD26-4281-8BC4-32381D8B651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FOBIA ESPECÍF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ustanciales, pero desaparece la irracionalidad del miedo (no debe reconocers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temporal para todas las edades: 6 me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 Temor acusado o ansiedad hacia objeto o situación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animal, ambiental, sangre-inyecciones, situacional u otros tip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0462-F811-432C-96EA-7EAF7C70135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ismo contenido que en DSM-IV-TR, con criterios un poco más extens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iguales a los de fobia específica: Criterio temporal para todas las edades: 6 meses; y criterios:  Temor acusado o ansiedad hacia situación social , con miedo a ser evaluados negativamente, y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400-8D98-4EEE-AA7F-148046F6531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PÁ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inesperados y recidivantes / recurrentes. Aparición súbita de miedo o malestar intenso, con al menos cuatro de los trece síntomas (palpitaciones, sudoración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crisis han durado al menos una vez un mes, con 1 síntoma de inquietud persistente o cambio significativo de comporta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sustancias o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ener en cuenta síntomas específicos cultur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 de ataque de angustia (no es un trastorno mental), y puede aparecer durante el transcurso de otros trastorno mentales. Trec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007-FDEB-4498-851D-BDF85F5DD5E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GORAFO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situaciones agorafóbicas deben ser dos ( 5 posibles), independiente del trastorno de pánico, pudiendo codificar ambos al mismo tiem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de evitación o temor a las situaciones, creencia de dificultad para escapar de e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GENE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mantienen los criterios, solo cambia criterio de duración: 6 meses, en los que ocurre más días que no los criterios (3 o má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BB0-31B6-4B1E-8C55-67EE6346235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SIEDAD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367-0080-47C4-BE48-906F0F6C31A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1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3:19:51Z</dcterms:modified>
  <cp:revision>35</cp:revision>
  <dc:subject/>
  <dc:title>Diapositiva 1</dc:title>
</cp:coreProperties>
</file>