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E12B89D-1C73-40C9-B56D-01AF4D9B1C6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C144B8A-F270-4DC8-AA74-E703D652179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arcador de número de diapositiva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7478387-19C4-482D-9442-902019489CE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245F7BB-EDC9-4E11-ABAF-BA0298DFCBF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A61E63D-2236-4786-B952-C9111F1AD04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renovation with Passive House techniques this will change dra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t losses of all kinds are very much reduced, interior surface temperatures are thus even and high. Airtightness is increased, eliminating draughts. Fresh air is delivered by a ventil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ollowing slides will illustrate what steps are required and how they are a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3492360" y="6453360"/>
            <a:ext cx="5327640" cy="272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NOMBRE DEL COLEGIO - FECHA          </a:t>
            </a:r>
            <a:fld id="{2BA9D477-B20A-4095-A29A-70AFE9AF4AE0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3"/>
          <p:cNvSpPr/>
          <p:nvPr/>
        </p:nvSpPr>
        <p:spPr>
          <a:xfrm>
            <a:off x="325440" y="198360"/>
            <a:ext cx="5759280" cy="277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IVIR MEJOR CON MENOS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5" descr="logo SEE 021"/>
          <p:cNvPicPr/>
          <p:nvPr/>
        </p:nvPicPr>
        <p:blipFill>
          <a:blip r:embed="rId2"/>
          <a:stretch/>
        </p:blipFill>
        <p:spPr>
          <a:xfrm>
            <a:off x="6516720" y="44280"/>
            <a:ext cx="2627280" cy="505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C:\Documents and Settings\Germantxo\Escritorio\Dibujo1 A-1 (1) copia.png"/>
          <p:cNvPicPr/>
          <p:nvPr/>
        </p:nvPicPr>
        <p:blipFill>
          <a:blip r:embed="rId3"/>
          <a:stretch/>
        </p:blipFill>
        <p:spPr>
          <a:xfrm>
            <a:off x="250920" y="5732640"/>
            <a:ext cx="1985760" cy="104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youtu.be/c5SEHz3Y6q8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s://www.google.es/url?sa=i&amp;rct=j&amp;q=&amp;esrc=s&amp;source=imgres&amp;cd=&amp;cad=rja&amp;uact=8&amp;ved=0ahUKEwjOlZ2a_L7PAhWHCcAKHaiPCx4QjRwIBw&amp;url=https%3A%2F%2Fes.dreamstime.com%2Fphotos-images%2Fcubo.html&amp;psig=AFQjCNGET3nQtQRYJg3Q_qTNcLrZ3YsZ4g&amp;ust=147559562531640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1"/>
          <p:cNvSpPr/>
          <p:nvPr/>
        </p:nvSpPr>
        <p:spPr>
          <a:xfrm>
            <a:off x="5497560" y="3932280"/>
            <a:ext cx="3240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MBRE DEL PROFE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www.plataforma-pe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5" descr="SEEB Madrid inverso"/>
          <p:cNvPicPr/>
          <p:nvPr/>
        </p:nvPicPr>
        <p:blipFill>
          <a:blip r:embed="rId1"/>
          <a:stretch/>
        </p:blipFill>
        <p:spPr>
          <a:xfrm>
            <a:off x="468360" y="765000"/>
            <a:ext cx="4343400" cy="492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720" y="1844280"/>
            <a:ext cx="44640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VIR MEJOR CON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NOS  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7854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CIAS POR VUESTRA ATENCIÓN Y VUESTR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caracol-slow-marketing"/>
          <p:cNvPicPr/>
          <p:nvPr/>
        </p:nvPicPr>
        <p:blipFill>
          <a:blip r:embed="rId1"/>
          <a:stretch/>
        </p:blipFill>
        <p:spPr>
          <a:xfrm>
            <a:off x="900000" y="2349360"/>
            <a:ext cx="396108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5497560" y="3357720"/>
            <a:ext cx="3240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MBRE DEL PROFE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plataforma-pe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5508720" y="5014800"/>
            <a:ext cx="324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 ULTIMÁTUM EVOL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-TARZAN"/>
          <p:cNvPicPr/>
          <p:nvPr/>
        </p:nvPicPr>
        <p:blipFill>
          <a:blip r:embed="rId1"/>
          <a:stretch/>
        </p:blipFill>
        <p:spPr>
          <a:xfrm>
            <a:off x="1619280" y="1484280"/>
            <a:ext cx="6078600" cy="431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79280" y="4842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OSTEN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25360" y="1015920"/>
            <a:ext cx="59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crecimien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g_art_decrecimiento_blog"/>
          <p:cNvPicPr/>
          <p:nvPr/>
        </p:nvPicPr>
        <p:blipFill>
          <a:blip r:embed="rId1"/>
          <a:stretch/>
        </p:blipFill>
        <p:spPr>
          <a:xfrm>
            <a:off x="1403280" y="1919160"/>
            <a:ext cx="6481800" cy="3670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9280" y="4842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OSTEN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radiador03"/>
          <p:cNvPicPr/>
          <p:nvPr/>
        </p:nvPicPr>
        <p:blipFill>
          <a:blip r:embed="rId1"/>
          <a:stretch/>
        </p:blipFill>
        <p:spPr>
          <a:xfrm>
            <a:off x="1619280" y="1447920"/>
            <a:ext cx="5832360" cy="486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dificio de consumo de energía casi nulo -nZ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950160" y="5962680"/>
            <a:ext cx="17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I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por dónde se va el ca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uga de calor"/>
          <p:cNvPicPr/>
          <p:nvPr/>
        </p:nvPicPr>
        <p:blipFill>
          <a:blip r:embed="rId1"/>
          <a:stretch/>
        </p:blipFill>
        <p:spPr>
          <a:xfrm>
            <a:off x="324000" y="2568600"/>
            <a:ext cx="2800080" cy="287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orrientes de aire"/>
          <p:cNvPicPr/>
          <p:nvPr/>
        </p:nvPicPr>
        <p:blipFill>
          <a:blip r:embed="rId2"/>
          <a:stretch/>
        </p:blipFill>
        <p:spPr>
          <a:xfrm>
            <a:off x="3494160" y="2479680"/>
            <a:ext cx="2590560" cy="2820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umidero"/>
          <p:cNvPicPr/>
          <p:nvPr/>
        </p:nvPicPr>
        <p:blipFill>
          <a:blip r:embed="rId3"/>
          <a:stretch/>
        </p:blipFill>
        <p:spPr>
          <a:xfrm>
            <a:off x="6380280" y="2492280"/>
            <a:ext cx="2763720" cy="2811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468360" y="19162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paredes y vent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348000" y="19162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infiltraciones de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516720" y="19162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el sumi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Resultado de image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61160" y="584280"/>
            <a:ext cx="1887480" cy="1260360"/>
          </a:xfrm>
          <a:prstGeom prst="rect">
            <a:avLst/>
          </a:prstGeom>
          <a:ln w="0">
            <a:noFill/>
          </a:ln>
        </p:spPr>
      </p:pic>
      <p:sp>
        <p:nvSpPr>
          <p:cNvPr id="68" name="1 CuadroTexto"/>
          <p:cNvSpPr/>
          <p:nvPr/>
        </p:nvSpPr>
        <p:spPr>
          <a:xfrm>
            <a:off x="8172360" y="932040"/>
            <a:ext cx="863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www.dreamstime.co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5360" y="1015920"/>
            <a:ext cx="59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render a ver el c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8"/>
          <p:cNvGraphicFramePr/>
          <p:nvPr/>
        </p:nvGraphicFramePr>
        <p:xfrm>
          <a:off x="1979640" y="1557360"/>
          <a:ext cx="590544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90544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1522440" y="1557360"/>
            <a:ext cx="6002280" cy="4032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quema básico nZ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Familia"/>
          <p:cNvPicPr/>
          <p:nvPr/>
        </p:nvPicPr>
        <p:blipFill>
          <a:blip r:embed="rId2"/>
          <a:stretch/>
        </p:blipFill>
        <p:spPr>
          <a:xfrm>
            <a:off x="7093080" y="3500280"/>
            <a:ext cx="1573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Grafik 5" descr="03.jpg"/>
          <p:cNvPicPr/>
          <p:nvPr/>
        </p:nvPicPr>
        <p:blipFill>
          <a:blip r:embed="rId1"/>
          <a:stretch/>
        </p:blipFill>
        <p:spPr>
          <a:xfrm>
            <a:off x="4241880" y="3921120"/>
            <a:ext cx="3357360" cy="2263680"/>
          </a:xfrm>
          <a:prstGeom prst="rect">
            <a:avLst/>
          </a:prstGeom>
          <a:ln w="0">
            <a:noFill/>
          </a:ln>
        </p:spPr>
      </p:pic>
      <p:pic>
        <p:nvPicPr>
          <p:cNvPr id="78" name="Grafik 7" descr="02.jpg"/>
          <p:cNvPicPr/>
          <p:nvPr/>
        </p:nvPicPr>
        <p:blipFill>
          <a:blip r:embed="rId2"/>
          <a:stretch/>
        </p:blipFill>
        <p:spPr>
          <a:xfrm>
            <a:off x="652320" y="3933720"/>
            <a:ext cx="3414960" cy="230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asas01"/>
          <p:cNvPicPr/>
          <p:nvPr/>
        </p:nvPicPr>
        <p:blipFill>
          <a:blip r:embed="rId3"/>
          <a:stretch/>
        </p:blipFill>
        <p:spPr>
          <a:xfrm>
            <a:off x="611280" y="1430280"/>
            <a:ext cx="3240000" cy="228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asas02"/>
          <p:cNvPicPr/>
          <p:nvPr/>
        </p:nvPicPr>
        <p:blipFill>
          <a:blip r:embed="rId4"/>
          <a:stretch/>
        </p:blipFill>
        <p:spPr>
          <a:xfrm>
            <a:off x="4067280" y="1436760"/>
            <a:ext cx="3531960" cy="2308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7093080" y="5950080"/>
            <a:ext cx="17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I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 ejemplo, por 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881680" y="6107040"/>
            <a:ext cx="25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nte: AR&amp;T Archi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omparacion distintas formas de diseño"/>
          <p:cNvPicPr/>
          <p:nvPr/>
        </p:nvPicPr>
        <p:blipFill>
          <a:blip r:embed="rId1"/>
          <a:stretch/>
        </p:blipFill>
        <p:spPr>
          <a:xfrm>
            <a:off x="982800" y="1447920"/>
            <a:ext cx="7334280" cy="4603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CUÁL ES EL CAMI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5360" y="1015920"/>
            <a:ext cx="59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ltura energ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23:11Z</dcterms:created>
  <dc:creator>Jesus</dc:creator>
  <dc:description/>
  <dc:language>en-US</dc:language>
  <cp:lastModifiedBy>BRUNO</cp:lastModifiedBy>
  <cp:lastPrinted>2016-01-28T21:05:29Z</cp:lastPrinted>
  <dcterms:modified xsi:type="dcterms:W3CDTF">2018-04-24T17:47:17Z</dcterms:modified>
  <cp:revision>302</cp:revision>
  <dc:subject/>
  <dc:title>Diapositiva 1</dc:title>
</cp:coreProperties>
</file>