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E4D3-7C77-471A-A374-272CB4E8B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CDC9-DADE-4509-80CF-3DFFB5CA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AD1A-1AF5-45BF-A4B0-33ADBC42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5970-5C9E-45E3-B985-63E75A440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F0A5-ECE0-4736-A666-F2B6EE50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760C-8DF6-4A07-84CA-2B674867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949A-34EB-4170-A9D5-4AEF4D7F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2079-384B-42D5-9C0A-ECF74FB1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5DD5-DC96-42AF-AB46-A83B4DA6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D72B-8E34-4628-BD98-B3522AFE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6B59-ACFB-457B-8ADC-C024F64C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51A6-5048-47AE-9373-A08C64D5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BEE3-3705-46E8-8C8B-4F511D28F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71640" y="549360"/>
            <a:ext cx="7848360" cy="5075280"/>
            <a:chOff x="971640" y="549360"/>
            <a:chExt cx="7848360" cy="507528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3276720" y="3213000"/>
              <a:ext cx="2665440" cy="2411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3" name=""/>
            <p:cNvSpPr/>
            <p:nvPr/>
          </p:nvSpPr>
          <p:spPr>
            <a:xfrm>
              <a:off x="971640" y="1628640"/>
              <a:ext cx="7848360" cy="9352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99"/>
                  </a:solidFill>
                  <a:latin typeface="Arial"/>
                </a:rPr>
                <a:t>PLAN DE INTEGRACIÓN DE LAS TIC EN EL CENTR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71640" y="549360"/>
              <a:ext cx="7848360" cy="9349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Arial"/>
                </a:rPr>
                <a:t>ORIENTACIONES PARA LA ELABORACIÓN DE UN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755640" y="333360"/>
            <a:ext cx="6769080" cy="5400720"/>
            <a:chOff x="755640" y="333360"/>
            <a:chExt cx="6769080" cy="5400720"/>
          </a:xfrm>
        </p:grpSpPr>
        <p:sp>
          <p:nvSpPr>
            <p:cNvPr id="174" name="99 Rectángulo redondeado"/>
            <p:cNvSpPr/>
            <p:nvPr/>
          </p:nvSpPr>
          <p:spPr>
            <a:xfrm>
              <a:off x="755640" y="333360"/>
              <a:ext cx="3166920" cy="608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2.- INFRAESTRUCTURAS Y EQUIP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100 Rectángulo redondeado"/>
            <p:cNvSpPr/>
            <p:nvPr/>
          </p:nvSpPr>
          <p:spPr>
            <a:xfrm>
              <a:off x="1260360" y="1557360"/>
              <a:ext cx="2736720" cy="650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2.1.- Servicios de Intern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101 Rectángulo redondeado"/>
            <p:cNvSpPr/>
            <p:nvPr/>
          </p:nvSpPr>
          <p:spPr>
            <a:xfrm>
              <a:off x="4572000" y="981000"/>
              <a:ext cx="2881080" cy="4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riterios de uso y acceso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102 Rectángulo redondeado"/>
            <p:cNvSpPr/>
            <p:nvPr/>
          </p:nvSpPr>
          <p:spPr>
            <a:xfrm>
              <a:off x="4572000" y="1557360"/>
              <a:ext cx="2881080" cy="48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Inventario de servicios : Hosting, sites, redes sociales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103 Rectángulo redondeado"/>
            <p:cNvSpPr/>
            <p:nvPr/>
          </p:nvSpPr>
          <p:spPr>
            <a:xfrm>
              <a:off x="4572000" y="2206800"/>
              <a:ext cx="295272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efinición de Riesgos y Medid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104 Rectángulo redondeado"/>
            <p:cNvSpPr/>
            <p:nvPr/>
          </p:nvSpPr>
          <p:spPr>
            <a:xfrm>
              <a:off x="1331640" y="3933720"/>
              <a:ext cx="2664000" cy="648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2.2.- Red de Cent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105 Rectángulo redondeado"/>
            <p:cNvSpPr/>
            <p:nvPr/>
          </p:nvSpPr>
          <p:spPr>
            <a:xfrm>
              <a:off x="4572000" y="3070440"/>
              <a:ext cx="2952720" cy="41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escripción estructu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106 Rectángulo redondeado"/>
            <p:cNvSpPr/>
            <p:nvPr/>
          </p:nvSpPr>
          <p:spPr>
            <a:xfrm>
              <a:off x="4572000" y="3573360"/>
              <a:ext cx="2952720" cy="43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ventario y registro de elemen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107 Rectángulo redondeado"/>
            <p:cNvSpPr/>
            <p:nvPr/>
          </p:nvSpPr>
          <p:spPr>
            <a:xfrm>
              <a:off x="4572000" y="4149720"/>
              <a:ext cx="2952720" cy="43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Datos Tecnológicos: Router, Switch, puntos de acce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108 Rectángulo redondeado"/>
            <p:cNvSpPr/>
            <p:nvPr/>
          </p:nvSpPr>
          <p:spPr>
            <a:xfrm>
              <a:off x="4572000" y="4726080"/>
              <a:ext cx="295272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riterios de uso y acceso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109 Rectángulo redondeado"/>
            <p:cNvSpPr/>
            <p:nvPr/>
          </p:nvSpPr>
          <p:spPr>
            <a:xfrm>
              <a:off x="4572000" y="5230800"/>
              <a:ext cx="2952720" cy="433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efinición de Riesgos y Medid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84720" y="981000"/>
              <a:ext cx="71280" cy="180036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46800 h 1800360"/>
                <a:gd name="textAreaBottom" fmla="*/ 1753560 h 18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84720" y="2997360"/>
              <a:ext cx="71280" cy="273672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71280 h 2736720"/>
                <a:gd name="textAreaBottom" fmla="*/ 2665440 h 27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250920" y="260280"/>
            <a:ext cx="8713800" cy="6421680"/>
            <a:chOff x="250920" y="260280"/>
            <a:chExt cx="8713800" cy="6421680"/>
          </a:xfrm>
        </p:grpSpPr>
        <p:sp>
          <p:nvSpPr>
            <p:cNvPr id="188" name="99 Rectángulo redondeado"/>
            <p:cNvSpPr/>
            <p:nvPr/>
          </p:nvSpPr>
          <p:spPr>
            <a:xfrm>
              <a:off x="250920" y="260280"/>
              <a:ext cx="3166920" cy="608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2.- INFRAESTRUCTURAS Y EQUIP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110 Rectángulo redondeado"/>
            <p:cNvSpPr/>
            <p:nvPr/>
          </p:nvSpPr>
          <p:spPr>
            <a:xfrm>
              <a:off x="250920" y="1341360"/>
              <a:ext cx="2663640" cy="673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2.3.- Servidores y Servic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111 Rectángulo redondeado"/>
            <p:cNvSpPr/>
            <p:nvPr/>
          </p:nvSpPr>
          <p:spPr>
            <a:xfrm>
              <a:off x="4140360" y="765000"/>
              <a:ext cx="295092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riterios Educativ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112 Rectángulo redondeado"/>
            <p:cNvSpPr/>
            <p:nvPr/>
          </p:nvSpPr>
          <p:spPr>
            <a:xfrm>
              <a:off x="4140360" y="1268280"/>
              <a:ext cx="295416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ministración y Acces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113 Rectángulo redondeado"/>
            <p:cNvSpPr/>
            <p:nvPr/>
          </p:nvSpPr>
          <p:spPr>
            <a:xfrm>
              <a:off x="4140360" y="1844640"/>
              <a:ext cx="2950920" cy="43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ervicios Internet  para participación e intera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114 Rectángulo redondeado"/>
            <p:cNvSpPr/>
            <p:nvPr/>
          </p:nvSpPr>
          <p:spPr>
            <a:xfrm>
              <a:off x="4140360" y="2421000"/>
              <a:ext cx="295272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ervidor de Centro o cl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115 Rectángulo redondeado"/>
            <p:cNvSpPr/>
            <p:nvPr/>
          </p:nvSpPr>
          <p:spPr>
            <a:xfrm>
              <a:off x="250920" y="4437000"/>
              <a:ext cx="2592360" cy="711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2.4.- Equipamiento y Softwa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116 Rectángulo redondeado"/>
            <p:cNvSpPr/>
            <p:nvPr/>
          </p:nvSpPr>
          <p:spPr>
            <a:xfrm>
              <a:off x="3348000" y="2924280"/>
              <a:ext cx="280836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6329"/>
                </a:gs>
                <a:gs pos="100000">
                  <a:srgbClr val="93b64c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signado al alumn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117 Rectángulo redondeado"/>
            <p:cNvSpPr/>
            <p:nvPr/>
          </p:nvSpPr>
          <p:spPr>
            <a:xfrm>
              <a:off x="3348000" y="4221000"/>
              <a:ext cx="2232000" cy="31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cceso y Configur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118 Rectángulo redondeado"/>
            <p:cNvSpPr/>
            <p:nvPr/>
          </p:nvSpPr>
          <p:spPr>
            <a:xfrm>
              <a:off x="3348000" y="4653000"/>
              <a:ext cx="223200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licaciones Instalad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119 Rectángulo redondeado"/>
            <p:cNvSpPr/>
            <p:nvPr/>
          </p:nvSpPr>
          <p:spPr>
            <a:xfrm>
              <a:off x="3348000" y="5084640"/>
              <a:ext cx="2232000" cy="28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estión de licenc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123 Rectángulo redondeado"/>
            <p:cNvSpPr/>
            <p:nvPr/>
          </p:nvSpPr>
          <p:spPr>
            <a:xfrm>
              <a:off x="3348000" y="5950080"/>
              <a:ext cx="2232000" cy="34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a4906"/>
                </a:gs>
                <a:gs pos="100000">
                  <a:srgbClr val="f68a3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tención a la Divers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124 Rectángulo redondeado"/>
            <p:cNvSpPr/>
            <p:nvPr/>
          </p:nvSpPr>
          <p:spPr>
            <a:xfrm>
              <a:off x="6300720" y="2924280"/>
              <a:ext cx="266400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6329"/>
                </a:gs>
                <a:gs pos="100000">
                  <a:srgbClr val="93b64c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quipamiento Aulas y Cent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128 Rectángulo redondeado"/>
            <p:cNvSpPr/>
            <p:nvPr/>
          </p:nvSpPr>
          <p:spPr>
            <a:xfrm>
              <a:off x="3348000" y="5445000"/>
              <a:ext cx="2524320" cy="443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uidado y responsabilidad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135 Rectángulo redondeado"/>
            <p:cNvSpPr/>
            <p:nvPr/>
          </p:nvSpPr>
          <p:spPr>
            <a:xfrm>
              <a:off x="3348000" y="6381720"/>
              <a:ext cx="2232000" cy="300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6329"/>
                </a:gs>
                <a:gs pos="100000">
                  <a:srgbClr val="93b64c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ctuaciones de Mejo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117 Rectángulo redondeado"/>
            <p:cNvSpPr/>
            <p:nvPr/>
          </p:nvSpPr>
          <p:spPr>
            <a:xfrm>
              <a:off x="3348000" y="3357720"/>
              <a:ext cx="2232000" cy="31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signación Equip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117 Rectángulo redondeado"/>
            <p:cNvSpPr/>
            <p:nvPr/>
          </p:nvSpPr>
          <p:spPr>
            <a:xfrm>
              <a:off x="3348000" y="3789360"/>
              <a:ext cx="2232000" cy="31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ncionalidad Educati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117 Rectángulo redondeado"/>
            <p:cNvSpPr/>
            <p:nvPr/>
          </p:nvSpPr>
          <p:spPr>
            <a:xfrm>
              <a:off x="6372360" y="4292640"/>
              <a:ext cx="2232000" cy="31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cceso y Configur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118 Rectángulo redondeado"/>
            <p:cNvSpPr/>
            <p:nvPr/>
          </p:nvSpPr>
          <p:spPr>
            <a:xfrm>
              <a:off x="6372360" y="4724280"/>
              <a:ext cx="223200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licaciones Instalad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119 Rectángulo redondeado"/>
            <p:cNvSpPr/>
            <p:nvPr/>
          </p:nvSpPr>
          <p:spPr>
            <a:xfrm>
              <a:off x="6372360" y="5156280"/>
              <a:ext cx="2232000" cy="288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estión de licenc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123 Rectángulo redondeado"/>
            <p:cNvSpPr/>
            <p:nvPr/>
          </p:nvSpPr>
          <p:spPr>
            <a:xfrm>
              <a:off x="6443640" y="6021360"/>
              <a:ext cx="2232000" cy="343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a4906"/>
                </a:gs>
                <a:gs pos="100000">
                  <a:srgbClr val="f68a3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tención a la Divers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128 Rectángulo redondeado"/>
            <p:cNvSpPr/>
            <p:nvPr/>
          </p:nvSpPr>
          <p:spPr>
            <a:xfrm>
              <a:off x="6372360" y="5516640"/>
              <a:ext cx="2523960" cy="442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uidado y responsabilidad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117 Rectángulo redondeado"/>
            <p:cNvSpPr/>
            <p:nvPr/>
          </p:nvSpPr>
          <p:spPr>
            <a:xfrm>
              <a:off x="6372360" y="3429000"/>
              <a:ext cx="2232000" cy="31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signación Equip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117 Rectángulo redondeado"/>
            <p:cNvSpPr/>
            <p:nvPr/>
          </p:nvSpPr>
          <p:spPr>
            <a:xfrm>
              <a:off x="6372360" y="3860640"/>
              <a:ext cx="2232000" cy="31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ncionalidad Educati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780000" y="836640"/>
              <a:ext cx="71280" cy="187164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48600 h 1871640"/>
                <a:gd name="textAreaBottom" fmla="*/ 182304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87640" y="2924280"/>
              <a:ext cx="144360" cy="374472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97560 h 3744720"/>
                <a:gd name="textAreaBottom" fmla="*/ 3647160 h 37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250920" y="260280"/>
            <a:ext cx="7850160" cy="6048360"/>
            <a:chOff x="250920" y="260280"/>
            <a:chExt cx="7850160" cy="6048360"/>
          </a:xfrm>
        </p:grpSpPr>
        <p:sp>
          <p:nvSpPr>
            <p:cNvPr id="215" name="137 Rectángulo redondeado"/>
            <p:cNvSpPr/>
            <p:nvPr/>
          </p:nvSpPr>
          <p:spPr>
            <a:xfrm>
              <a:off x="250920" y="260280"/>
              <a:ext cx="3166920" cy="611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3.- FORMACIÓN DEL PROFESOR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138 Rectángulo redondeado"/>
            <p:cNvSpPr/>
            <p:nvPr/>
          </p:nvSpPr>
          <p:spPr>
            <a:xfrm>
              <a:off x="324000" y="1197000"/>
              <a:ext cx="266364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3.1.- Plan Acogida Nuevas Incorpora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139 Rectángulo redondeado"/>
            <p:cNvSpPr/>
            <p:nvPr/>
          </p:nvSpPr>
          <p:spPr>
            <a:xfrm>
              <a:off x="324000" y="2421000"/>
              <a:ext cx="266364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3.2.- Plan Formación TIC del Cent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140 Rectángulo redondeado"/>
            <p:cNvSpPr/>
            <p:nvPr/>
          </p:nvSpPr>
          <p:spPr>
            <a:xfrm>
              <a:off x="4067280" y="2276640"/>
              <a:ext cx="3889440" cy="452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quisición Competencia Digi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141 Rectángulo redondeado"/>
            <p:cNvSpPr/>
            <p:nvPr/>
          </p:nvSpPr>
          <p:spPr>
            <a:xfrm>
              <a:off x="4067280" y="2924280"/>
              <a:ext cx="3889440" cy="433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ormación según distintos nive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142 Rectángulo redondeado"/>
            <p:cNvSpPr/>
            <p:nvPr/>
          </p:nvSpPr>
          <p:spPr>
            <a:xfrm>
              <a:off x="324000" y="4076640"/>
              <a:ext cx="2663640" cy="679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3.3.- Facilitar actividades formación T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143 Rectángulo redondeado"/>
            <p:cNvSpPr/>
            <p:nvPr/>
          </p:nvSpPr>
          <p:spPr>
            <a:xfrm>
              <a:off x="4140360" y="3789360"/>
              <a:ext cx="3960720" cy="576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n organización didáctica TIC  y creación de materiales o  entornos de aprendizaj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144 Rectángulo redondeado"/>
            <p:cNvSpPr/>
            <p:nvPr/>
          </p:nvSpPr>
          <p:spPr>
            <a:xfrm>
              <a:off x="4140360" y="4437000"/>
              <a:ext cx="3960720" cy="469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n uso seguro de Intern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140 Rectángulo redondeado"/>
            <p:cNvSpPr/>
            <p:nvPr/>
          </p:nvSpPr>
          <p:spPr>
            <a:xfrm>
              <a:off x="3995640" y="1268280"/>
              <a:ext cx="3961080" cy="43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xto tecnológico y didáct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145 Rectángulo redondeado"/>
            <p:cNvSpPr/>
            <p:nvPr/>
          </p:nvSpPr>
          <p:spPr>
            <a:xfrm>
              <a:off x="4140360" y="5013360"/>
              <a:ext cx="3960720" cy="501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Uso de herramientas institucionales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Aulas virtuales, Web,Discos Virtuales</a:t>
              </a:r>
              <a:r>
                <a:rPr b="0" lang="es-ES" sz="2000" spc="-1" strike="noStrike">
                  <a:solidFill>
                    <a:srgbClr val="ffffff"/>
                  </a:solidFill>
                  <a:latin typeface="Arial"/>
                </a:rPr>
                <a:t> 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146 Rectángulo redondeado"/>
            <p:cNvSpPr/>
            <p:nvPr/>
          </p:nvSpPr>
          <p:spPr>
            <a:xfrm>
              <a:off x="395280" y="5661000"/>
              <a:ext cx="266400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3.4.- Estrategias para Dinamizar y motivar la difusión de actividades de Form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987640" y="14842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80000" y="2205000"/>
              <a:ext cx="142560" cy="1152720"/>
            </a:xfrm>
            <a:custGeom>
              <a:avLst/>
              <a:gdLst>
                <a:gd name="textAreaLeft" fmla="*/ 91080 w 142560"/>
                <a:gd name="textAreaRight" fmla="*/ 142920 w 142560"/>
                <a:gd name="textAreaTop" fmla="*/ 29880 h 1152720"/>
                <a:gd name="textAreaBottom" fmla="*/ 1122840 h 11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51280" y="3716280"/>
              <a:ext cx="73080" cy="180036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46800 h 1800360"/>
                <a:gd name="textAreaBottom" fmla="*/ 1753560 h 18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684360" y="260280"/>
            <a:ext cx="7273440" cy="6048360"/>
            <a:chOff x="684360" y="260280"/>
            <a:chExt cx="7273440" cy="6048360"/>
          </a:xfrm>
        </p:grpSpPr>
        <p:sp>
          <p:nvSpPr>
            <p:cNvPr id="230" name="147 Rectángulo redondeado"/>
            <p:cNvSpPr/>
            <p:nvPr/>
          </p:nvSpPr>
          <p:spPr>
            <a:xfrm>
              <a:off x="684360" y="260280"/>
              <a:ext cx="3166920" cy="611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4.- ENTORNO FAMILIAR E INSTITUC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148 Rectángulo redondeado"/>
            <p:cNvSpPr/>
            <p:nvPr/>
          </p:nvSpPr>
          <p:spPr>
            <a:xfrm>
              <a:off x="755640" y="1052640"/>
              <a:ext cx="26632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4.1.- Situación de parti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149 Rectángulo redondeado"/>
            <p:cNvSpPr/>
            <p:nvPr/>
          </p:nvSpPr>
          <p:spPr>
            <a:xfrm>
              <a:off x="3924360" y="1989000"/>
              <a:ext cx="3457080" cy="43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icación en la utilización de las TIC en el entorno famili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150 Rectángulo redondeado"/>
            <p:cNvSpPr/>
            <p:nvPr/>
          </p:nvSpPr>
          <p:spPr>
            <a:xfrm>
              <a:off x="755640" y="2349360"/>
              <a:ext cx="2663280" cy="648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4.2.- Mecanismos TIC de comunicación e intera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151 Rectángulo redondeado"/>
            <p:cNvSpPr/>
            <p:nvPr/>
          </p:nvSpPr>
          <p:spPr>
            <a:xfrm>
              <a:off x="3924360" y="2492280"/>
              <a:ext cx="1772640" cy="433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ntre  alumn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152 Rectángulo redondeado"/>
            <p:cNvSpPr/>
            <p:nvPr/>
          </p:nvSpPr>
          <p:spPr>
            <a:xfrm>
              <a:off x="5868720" y="2492280"/>
              <a:ext cx="2089080" cy="406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fesores - alumn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153 Rectángulo redondeado"/>
            <p:cNvSpPr/>
            <p:nvPr/>
          </p:nvSpPr>
          <p:spPr>
            <a:xfrm>
              <a:off x="3924360" y="2997360"/>
              <a:ext cx="1844280" cy="39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 famil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154 Rectángulo redondeado"/>
            <p:cNvSpPr/>
            <p:nvPr/>
          </p:nvSpPr>
          <p:spPr>
            <a:xfrm>
              <a:off x="5868720" y="2997360"/>
              <a:ext cx="2087280" cy="43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ntre Profeso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157 Rectángulo redondeado"/>
            <p:cNvSpPr/>
            <p:nvPr/>
          </p:nvSpPr>
          <p:spPr>
            <a:xfrm>
              <a:off x="755640" y="4724280"/>
              <a:ext cx="2663280" cy="648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4.4.4.- Uso y fomento de la web del Cent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159 Rectángulo redondeado"/>
            <p:cNvSpPr/>
            <p:nvPr/>
          </p:nvSpPr>
          <p:spPr>
            <a:xfrm>
              <a:off x="755640" y="3789360"/>
              <a:ext cx="26632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4.3.- Formación e Información a alumnos y famil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157 Rectángulo redondeado"/>
            <p:cNvSpPr/>
            <p:nvPr/>
          </p:nvSpPr>
          <p:spPr>
            <a:xfrm>
              <a:off x="755640" y="5661000"/>
              <a:ext cx="26632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4.5.- Actuaciones de mejo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149 Rectángulo redondeado"/>
            <p:cNvSpPr/>
            <p:nvPr/>
          </p:nvSpPr>
          <p:spPr>
            <a:xfrm>
              <a:off x="4068720" y="1125360"/>
              <a:ext cx="3457080" cy="43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 la Comunidad Educati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36720" y="1916280"/>
              <a:ext cx="144360" cy="151272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39240 h 1512720"/>
                <a:gd name="textAreaBottom" fmla="*/ 1473480 h 15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21080" y="1341360"/>
              <a:ext cx="64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250920" y="189000"/>
            <a:ext cx="8569080" cy="5832360"/>
            <a:chOff x="250920" y="189000"/>
            <a:chExt cx="8569080" cy="5832360"/>
          </a:xfrm>
        </p:grpSpPr>
        <p:sp>
          <p:nvSpPr>
            <p:cNvPr id="245" name="156 Rectángulo redondeado"/>
            <p:cNvSpPr/>
            <p:nvPr/>
          </p:nvSpPr>
          <p:spPr>
            <a:xfrm>
              <a:off x="324000" y="1341360"/>
              <a:ext cx="266364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5.1.-Gestión administrativa y académ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158 Rectángulo redondeado"/>
            <p:cNvSpPr/>
            <p:nvPr/>
          </p:nvSpPr>
          <p:spPr>
            <a:xfrm>
              <a:off x="324000" y="189000"/>
              <a:ext cx="3166920" cy="611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5- GESTIÓN Y ORGANIZ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160 Rectángulo redondeado"/>
            <p:cNvSpPr/>
            <p:nvPr/>
          </p:nvSpPr>
          <p:spPr>
            <a:xfrm>
              <a:off x="3635280" y="1484280"/>
              <a:ext cx="3311640" cy="43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tegración de herramientas administrativas y académic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161 Rectángulo redondeado"/>
            <p:cNvSpPr/>
            <p:nvPr/>
          </p:nvSpPr>
          <p:spPr>
            <a:xfrm>
              <a:off x="3635280" y="907920"/>
              <a:ext cx="3245040" cy="425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irectrices hacia la integración de las Tic en todos sus proces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162 Rectángulo redondeado"/>
            <p:cNvSpPr/>
            <p:nvPr/>
          </p:nvSpPr>
          <p:spPr>
            <a:xfrm>
              <a:off x="3635280" y="3357720"/>
              <a:ext cx="3311640" cy="425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cedimien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163 Rectángulo redondeado"/>
            <p:cNvSpPr/>
            <p:nvPr/>
          </p:nvSpPr>
          <p:spPr>
            <a:xfrm>
              <a:off x="250920" y="4076640"/>
              <a:ext cx="266364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5.2.- Organización de los recursos materi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164 Rectángulo redondeado"/>
            <p:cNvSpPr/>
            <p:nvPr/>
          </p:nvSpPr>
          <p:spPr>
            <a:xfrm>
              <a:off x="3635280" y="2781360"/>
              <a:ext cx="3246480" cy="465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ntenimiento y actualización de equipos y servic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160 Rectángulo redondeado"/>
            <p:cNvSpPr/>
            <p:nvPr/>
          </p:nvSpPr>
          <p:spPr>
            <a:xfrm>
              <a:off x="3635280" y="2060640"/>
              <a:ext cx="3311640" cy="43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cesos de administración y gestión electró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165 Rectángulo redondeado"/>
            <p:cNvSpPr/>
            <p:nvPr/>
          </p:nvSpPr>
          <p:spPr>
            <a:xfrm>
              <a:off x="3276720" y="3933720"/>
              <a:ext cx="2989080" cy="254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rol tecnológico e incidenc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166 Rectángulo redondeado"/>
            <p:cNvSpPr/>
            <p:nvPr/>
          </p:nvSpPr>
          <p:spPr>
            <a:xfrm>
              <a:off x="6443640" y="3933720"/>
              <a:ext cx="2303640" cy="27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estión de garantí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167 Rectángulo redondeado"/>
            <p:cNvSpPr/>
            <p:nvPr/>
          </p:nvSpPr>
          <p:spPr>
            <a:xfrm>
              <a:off x="3276720" y="4292640"/>
              <a:ext cx="3132000" cy="303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estión de soporte técn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168 Rectángulo redondeado"/>
            <p:cNvSpPr/>
            <p:nvPr/>
          </p:nvSpPr>
          <p:spPr>
            <a:xfrm>
              <a:off x="6516720" y="4292640"/>
              <a:ext cx="1900080" cy="301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Otros</a:t>
              </a:r>
              <a:r>
                <a:rPr b="0" lang="es-ES" sz="20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169 Rectángulo redondeado"/>
            <p:cNvSpPr/>
            <p:nvPr/>
          </p:nvSpPr>
          <p:spPr>
            <a:xfrm>
              <a:off x="3635280" y="4653000"/>
              <a:ext cx="3240360" cy="358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eguridad y Confidencial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170 Rectángulo redondeado"/>
            <p:cNvSpPr/>
            <p:nvPr/>
          </p:nvSpPr>
          <p:spPr>
            <a:xfrm>
              <a:off x="3276720" y="5084640"/>
              <a:ext cx="2663640" cy="28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raseñas y Acce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171 Rectángulo redondeado"/>
            <p:cNvSpPr/>
            <p:nvPr/>
          </p:nvSpPr>
          <p:spPr>
            <a:xfrm>
              <a:off x="6084720" y="5084640"/>
              <a:ext cx="2732400" cy="29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iltrado y cortafueg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172 Rectángulo redondeado"/>
            <p:cNvSpPr/>
            <p:nvPr/>
          </p:nvSpPr>
          <p:spPr>
            <a:xfrm>
              <a:off x="3276720" y="5516640"/>
              <a:ext cx="3313080" cy="288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riterios difusión de datos person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173 Rectángulo redondeado"/>
            <p:cNvSpPr/>
            <p:nvPr/>
          </p:nvSpPr>
          <p:spPr>
            <a:xfrm>
              <a:off x="6659640" y="5516640"/>
              <a:ext cx="2160360" cy="272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Otros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348000" y="907920"/>
              <a:ext cx="144360" cy="158436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41040 h 1584360"/>
                <a:gd name="textAreaBottom" fmla="*/ 154332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59280" y="2781360"/>
              <a:ext cx="217440" cy="324000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84240 h 3240000"/>
                <a:gd name="textAreaBottom" fmla="*/ 3155760 h 32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324000" y="189000"/>
            <a:ext cx="8208720" cy="6048360"/>
            <a:chOff x="324000" y="189000"/>
            <a:chExt cx="8208720" cy="6048360"/>
          </a:xfrm>
        </p:grpSpPr>
        <p:sp>
          <p:nvSpPr>
            <p:cNvPr id="265" name="174 Rectángulo redondeado"/>
            <p:cNvSpPr/>
            <p:nvPr/>
          </p:nvSpPr>
          <p:spPr>
            <a:xfrm>
              <a:off x="611280" y="1557360"/>
              <a:ext cx="266364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5.3.- Procesos para uso inadecuado e incidenc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175 Rectángulo redondeado"/>
            <p:cNvSpPr/>
            <p:nvPr/>
          </p:nvSpPr>
          <p:spPr>
            <a:xfrm>
              <a:off x="3924360" y="692280"/>
              <a:ext cx="4608360" cy="50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cesos alternativos ante contingencias para permitir la continuidad de actividad docente y servic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176 Rectángulo redondeado"/>
            <p:cNvSpPr/>
            <p:nvPr/>
          </p:nvSpPr>
          <p:spPr>
            <a:xfrm>
              <a:off x="3924360" y="1341360"/>
              <a:ext cx="4608360" cy="463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ficación de incidencias de seguridad o mal u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177 Rectángulo redondeado"/>
            <p:cNvSpPr/>
            <p:nvPr/>
          </p:nvSpPr>
          <p:spPr>
            <a:xfrm>
              <a:off x="3924360" y="1916280"/>
              <a:ext cx="4608360" cy="41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cesos de aplicación del RR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178 Rectángulo redondeado"/>
            <p:cNvSpPr/>
            <p:nvPr/>
          </p:nvSpPr>
          <p:spPr>
            <a:xfrm>
              <a:off x="539640" y="3357720"/>
              <a:ext cx="266400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5.4.- Renovación y reciclado del equipamiento y consumi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179 Rectángulo redondeado"/>
            <p:cNvSpPr/>
            <p:nvPr/>
          </p:nvSpPr>
          <p:spPr>
            <a:xfrm>
              <a:off x="3924360" y="3284640"/>
              <a:ext cx="4608360" cy="515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lan para renovación, adaptación, aprovechamiento y actualización de equip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180 Rectángulo redondeado"/>
            <p:cNvSpPr/>
            <p:nvPr/>
          </p:nvSpPr>
          <p:spPr>
            <a:xfrm>
              <a:off x="3924360" y="3933720"/>
              <a:ext cx="4608360" cy="433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cesos para reciclado de consumibles y hardwa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181 Rectángulo redondeado"/>
            <p:cNvSpPr/>
            <p:nvPr/>
          </p:nvSpPr>
          <p:spPr>
            <a:xfrm>
              <a:off x="539640" y="4653000"/>
              <a:ext cx="266400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5.5.- Presencia del Centro en Internet e identidad digital instituc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158 Rectángulo redondeado"/>
            <p:cNvSpPr/>
            <p:nvPr/>
          </p:nvSpPr>
          <p:spPr>
            <a:xfrm>
              <a:off x="324000" y="189000"/>
              <a:ext cx="3166920" cy="611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5- GESTIÓN Y ORGANIZ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177 Rectángulo redondeado"/>
            <p:cNvSpPr/>
            <p:nvPr/>
          </p:nvSpPr>
          <p:spPr>
            <a:xfrm>
              <a:off x="3924360" y="2421000"/>
              <a:ext cx="4608360" cy="414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tr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181 Rectángulo redondeado"/>
            <p:cNvSpPr/>
            <p:nvPr/>
          </p:nvSpPr>
          <p:spPr>
            <a:xfrm>
              <a:off x="539640" y="5589720"/>
              <a:ext cx="266400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5.6.- Actuaciones de Mejo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564000" y="836640"/>
              <a:ext cx="144360" cy="20890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54360 h 2089080"/>
                <a:gd name="textAreaBottom" fmla="*/ 2034720 h 20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564000" y="3141720"/>
              <a:ext cx="216000" cy="122400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76 Rectángulo redondeado"/>
          <p:cNvSpPr/>
          <p:nvPr/>
        </p:nvSpPr>
        <p:spPr>
          <a:xfrm>
            <a:off x="468360" y="189000"/>
            <a:ext cx="3166920" cy="60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d1726"/>
              </a:gs>
              <a:gs pos="50000">
                <a:srgbClr val="413253"/>
              </a:gs>
              <a:gs pos="100000">
                <a:srgbClr val="1d1726"/>
              </a:gs>
            </a:gsLst>
            <a:lin ang="135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.-EVALUACIÓN, SEGUIMIENTO Y REVISIÓN DEL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183 Rectángulo redondeado"/>
          <p:cNvSpPr/>
          <p:nvPr/>
        </p:nvSpPr>
        <p:spPr>
          <a:xfrm>
            <a:off x="539640" y="907920"/>
            <a:ext cx="266400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50000">
                <a:srgbClr val="142a46"/>
              </a:gs>
              <a:gs pos="100000">
                <a:srgbClr val="2c5d98"/>
              </a:gs>
            </a:gsLst>
            <a:lin ang="135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.1.- Estrategias para seguimiento y evaluación del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184 Rectángulo redondeado"/>
          <p:cNvSpPr/>
          <p:nvPr/>
        </p:nvSpPr>
        <p:spPr>
          <a:xfrm>
            <a:off x="611280" y="2060640"/>
            <a:ext cx="2663640" cy="6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50000">
                <a:srgbClr val="142a46"/>
              </a:gs>
              <a:gs pos="100000">
                <a:srgbClr val="2c5d98"/>
              </a:gs>
            </a:gsLst>
            <a:lin ang="135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.2.- Instrumentos para seguimiento y evaluación del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185 Rectángulo redondeado"/>
          <p:cNvSpPr/>
          <p:nvPr/>
        </p:nvSpPr>
        <p:spPr>
          <a:xfrm>
            <a:off x="4572000" y="1557360"/>
            <a:ext cx="3529080" cy="41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strumentos estandariz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186 Rectángulo redondeado"/>
          <p:cNvSpPr/>
          <p:nvPr/>
        </p:nvSpPr>
        <p:spPr>
          <a:xfrm>
            <a:off x="4572000" y="2133720"/>
            <a:ext cx="3529080" cy="42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stemas de acreditación (Certificación TI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187 Rectángulo redondeado"/>
          <p:cNvSpPr/>
          <p:nvPr/>
        </p:nvSpPr>
        <p:spPr>
          <a:xfrm>
            <a:off x="4572000" y="2708280"/>
            <a:ext cx="3535200" cy="41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uditorías internas y exter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188 Rectángulo redondeado"/>
          <p:cNvSpPr/>
          <p:nvPr/>
        </p:nvSpPr>
        <p:spPr>
          <a:xfrm>
            <a:off x="611280" y="4508640"/>
            <a:ext cx="2663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50000">
                <a:srgbClr val="142a46"/>
              </a:gs>
              <a:gs pos="100000">
                <a:srgbClr val="2c5d98"/>
              </a:gs>
            </a:gsLst>
            <a:lin ang="135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.3.- Indicadores respecto a diferentes líneas de actu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189 Rectángulo redondeado"/>
          <p:cNvSpPr/>
          <p:nvPr/>
        </p:nvSpPr>
        <p:spPr>
          <a:xfrm>
            <a:off x="4643280" y="3716280"/>
            <a:ext cx="4105440" cy="344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egración Curric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190 Rectángulo redondeado"/>
          <p:cNvSpPr/>
          <p:nvPr/>
        </p:nvSpPr>
        <p:spPr>
          <a:xfrm>
            <a:off x="4643280" y="4149720"/>
            <a:ext cx="4105440" cy="34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raestructuras y Equip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193 Rectángulo redondeado"/>
          <p:cNvSpPr/>
          <p:nvPr/>
        </p:nvSpPr>
        <p:spPr>
          <a:xfrm>
            <a:off x="4643280" y="4581360"/>
            <a:ext cx="4105440" cy="344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mación del Profesor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194 Rectángulo redondeado"/>
          <p:cNvSpPr/>
          <p:nvPr/>
        </p:nvSpPr>
        <p:spPr>
          <a:xfrm>
            <a:off x="4643280" y="5084640"/>
            <a:ext cx="41054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unicación e interacción institu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195 Rectángulo redondeado"/>
          <p:cNvSpPr/>
          <p:nvPr/>
        </p:nvSpPr>
        <p:spPr>
          <a:xfrm>
            <a:off x="4643280" y="5589720"/>
            <a:ext cx="4105440" cy="34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stión y Organiz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196 Rectángulo redondeado"/>
          <p:cNvSpPr/>
          <p:nvPr/>
        </p:nvSpPr>
        <p:spPr>
          <a:xfrm>
            <a:off x="611280" y="6021360"/>
            <a:ext cx="2663640" cy="6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50000">
                <a:srgbClr val="142a46"/>
              </a:gs>
              <a:gs pos="100000">
                <a:srgbClr val="2c5d98"/>
              </a:gs>
            </a:gsLst>
            <a:lin ang="135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5.4.- Temporaliz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1640" y="1484280"/>
            <a:ext cx="73080" cy="1728720"/>
          </a:xfrm>
          <a:custGeom>
            <a:avLst/>
            <a:gdLst>
              <a:gd name="textAreaLeft" fmla="*/ 46800 w 73080"/>
              <a:gd name="textAreaRight" fmla="*/ 73440 w 7308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211640" y="3573360"/>
            <a:ext cx="144360" cy="2376720"/>
          </a:xfrm>
          <a:custGeom>
            <a:avLst/>
            <a:gdLst>
              <a:gd name="textAreaLeft" fmla="*/ 92160 w 144360"/>
              <a:gd name="textAreaRight" fmla="*/ 144360 w 14436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324000" y="404640"/>
            <a:ext cx="7997760" cy="1584360"/>
            <a:chOff x="324000" y="404640"/>
            <a:chExt cx="7997760" cy="1584360"/>
          </a:xfrm>
        </p:grpSpPr>
        <p:sp>
          <p:nvSpPr>
            <p:cNvPr id="294" name="198 Rectángulo redondeado"/>
            <p:cNvSpPr/>
            <p:nvPr/>
          </p:nvSpPr>
          <p:spPr>
            <a:xfrm>
              <a:off x="3924360" y="1052640"/>
              <a:ext cx="4397400" cy="43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clusiones sobre la puesta en marcha del Pl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199 Rectángulo redondeado"/>
            <p:cNvSpPr/>
            <p:nvPr/>
          </p:nvSpPr>
          <p:spPr>
            <a:xfrm>
              <a:off x="3924360" y="1700280"/>
              <a:ext cx="4392720" cy="288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mpliación y Mejora del Pl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76 Rectángulo redondeado"/>
            <p:cNvSpPr/>
            <p:nvPr/>
          </p:nvSpPr>
          <p:spPr>
            <a:xfrm>
              <a:off x="324000" y="404640"/>
              <a:ext cx="3166920" cy="603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d1726"/>
                </a:gs>
                <a:gs pos="50000">
                  <a:srgbClr val="413253"/>
                </a:gs>
                <a:gs pos="100000">
                  <a:srgbClr val="1d1726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.-CONCLUSIONES Y PROPUESTAS DE MEJO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258920" y="189000"/>
            <a:ext cx="7056360" cy="6464160"/>
            <a:chOff x="1258920" y="189000"/>
            <a:chExt cx="7056360" cy="6464160"/>
          </a:xfrm>
        </p:grpSpPr>
        <p:grpSp>
          <p:nvGrpSpPr>
            <p:cNvPr id="46" name="9 Grupo"/>
            <p:cNvGrpSpPr/>
            <p:nvPr/>
          </p:nvGrpSpPr>
          <p:grpSpPr>
            <a:xfrm>
              <a:off x="1258920" y="189000"/>
              <a:ext cx="7056360" cy="2690640"/>
              <a:chOff x="1258920" y="189000"/>
              <a:chExt cx="7056360" cy="2690640"/>
            </a:xfrm>
          </p:grpSpPr>
          <p:sp>
            <p:nvSpPr>
              <p:cNvPr id="47" name="5 Rectángulo"/>
              <p:cNvSpPr/>
              <p:nvPr/>
            </p:nvSpPr>
            <p:spPr>
              <a:xfrm>
                <a:off x="1258920" y="189000"/>
                <a:ext cx="7056360" cy="2690640"/>
              </a:xfrm>
              <a:prstGeom prst="rect">
                <a:avLst/>
              </a:prstGeom>
              <a:solidFill>
                <a:srgbClr val="c00000"/>
              </a:solidFill>
              <a:ln w="25560">
                <a:solidFill>
                  <a:srgbClr val="243f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c00000"/>
                    </a:solidFill>
                    <a:latin typeface="Arial"/>
                  </a:rPr>
                  <a:t>PROYECTO EDUCATIVO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6 Redondear rectángulo de esquina diagonal"/>
              <p:cNvSpPr/>
              <p:nvPr/>
            </p:nvSpPr>
            <p:spPr>
              <a:xfrm>
                <a:off x="1352160" y="993960"/>
                <a:ext cx="2230920" cy="1314720"/>
              </a:xfrm>
              <a:prstGeom prst="pie">
                <a:avLst/>
              </a:prstGeom>
              <a:solidFill>
                <a:srgbClr val="e46c0a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dentidad del centro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Modelo gestión institucion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7 Redondear rectángulo de esquina diagonal"/>
              <p:cNvSpPr/>
              <p:nvPr/>
            </p:nvSpPr>
            <p:spPr>
              <a:xfrm>
                <a:off x="3645360" y="993960"/>
                <a:ext cx="2230920" cy="1314720"/>
              </a:xfrm>
              <a:prstGeom prst="pie">
                <a:avLst/>
              </a:prstGeom>
              <a:solidFill>
                <a:srgbClr val="00cc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stilo didáctico y pedagógic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8 Redondear rectángulo de esquina diagonal"/>
              <p:cNvSpPr/>
              <p:nvPr/>
            </p:nvSpPr>
            <p:spPr>
              <a:xfrm>
                <a:off x="5949360" y="993960"/>
                <a:ext cx="2230920" cy="1314720"/>
              </a:xfrm>
              <a:prstGeom prst="pie">
                <a:avLst/>
              </a:prstGeom>
              <a:solidFill>
                <a:srgbClr val="0070c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spectos orgánico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dministración y gestió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31 Grupo"/>
            <p:cNvGrpSpPr/>
            <p:nvPr/>
          </p:nvGrpSpPr>
          <p:grpSpPr>
            <a:xfrm>
              <a:off x="1908000" y="3141720"/>
              <a:ext cx="5413680" cy="3511440"/>
              <a:chOff x="1908000" y="3141720"/>
              <a:chExt cx="5413680" cy="3511440"/>
            </a:xfrm>
          </p:grpSpPr>
          <p:sp>
            <p:nvSpPr>
              <p:cNvPr id="52" name="32 Rectángulo"/>
              <p:cNvSpPr/>
              <p:nvPr/>
            </p:nvSpPr>
            <p:spPr>
              <a:xfrm>
                <a:off x="3743640" y="3141720"/>
                <a:ext cx="1663560" cy="970560"/>
              </a:xfrm>
              <a:prstGeom prst="rect">
                <a:avLst/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162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DejaVu Sans Condensed"/>
                  </a:rPr>
                  <a:t>PLAN TIC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DejaVu Sans Condensed"/>
                  </a:rPr>
                  <a:t>DE CENTR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33 Rectángulo"/>
              <p:cNvSpPr/>
              <p:nvPr/>
            </p:nvSpPr>
            <p:spPr>
              <a:xfrm>
                <a:off x="1908000" y="4362120"/>
                <a:ext cx="1663560" cy="970560"/>
              </a:xfrm>
              <a:prstGeom prst="rect">
                <a:avLst/>
              </a:prstGeom>
              <a:solidFill>
                <a:srgbClr val="00cc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cc00"/>
                    </a:solidFill>
                    <a:latin typeface="Arial"/>
                  </a:rPr>
                  <a:t>Plan General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cc00"/>
                    </a:solidFill>
                    <a:latin typeface="Arial"/>
                  </a:rPr>
                  <a:t>Anu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34 Rectángulo"/>
              <p:cNvSpPr/>
              <p:nvPr/>
            </p:nvSpPr>
            <p:spPr>
              <a:xfrm>
                <a:off x="5658120" y="4362120"/>
                <a:ext cx="1663560" cy="970560"/>
              </a:xfrm>
              <a:prstGeom prst="rect">
                <a:avLst/>
              </a:prstGeom>
              <a:solidFill>
                <a:srgbClr val="00cc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cc00"/>
                    </a:solidFill>
                    <a:latin typeface="Arial"/>
                  </a:rPr>
                  <a:t>Programación didáct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35 Rectángulo"/>
              <p:cNvSpPr/>
              <p:nvPr/>
            </p:nvSpPr>
            <p:spPr>
              <a:xfrm>
                <a:off x="3835440" y="5682600"/>
                <a:ext cx="1663560" cy="970560"/>
              </a:xfrm>
              <a:prstGeom prst="rect">
                <a:avLst/>
              </a:pr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62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DejaVu Sans Condensed"/>
                  </a:rPr>
                  <a:t>AUL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" name="36 Grupo"/>
              <p:cNvGrpSpPr/>
              <p:nvPr/>
            </p:nvGrpSpPr>
            <p:grpSpPr>
              <a:xfrm>
                <a:off x="2760120" y="3527640"/>
                <a:ext cx="974160" cy="827640"/>
                <a:chOff x="2760120" y="3527640"/>
                <a:chExt cx="974160" cy="827640"/>
              </a:xfrm>
            </p:grpSpPr>
            <p:sp>
              <p:nvSpPr>
                <p:cNvPr id="57" name="37 Conector recto"/>
                <p:cNvSpPr/>
                <p:nvPr/>
              </p:nvSpPr>
              <p:spPr>
                <a:xfrm>
                  <a:off x="2760120" y="3527640"/>
                  <a:ext cx="974160" cy="0"/>
                </a:xfrm>
                <a:prstGeom prst="line">
                  <a:avLst/>
                </a:prstGeom>
                <a:ln w="34920">
                  <a:solidFill>
                    <a:srgbClr val="4a7ebb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38 Conector recto"/>
                <p:cNvSpPr/>
                <p:nvPr/>
              </p:nvSpPr>
              <p:spPr>
                <a:xfrm>
                  <a:off x="2760120" y="3527640"/>
                  <a:ext cx="0" cy="827640"/>
                </a:xfrm>
                <a:prstGeom prst="line">
                  <a:avLst/>
                </a:prstGeom>
                <a:ln w="34920">
                  <a:solidFill>
                    <a:srgbClr val="4a7ebb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39 Grupo"/>
              <p:cNvGrpSpPr/>
              <p:nvPr/>
            </p:nvGrpSpPr>
            <p:grpSpPr>
              <a:xfrm>
                <a:off x="5395680" y="3502800"/>
                <a:ext cx="1101240" cy="857880"/>
                <a:chOff x="5395680" y="3502800"/>
                <a:chExt cx="1101240" cy="857880"/>
              </a:xfrm>
            </p:grpSpPr>
            <p:sp>
              <p:nvSpPr>
                <p:cNvPr id="60" name="40 Conector recto"/>
                <p:cNvSpPr/>
                <p:nvPr/>
              </p:nvSpPr>
              <p:spPr>
                <a:xfrm flipH="1">
                  <a:off x="5395680" y="3502800"/>
                  <a:ext cx="1101240" cy="0"/>
                </a:xfrm>
                <a:prstGeom prst="line">
                  <a:avLst/>
                </a:prstGeom>
                <a:ln w="34920">
                  <a:solidFill>
                    <a:srgbClr val="4a7ebb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41 Conector recto"/>
                <p:cNvSpPr/>
                <p:nvPr/>
              </p:nvSpPr>
              <p:spPr>
                <a:xfrm>
                  <a:off x="6496920" y="3502800"/>
                  <a:ext cx="0" cy="857880"/>
                </a:xfrm>
                <a:prstGeom prst="line">
                  <a:avLst/>
                </a:prstGeom>
                <a:ln w="34920">
                  <a:solidFill>
                    <a:srgbClr val="4a7ebb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" name="42 Conector recto"/>
              <p:cNvSpPr/>
              <p:nvPr/>
            </p:nvSpPr>
            <p:spPr>
              <a:xfrm flipV="1">
                <a:off x="2720880" y="5320800"/>
                <a:ext cx="0" cy="797400"/>
              </a:xfrm>
              <a:prstGeom prst="line">
                <a:avLst/>
              </a:prstGeom>
              <a:ln w="34920">
                <a:solidFill>
                  <a:srgbClr val="4a7ebb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43 Conector recto"/>
              <p:cNvSpPr/>
              <p:nvPr/>
            </p:nvSpPr>
            <p:spPr>
              <a:xfrm>
                <a:off x="2707560" y="6131160"/>
                <a:ext cx="1125000" cy="0"/>
              </a:xfrm>
              <a:prstGeom prst="line">
                <a:avLst/>
              </a:prstGeom>
              <a:ln w="34920">
                <a:solidFill>
                  <a:srgbClr val="4a7ebb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44 Conector recto"/>
              <p:cNvSpPr/>
              <p:nvPr/>
            </p:nvSpPr>
            <p:spPr>
              <a:xfrm flipH="1">
                <a:off x="5500440" y="6143400"/>
                <a:ext cx="1029960" cy="0"/>
              </a:xfrm>
              <a:prstGeom prst="line">
                <a:avLst/>
              </a:prstGeom>
              <a:ln w="34920">
                <a:solidFill>
                  <a:srgbClr val="4a7ebb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45 Conector recto"/>
              <p:cNvSpPr/>
              <p:nvPr/>
            </p:nvSpPr>
            <p:spPr>
              <a:xfrm flipV="1">
                <a:off x="6523560" y="5333760"/>
                <a:ext cx="0" cy="789840"/>
              </a:xfrm>
              <a:prstGeom prst="line">
                <a:avLst/>
              </a:prstGeom>
              <a:ln w="34920">
                <a:solidFill>
                  <a:srgbClr val="4a7ebb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4572000" y="2924280"/>
              <a:ext cx="0" cy="21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250920" y="333360"/>
            <a:ext cx="8650080" cy="6408360"/>
            <a:chOff x="250920" y="333360"/>
            <a:chExt cx="8650080" cy="6408360"/>
          </a:xfrm>
        </p:grpSpPr>
        <p:grpSp>
          <p:nvGrpSpPr>
            <p:cNvPr id="68" name=""/>
            <p:cNvGrpSpPr/>
            <p:nvPr/>
          </p:nvGrpSpPr>
          <p:grpSpPr>
            <a:xfrm>
              <a:off x="900000" y="1484280"/>
              <a:ext cx="8001000" cy="5257440"/>
              <a:chOff x="900000" y="1484280"/>
              <a:chExt cx="8001000" cy="5257440"/>
            </a:xfrm>
          </p:grpSpPr>
          <p:sp>
            <p:nvSpPr>
              <p:cNvPr id="69" name=""/>
              <p:cNvSpPr/>
              <p:nvPr/>
            </p:nvSpPr>
            <p:spPr>
              <a:xfrm>
                <a:off x="900000" y="1484280"/>
                <a:ext cx="5143320" cy="9144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333399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Actuaciones encaminadas a …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414600" y="2512800"/>
                <a:ext cx="5257800" cy="1257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993300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la Integración, aplicación, fomento y uso innovador de las TI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528720" y="3998880"/>
                <a:ext cx="5257800" cy="1257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8000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la utilización como herramienta didáctica en los procesos enseñanza-aprendizaj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643200" y="5484600"/>
                <a:ext cx="5257800" cy="1257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60066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l desarrollo de estrategias de gestión y administració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3" name="" descr=""/>
            <p:cNvPicPr/>
            <p:nvPr/>
          </p:nvPicPr>
          <p:blipFill>
            <a:blip r:embed="rId1"/>
            <a:stretch/>
          </p:blipFill>
          <p:spPr>
            <a:xfrm>
              <a:off x="250920" y="3475080"/>
              <a:ext cx="3168720" cy="23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042920" y="333360"/>
              <a:ext cx="7848720" cy="9349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00"/>
                  </a:solidFill>
                  <a:latin typeface="Arial"/>
                </a:rPr>
                <a:t>PLAN DE INTEGRACIÓN DE LAS TIC EN EL CENTR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755640" y="404640"/>
            <a:ext cx="8062920" cy="5222880"/>
            <a:chOff x="755640" y="404640"/>
            <a:chExt cx="8062920" cy="5222880"/>
          </a:xfrm>
        </p:grpSpPr>
        <p:sp>
          <p:nvSpPr>
            <p:cNvPr id="76" name=""/>
            <p:cNvSpPr/>
            <p:nvPr/>
          </p:nvSpPr>
          <p:spPr>
            <a:xfrm>
              <a:off x="971640" y="404640"/>
              <a:ext cx="4032000" cy="4320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99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aracterística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59280" y="1125360"/>
              <a:ext cx="3886200" cy="646200"/>
            </a:xfrm>
            <a:prstGeom prst="rect">
              <a:avLst/>
            </a:prstGeom>
            <a:gradFill rotWithShape="0">
              <a:gsLst>
                <a:gs pos="0">
                  <a:srgbClr val="752f00"/>
                </a:gs>
                <a:gs pos="50000">
                  <a:srgbClr val="ff6600"/>
                </a:gs>
                <a:gs pos="100000">
                  <a:srgbClr val="752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ecuado a las características del Cent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932360" y="4005360"/>
              <a:ext cx="3886200" cy="455400"/>
            </a:xfrm>
            <a:prstGeom prst="rect">
              <a:avLst/>
            </a:prstGeom>
            <a:gradFill rotWithShape="0">
              <a:gsLst>
                <a:gs pos="0">
                  <a:srgbClr val="172f75"/>
                </a:gs>
                <a:gs pos="50000">
                  <a:srgbClr val="3366ff"/>
                </a:gs>
                <a:gs pos="100000">
                  <a:srgbClr val="172f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structura sus elemen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900680" y="2109960"/>
              <a:ext cx="3886200" cy="68580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50000">
                  <a:srgbClr val="00ff00"/>
                </a:gs>
                <a:gs pos="100000">
                  <a:srgbClr val="0075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oma en consideración cambios de circunstanc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932360" y="3141720"/>
              <a:ext cx="3886200" cy="457200"/>
            </a:xfrm>
            <a:prstGeom prst="rect">
              <a:avLst/>
            </a:prstGeom>
            <a:gradFill rotWithShape="0">
              <a:gsLst>
                <a:gs pos="0">
                  <a:srgbClr val="171746"/>
                </a:gs>
                <a:gs pos="50000">
                  <a:srgbClr val="333399"/>
                </a:gs>
                <a:gs pos="100000">
                  <a:srgbClr val="1717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strategias de particip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46 Rectángulo redondeado"/>
            <p:cNvSpPr/>
            <p:nvPr/>
          </p:nvSpPr>
          <p:spPr>
            <a:xfrm>
              <a:off x="755640" y="1268280"/>
              <a:ext cx="3184560" cy="425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83104"/>
                </a:gs>
                <a:gs pos="50000">
                  <a:srgbClr val="e36c0a"/>
                </a:gs>
                <a:gs pos="100000">
                  <a:srgbClr val="683104"/>
                </a:gs>
              </a:gsLst>
              <a:lin ang="135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TEXTUALIZ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47 Rectángulo redondeado"/>
            <p:cNvSpPr/>
            <p:nvPr/>
          </p:nvSpPr>
          <p:spPr>
            <a:xfrm>
              <a:off x="826920" y="2276640"/>
              <a:ext cx="3184560" cy="425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5e00"/>
                </a:gs>
                <a:gs pos="50000">
                  <a:srgbClr val="00cc00"/>
                </a:gs>
                <a:gs pos="100000">
                  <a:srgbClr val="005e00"/>
                </a:gs>
              </a:gsLst>
              <a:lin ang="135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APTA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48 Rectángulo redondeado"/>
            <p:cNvSpPr/>
            <p:nvPr/>
          </p:nvSpPr>
          <p:spPr>
            <a:xfrm>
              <a:off x="826920" y="3141720"/>
              <a:ext cx="3184560" cy="425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a182a"/>
                </a:gs>
                <a:gs pos="50000">
                  <a:srgbClr val="17365d"/>
                </a:gs>
                <a:gs pos="100000">
                  <a:srgbClr val="0a182a"/>
                </a:gs>
              </a:gsLst>
              <a:lin ang="135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SENSU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49 Rectángulo redondeado"/>
            <p:cNvSpPr/>
            <p:nvPr/>
          </p:nvSpPr>
          <p:spPr>
            <a:xfrm>
              <a:off x="826920" y="4005360"/>
              <a:ext cx="3184560" cy="425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58"/>
                </a:gs>
                <a:gs pos="50000">
                  <a:srgbClr val="0070c0"/>
                </a:gs>
                <a:gs pos="100000">
                  <a:srgbClr val="003358"/>
                </a:gs>
              </a:gsLst>
              <a:lin ang="135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RGANIZ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50 Rectángulo redondeado"/>
            <p:cNvSpPr/>
            <p:nvPr/>
          </p:nvSpPr>
          <p:spPr>
            <a:xfrm>
              <a:off x="826920" y="5013360"/>
              <a:ext cx="3184560" cy="425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61700"/>
                </a:gs>
                <a:gs pos="50000">
                  <a:srgbClr val="993300"/>
                </a:gs>
                <a:gs pos="100000">
                  <a:srgbClr val="461700"/>
                </a:gs>
              </a:gsLst>
              <a:lin ang="135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ORDIN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932360" y="4941720"/>
              <a:ext cx="3886200" cy="685800"/>
            </a:xfrm>
            <a:prstGeom prst="rect">
              <a:avLst/>
            </a:prstGeom>
            <a:gradFill rotWithShape="0">
              <a:gsLst>
                <a:gs pos="0">
                  <a:srgbClr val="461700"/>
                </a:gs>
                <a:gs pos="50000">
                  <a:srgbClr val="993300"/>
                </a:gs>
                <a:gs pos="100000">
                  <a:srgbClr val="4617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stiona los procesos de elaboración, desarrollo y evalu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95640" y="148428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67280" y="249228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67280" y="335772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67280" y="422100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67280" y="522936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50920" y="404640"/>
            <a:ext cx="8502120" cy="5683320"/>
            <a:chOff x="250920" y="404640"/>
            <a:chExt cx="8502120" cy="5683320"/>
          </a:xfrm>
        </p:grpSpPr>
        <p:sp>
          <p:nvSpPr>
            <p:cNvPr id="93" name="14 Rectángulo redondeado"/>
            <p:cNvSpPr/>
            <p:nvPr/>
          </p:nvSpPr>
          <p:spPr>
            <a:xfrm rot="16200000">
              <a:off x="-488160" y="3161160"/>
              <a:ext cx="2124360" cy="35676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INCIPIOS PLAN T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16 Rectángulo redondeado"/>
            <p:cNvSpPr/>
            <p:nvPr/>
          </p:nvSpPr>
          <p:spPr>
            <a:xfrm>
              <a:off x="2411280" y="3213000"/>
              <a:ext cx="1123560" cy="51120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grado 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17 Rectángulo redondeado"/>
            <p:cNvSpPr/>
            <p:nvPr/>
          </p:nvSpPr>
          <p:spPr>
            <a:xfrm>
              <a:off x="1906560" y="1341360"/>
              <a:ext cx="3047400" cy="358560"/>
            </a:xfrm>
            <a:prstGeom prst="roundRect">
              <a:avLst>
                <a:gd name="adj" fmla="val 16667"/>
              </a:avLst>
            </a:prstGeom>
            <a:solidFill>
              <a:srgbClr val="48432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.1.- Contexto Socio-educativ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24 Rectángulo redondeado"/>
            <p:cNvSpPr/>
            <p:nvPr/>
          </p:nvSpPr>
          <p:spPr>
            <a:xfrm>
              <a:off x="3563640" y="3286080"/>
              <a:ext cx="2295360" cy="35856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.2.- Líneas Pedagógic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27 Rectángulo redondeado"/>
            <p:cNvSpPr/>
            <p:nvPr/>
          </p:nvSpPr>
          <p:spPr>
            <a:xfrm>
              <a:off x="6156000" y="4221000"/>
              <a:ext cx="2519280" cy="35712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munidad educati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30 Rectángulo redondeado"/>
            <p:cNvSpPr/>
            <p:nvPr/>
          </p:nvSpPr>
          <p:spPr>
            <a:xfrm>
              <a:off x="250920" y="4914720"/>
              <a:ext cx="4032000" cy="35712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.3.- ESTUDIO TEMPORAL Y ESTRATÉG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52 Rectángulo redondeado"/>
            <p:cNvSpPr/>
            <p:nvPr/>
          </p:nvSpPr>
          <p:spPr>
            <a:xfrm>
              <a:off x="5867280" y="404640"/>
              <a:ext cx="2806200" cy="58572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efinición del entorno de aplicación de las T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53 Rectángulo redondeado"/>
            <p:cNvSpPr/>
            <p:nvPr/>
          </p:nvSpPr>
          <p:spPr>
            <a:xfrm>
              <a:off x="5867280" y="1125360"/>
              <a:ext cx="2806200" cy="5032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terrelación Centro y Comun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54 Rectángulo redondeado"/>
            <p:cNvSpPr/>
            <p:nvPr/>
          </p:nvSpPr>
          <p:spPr>
            <a:xfrm>
              <a:off x="5867280" y="1773000"/>
              <a:ext cx="2806200" cy="66672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aracterísticas generales del entorno tecnológ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55 Rectángulo redondeado"/>
            <p:cNvSpPr/>
            <p:nvPr/>
          </p:nvSpPr>
          <p:spPr>
            <a:xfrm>
              <a:off x="5946480" y="3049560"/>
              <a:ext cx="2806560" cy="9172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Trayectoria hasta el</a:t>
              </a: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momento de desarrollo del Plan TIC</a:t>
              </a:r>
              <a:br>
                <a:rPr sz="1400"/>
              </a:b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planes Mejora-PIE</a:t>
              </a: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56 Rectángulo redondeado"/>
            <p:cNvSpPr/>
            <p:nvPr/>
          </p:nvSpPr>
          <p:spPr>
            <a:xfrm>
              <a:off x="4356000" y="4941720"/>
              <a:ext cx="1344240" cy="35568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álisis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57 Rectángulo redondeado"/>
            <p:cNvSpPr/>
            <p:nvPr/>
          </p:nvSpPr>
          <p:spPr>
            <a:xfrm>
              <a:off x="6156000" y="4725720"/>
              <a:ext cx="2590560" cy="35712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ortalezas - Debilidad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58 Rectángulo redondeado"/>
            <p:cNvSpPr/>
            <p:nvPr/>
          </p:nvSpPr>
          <p:spPr>
            <a:xfrm>
              <a:off x="6156000" y="5157720"/>
              <a:ext cx="2590560" cy="35712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portunidad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69 Rectángulo redondeado"/>
            <p:cNvSpPr/>
            <p:nvPr/>
          </p:nvSpPr>
          <p:spPr>
            <a:xfrm>
              <a:off x="610920" y="477720"/>
              <a:ext cx="4209840" cy="401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523"/>
                </a:gs>
                <a:gs pos="100000">
                  <a:srgbClr val="ba444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.- INTRODUCCIÓN Y CONTEXTUALIZ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59 Rectángulo redondeado"/>
            <p:cNvSpPr/>
            <p:nvPr/>
          </p:nvSpPr>
          <p:spPr>
            <a:xfrm>
              <a:off x="6156000" y="5662440"/>
              <a:ext cx="2590560" cy="42552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spectos de Mejo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51 Rectángulo redondeado"/>
            <p:cNvSpPr/>
            <p:nvPr/>
          </p:nvSpPr>
          <p:spPr>
            <a:xfrm>
              <a:off x="322200" y="5445000"/>
              <a:ext cx="3952440" cy="42552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.4.- TIEMPO DE APLIC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223380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324000" y="189000"/>
            <a:ext cx="8642160" cy="5904000"/>
            <a:chOff x="324000" y="189000"/>
            <a:chExt cx="8642160" cy="5904000"/>
          </a:xfrm>
        </p:grpSpPr>
        <p:sp>
          <p:nvSpPr>
            <p:cNvPr id="111" name="60 Redondear rectángulo de esquina diagonal"/>
            <p:cNvSpPr/>
            <p:nvPr/>
          </p:nvSpPr>
          <p:spPr>
            <a:xfrm>
              <a:off x="324000" y="2924280"/>
              <a:ext cx="2519280" cy="1117440"/>
            </a:xfrm>
            <a:prstGeom prst="pie">
              <a:avLst/>
            </a:prstGeom>
            <a:gradFill rotWithShape="0">
              <a:gsLst>
                <a:gs pos="0">
                  <a:srgbClr val="1d1726"/>
                </a:gs>
                <a:gs pos="50000">
                  <a:srgbClr val="413253"/>
                </a:gs>
                <a:gs pos="100000">
                  <a:srgbClr val="1d1726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ce1"/>
                  </a:solidFill>
                  <a:latin typeface="Arial"/>
                </a:rPr>
                <a:t>2 .- OBJETIVOS GENER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62 Rectángulo redondeado"/>
            <p:cNvSpPr/>
            <p:nvPr/>
          </p:nvSpPr>
          <p:spPr>
            <a:xfrm>
              <a:off x="3351240" y="620640"/>
              <a:ext cx="3384360" cy="819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1.-INTEGRACIÓN CURRICUL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63 Rectángulo redondeado"/>
            <p:cNvSpPr/>
            <p:nvPr/>
          </p:nvSpPr>
          <p:spPr>
            <a:xfrm>
              <a:off x="6877080" y="333360"/>
              <a:ext cx="2087640" cy="538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6329"/>
                </a:gs>
                <a:gs pos="100000">
                  <a:srgbClr val="93b64c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ceso Educativ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64 Rectángulo redondeado"/>
            <p:cNvSpPr/>
            <p:nvPr/>
          </p:nvSpPr>
          <p:spPr>
            <a:xfrm>
              <a:off x="6877080" y="1268280"/>
              <a:ext cx="2089080" cy="611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rganización Didáct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65 Rectángulo redondeado"/>
            <p:cNvSpPr/>
            <p:nvPr/>
          </p:nvSpPr>
          <p:spPr>
            <a:xfrm>
              <a:off x="3348000" y="1773360"/>
              <a:ext cx="3384720" cy="819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2.- INFRAESTRUCTURAS Y EQUIP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66 Rectángulo redondeado"/>
            <p:cNvSpPr/>
            <p:nvPr/>
          </p:nvSpPr>
          <p:spPr>
            <a:xfrm>
              <a:off x="3348000" y="2781360"/>
              <a:ext cx="3384720" cy="819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3.-FORMACIÓN DEL PROFESOR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67 Rectángulo redondeado"/>
            <p:cNvSpPr/>
            <p:nvPr/>
          </p:nvSpPr>
          <p:spPr>
            <a:xfrm>
              <a:off x="3419640" y="3933720"/>
              <a:ext cx="3384360" cy="819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4.-COMUNICACIÓN E INTERA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68 Rectángulo redondeado"/>
            <p:cNvSpPr/>
            <p:nvPr/>
          </p:nvSpPr>
          <p:spPr>
            <a:xfrm>
              <a:off x="3419640" y="5157720"/>
              <a:ext cx="3384360" cy="819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5.-GESTIÓN DEL CENT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87640" y="620640"/>
              <a:ext cx="144360" cy="547236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42560 h 5472360"/>
                <a:gd name="textAreaBottom" fmla="*/ 5329800 h 547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04000" y="189000"/>
              <a:ext cx="73080" cy="180000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46800 h 1800000"/>
                <a:gd name="textAreaBottom" fmla="*/ 1753200 h 18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611280" y="1197000"/>
            <a:ext cx="7200360" cy="3409920"/>
            <a:chOff x="611280" y="1197000"/>
            <a:chExt cx="7200360" cy="3409920"/>
          </a:xfrm>
        </p:grpSpPr>
        <p:sp>
          <p:nvSpPr>
            <p:cNvPr id="122" name="70 Redondear rectángulo de esquina diagonal"/>
            <p:cNvSpPr/>
            <p:nvPr/>
          </p:nvSpPr>
          <p:spPr>
            <a:xfrm>
              <a:off x="611280" y="2278080"/>
              <a:ext cx="3384360" cy="1459080"/>
            </a:xfrm>
            <a:prstGeom prst="pie">
              <a:avLst/>
            </a:prstGeom>
            <a:gradFill rotWithShape="0">
              <a:gsLst>
                <a:gs pos="0">
                  <a:srgbClr val="2a1d3a"/>
                </a:gs>
                <a:gs pos="50000">
                  <a:srgbClr val="5d417e"/>
                </a:gs>
                <a:gs pos="100000">
                  <a:srgbClr val="2a1d3a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ce1"/>
                  </a:solidFill>
                  <a:latin typeface="Arial"/>
                </a:rPr>
                <a:t>3 .- ESTRATEGIAS DE DESARROLLO, DINAMIZACIÓN, DIFUSIÓN Y COORDINACIÓ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71 Rectángulo redondeado"/>
            <p:cNvSpPr/>
            <p:nvPr/>
          </p:nvSpPr>
          <p:spPr>
            <a:xfrm>
              <a:off x="4427280" y="1197000"/>
              <a:ext cx="3384360" cy="819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54163"/>
                </a:gs>
                <a:gs pos="100000">
                  <a:srgbClr val="4477b6"/>
                </a:gs>
              </a:gsLst>
              <a:lin ang="16200000"/>
            </a:gradFill>
            <a:ln w="9360">
              <a:solidFill>
                <a:srgbClr val="4579b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reación de la  Comisión TIC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encargada de elaborar el Pl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72 Rectángulo redondeado"/>
            <p:cNvSpPr/>
            <p:nvPr/>
          </p:nvSpPr>
          <p:spPr>
            <a:xfrm>
              <a:off x="4427280" y="2421000"/>
              <a:ext cx="3384360" cy="817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Temporalización</a:t>
              </a: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: Elaboración, seguimiento y evaluación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73 Rectángulo redondeado"/>
            <p:cNvSpPr/>
            <p:nvPr/>
          </p:nvSpPr>
          <p:spPr>
            <a:xfrm>
              <a:off x="4356000" y="3789360"/>
              <a:ext cx="3384000" cy="817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Difusión y dinamización</a:t>
              </a: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 para favorecer  la particip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539640" y="333360"/>
            <a:ext cx="7775640" cy="5959440"/>
            <a:chOff x="539640" y="333360"/>
            <a:chExt cx="7775640" cy="5959440"/>
          </a:xfrm>
        </p:grpSpPr>
        <p:sp>
          <p:nvSpPr>
            <p:cNvPr id="127" name="74 Rectángulo redondeado"/>
            <p:cNvSpPr/>
            <p:nvPr/>
          </p:nvSpPr>
          <p:spPr>
            <a:xfrm>
              <a:off x="539640" y="1052640"/>
              <a:ext cx="3168720" cy="606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1.- INTEGRACIÓN CURRICUL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75 Rectángulo redondeado"/>
            <p:cNvSpPr/>
            <p:nvPr/>
          </p:nvSpPr>
          <p:spPr>
            <a:xfrm>
              <a:off x="539640" y="2781360"/>
              <a:ext cx="2433600" cy="61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1.1.- Criterios didácticos y metodológi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76 Rectángulo redondeado"/>
            <p:cNvSpPr/>
            <p:nvPr/>
          </p:nvSpPr>
          <p:spPr>
            <a:xfrm>
              <a:off x="539640" y="333360"/>
              <a:ext cx="3959280" cy="603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d1726"/>
                </a:gs>
                <a:gs pos="50000">
                  <a:srgbClr val="413253"/>
                </a:gs>
                <a:gs pos="100000">
                  <a:srgbClr val="1d1726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.-LÍNEAS DE ACTU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77 Rectángulo redondeado"/>
            <p:cNvSpPr/>
            <p:nvPr/>
          </p:nvSpPr>
          <p:spPr>
            <a:xfrm>
              <a:off x="3348000" y="1773360"/>
              <a:ext cx="1871640" cy="41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a4906"/>
                </a:gs>
                <a:gs pos="100000">
                  <a:srgbClr val="f68a3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ecuenci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78 Rectángulo redondeado"/>
            <p:cNvSpPr/>
            <p:nvPr/>
          </p:nvSpPr>
          <p:spPr>
            <a:xfrm>
              <a:off x="3348000" y="2492280"/>
              <a:ext cx="1871640" cy="505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odelos de uso de las T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79 Rectángulo redondeado"/>
            <p:cNvSpPr/>
            <p:nvPr/>
          </p:nvSpPr>
          <p:spPr>
            <a:xfrm>
              <a:off x="3348000" y="3141720"/>
              <a:ext cx="1871640" cy="43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a4906"/>
                </a:gs>
                <a:gs pos="100000">
                  <a:srgbClr val="f68a3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strategias de organiz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80 Rectángulo redondeado"/>
            <p:cNvSpPr/>
            <p:nvPr/>
          </p:nvSpPr>
          <p:spPr>
            <a:xfrm>
              <a:off x="3348000" y="3716280"/>
              <a:ext cx="1871640" cy="43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a4906"/>
                </a:gs>
                <a:gs pos="100000">
                  <a:srgbClr val="f68a3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tención a la Divers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81 Rectángulo redondeado"/>
            <p:cNvSpPr/>
            <p:nvPr/>
          </p:nvSpPr>
          <p:spPr>
            <a:xfrm>
              <a:off x="539640" y="5084640"/>
              <a:ext cx="2389320" cy="577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1.2.- Criterios organiza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82 Rectángulo redondeado"/>
            <p:cNvSpPr/>
            <p:nvPr/>
          </p:nvSpPr>
          <p:spPr>
            <a:xfrm>
              <a:off x="3419640" y="4653000"/>
              <a:ext cx="1871640" cy="39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a4906"/>
                </a:gs>
                <a:gs pos="100000">
                  <a:srgbClr val="f68a3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inámica de Grup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83 Rectángulo redondeado"/>
            <p:cNvSpPr/>
            <p:nvPr/>
          </p:nvSpPr>
          <p:spPr>
            <a:xfrm>
              <a:off x="3419640" y="5229360"/>
              <a:ext cx="1873080" cy="446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spacios y tiemp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77 Rectángulo redondeado"/>
            <p:cNvSpPr/>
            <p:nvPr/>
          </p:nvSpPr>
          <p:spPr>
            <a:xfrm>
              <a:off x="5435640" y="1341360"/>
              <a:ext cx="2735280" cy="487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808080"/>
                </a:gs>
                <a:gs pos="100000">
                  <a:srgbClr val="99cc0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ocumentos institucionales: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Programaciones y Pla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77 Rectángulo redondeado"/>
            <p:cNvSpPr/>
            <p:nvPr/>
          </p:nvSpPr>
          <p:spPr>
            <a:xfrm>
              <a:off x="5435640" y="1916280"/>
              <a:ext cx="2735280" cy="487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808080"/>
                </a:gs>
                <a:gs pos="100000">
                  <a:srgbClr val="99cc0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dicadores secuenciados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e la Competencia Dig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77 Rectángulo redondeado"/>
            <p:cNvSpPr/>
            <p:nvPr/>
          </p:nvSpPr>
          <p:spPr>
            <a:xfrm>
              <a:off x="5508720" y="2492280"/>
              <a:ext cx="2735280" cy="487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808080"/>
                </a:gs>
                <a:gs pos="100000">
                  <a:srgbClr val="99cc0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Las TIC en el proceso enseñanza - aprendiza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77 Rectángulo redondeado"/>
            <p:cNvSpPr/>
            <p:nvPr/>
          </p:nvSpPr>
          <p:spPr>
            <a:xfrm>
              <a:off x="5508720" y="3141720"/>
              <a:ext cx="2735280" cy="487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808080"/>
                </a:gs>
                <a:gs pos="100000">
                  <a:srgbClr val="99cc0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isponibilidad de materiales y recurs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5219640" y="1628280"/>
              <a:ext cx="21600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219640" y="1989000"/>
              <a:ext cx="216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19640" y="278136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19640" y="335772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77 Rectángulo redondeado"/>
            <p:cNvSpPr/>
            <p:nvPr/>
          </p:nvSpPr>
          <p:spPr>
            <a:xfrm>
              <a:off x="5508720" y="3716280"/>
              <a:ext cx="2735280" cy="487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808080"/>
                </a:gs>
                <a:gs pos="100000">
                  <a:srgbClr val="99cc0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lumnos con Necesidades Específicas de Apoyo Educativ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219640" y="393372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84 Rectángulo redondeado"/>
            <p:cNvSpPr/>
            <p:nvPr/>
          </p:nvSpPr>
          <p:spPr>
            <a:xfrm>
              <a:off x="3419640" y="5805360"/>
              <a:ext cx="1871640" cy="41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a4906"/>
                </a:gs>
                <a:gs pos="100000">
                  <a:srgbClr val="f68a3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munic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03640" y="1773360"/>
              <a:ext cx="73080" cy="244764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63720 h 2447640"/>
                <a:gd name="textAreaBottom" fmla="*/ 2383920 h 24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32000" y="4653000"/>
              <a:ext cx="71640" cy="1584360"/>
            </a:xfrm>
            <a:custGeom>
              <a:avLst/>
              <a:gdLst>
                <a:gd name="textAreaLeft" fmla="*/ 45720 w 71640"/>
                <a:gd name="textAreaRight" fmla="*/ 72000 w 71640"/>
                <a:gd name="textAreaTop" fmla="*/ 41040 h 1584360"/>
                <a:gd name="textAreaBottom" fmla="*/ 154332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77 Rectángulo redondeado"/>
            <p:cNvSpPr/>
            <p:nvPr/>
          </p:nvSpPr>
          <p:spPr>
            <a:xfrm>
              <a:off x="5580000" y="5805360"/>
              <a:ext cx="2735280" cy="487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808080"/>
                </a:gs>
                <a:gs pos="100000">
                  <a:srgbClr val="99cc0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ntre docentes y alumnado y entre igu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92720" y="602136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95 Rectángulo redondeado"/>
          <p:cNvSpPr/>
          <p:nvPr/>
        </p:nvSpPr>
        <p:spPr>
          <a:xfrm>
            <a:off x="7236000" y="2133720"/>
            <a:ext cx="1454040" cy="393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52523"/>
              </a:gs>
              <a:gs pos="100000">
                <a:srgbClr val="ba4442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omogene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96 Rectángulo redondeado"/>
          <p:cNvSpPr/>
          <p:nvPr/>
        </p:nvSpPr>
        <p:spPr>
          <a:xfrm>
            <a:off x="5651640" y="2781360"/>
            <a:ext cx="187308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52523"/>
              </a:gs>
              <a:gs pos="100000">
                <a:srgbClr val="ba4442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ncos de Re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96 Rectángulo redondeado"/>
          <p:cNvSpPr/>
          <p:nvPr/>
        </p:nvSpPr>
        <p:spPr>
          <a:xfrm>
            <a:off x="7667640" y="2781360"/>
            <a:ext cx="1154160" cy="4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52523"/>
              </a:gs>
              <a:gs pos="100000">
                <a:srgbClr val="ba4442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t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79280" y="189000"/>
            <a:ext cx="8748720" cy="5111640"/>
            <a:chOff x="179280" y="189000"/>
            <a:chExt cx="8748720" cy="5111640"/>
          </a:xfrm>
        </p:grpSpPr>
        <p:sp>
          <p:nvSpPr>
            <p:cNvPr id="156" name="86 Rectángulo redondeado"/>
            <p:cNvSpPr/>
            <p:nvPr/>
          </p:nvSpPr>
          <p:spPr>
            <a:xfrm>
              <a:off x="3924360" y="333360"/>
              <a:ext cx="1944720" cy="43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tocol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85 Rectángulo redondeado"/>
            <p:cNvSpPr/>
            <p:nvPr/>
          </p:nvSpPr>
          <p:spPr>
            <a:xfrm>
              <a:off x="324000" y="2349360"/>
              <a:ext cx="3168360" cy="890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1.3.- Criterios organización de materiales didácticos T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87 Rectángulo redondeado"/>
            <p:cNvSpPr/>
            <p:nvPr/>
          </p:nvSpPr>
          <p:spPr>
            <a:xfrm>
              <a:off x="3924360" y="907920"/>
              <a:ext cx="2193840" cy="441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523"/>
                </a:gs>
                <a:gs pos="100000">
                  <a:srgbClr val="ba444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ersonal respons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88 Rectángulo redondeado"/>
            <p:cNvSpPr/>
            <p:nvPr/>
          </p:nvSpPr>
          <p:spPr>
            <a:xfrm>
              <a:off x="6300720" y="907920"/>
              <a:ext cx="1871640" cy="433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riterios Evalu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89 Rectángulo redondeado"/>
            <p:cNvSpPr/>
            <p:nvPr/>
          </p:nvSpPr>
          <p:spPr>
            <a:xfrm>
              <a:off x="3924360" y="1484280"/>
              <a:ext cx="1549440" cy="430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ecuenci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90 Rectángulo redondeado"/>
            <p:cNvSpPr/>
            <p:nvPr/>
          </p:nvSpPr>
          <p:spPr>
            <a:xfrm>
              <a:off x="5580000" y="1484280"/>
              <a:ext cx="1430280" cy="428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lasific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91 Rectángulo redondeado"/>
            <p:cNvSpPr/>
            <p:nvPr/>
          </p:nvSpPr>
          <p:spPr>
            <a:xfrm>
              <a:off x="3924360" y="2133720"/>
              <a:ext cx="1800000" cy="43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523"/>
                </a:gs>
                <a:gs pos="100000">
                  <a:srgbClr val="ba444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lmacen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92 Rectángulo redondeado"/>
            <p:cNvSpPr/>
            <p:nvPr/>
          </p:nvSpPr>
          <p:spPr>
            <a:xfrm>
              <a:off x="7093080" y="1484280"/>
              <a:ext cx="1295280" cy="43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523"/>
                </a:gs>
                <a:gs pos="100000">
                  <a:srgbClr val="ba444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cce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93 Rectángulo redondeado"/>
            <p:cNvSpPr/>
            <p:nvPr/>
          </p:nvSpPr>
          <p:spPr>
            <a:xfrm>
              <a:off x="5867280" y="2133720"/>
              <a:ext cx="1297080" cy="43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523"/>
                </a:gs>
                <a:gs pos="100000">
                  <a:srgbClr val="ba444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evis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94 Rectángulo redondeado"/>
            <p:cNvSpPr/>
            <p:nvPr/>
          </p:nvSpPr>
          <p:spPr>
            <a:xfrm>
              <a:off x="3924360" y="2781360"/>
              <a:ext cx="1511280" cy="43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523"/>
                </a:gs>
                <a:gs pos="100000">
                  <a:srgbClr val="ba444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aduc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98 Rectángulo redondeado"/>
            <p:cNvSpPr/>
            <p:nvPr/>
          </p:nvSpPr>
          <p:spPr>
            <a:xfrm>
              <a:off x="3924360" y="3500280"/>
              <a:ext cx="2087640" cy="433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cceso libros digit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122 Rectángulo redondeado"/>
            <p:cNvSpPr/>
            <p:nvPr/>
          </p:nvSpPr>
          <p:spPr>
            <a:xfrm>
              <a:off x="3924360" y="4149720"/>
              <a:ext cx="219240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a4906"/>
                </a:gs>
                <a:gs pos="100000">
                  <a:srgbClr val="f68a3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tención a la Divers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77 Rectángulo redondeado"/>
            <p:cNvSpPr/>
            <p:nvPr/>
          </p:nvSpPr>
          <p:spPr>
            <a:xfrm>
              <a:off x="6516720" y="4076640"/>
              <a:ext cx="2411280" cy="631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808080"/>
                </a:gs>
                <a:gs pos="100000">
                  <a:srgbClr val="99cc0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lumnos con Necesidades Específicas de Apoyo Educativ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35280" y="260280"/>
              <a:ext cx="216000" cy="504036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131400 h 5040360"/>
                <a:gd name="textAreaBottom" fmla="*/ 4908960 h 504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74 Rectángulo redondeado"/>
            <p:cNvSpPr/>
            <p:nvPr/>
          </p:nvSpPr>
          <p:spPr>
            <a:xfrm>
              <a:off x="179280" y="189000"/>
              <a:ext cx="3168720" cy="606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1.- INTEGRACIÓN CURRICUL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97 Rectángulo redondeado"/>
            <p:cNvSpPr/>
            <p:nvPr/>
          </p:nvSpPr>
          <p:spPr>
            <a:xfrm>
              <a:off x="3924360" y="4797360"/>
              <a:ext cx="3024000" cy="433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aptación y creación de materi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6360" y="43657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08:32:19Z</dcterms:created>
  <dc:creator>jcyl</dc:creator>
  <dc:description/>
  <dc:language>en-US</dc:language>
  <cp:lastModifiedBy>jcyl</cp:lastModifiedBy>
  <dcterms:modified xsi:type="dcterms:W3CDTF">2013-11-27T12:18:31Z</dcterms:modified>
  <cp:revision>43</cp:revision>
  <dc:subject/>
  <dc:title>ORIENTACIONES PARA LA ELABORACIÓN DE UN: </dc:title>
</cp:coreProperties>
</file>