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A1E-0933-4AB8-805C-DE9F6C7F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414-539D-4C89-82BA-0C349EA1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50F-580E-4F3A-896B-53A02B36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75E-D1CD-4DA8-BE53-F0157831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F5A-32AF-4CAB-8397-912975B5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8C6-7473-44ED-98A7-19401761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682-7D7F-4A7A-9F8A-D48581BF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340-65D0-41B5-A5E6-097A50C1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03D-04FB-48CB-B75B-F615F1DC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CA8-EFC9-46F5-AAB8-6BE12778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505-7E4B-47C2-85D9-17A5367B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950-48FF-47CC-B843-47F1D29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CC03-8BCF-4D57-904E-2139F3F1EF4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Users/USUARIO/Desktop/CURSO1314/EOEP-SEDE/FORMACI&#211;N_DSMV/DSM-V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6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51E-DA97-4E1E-9910-504439D1B57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15 Rectángulo redondeado"/>
          <p:cNvGrpSpPr/>
          <p:nvPr/>
        </p:nvGrpSpPr>
        <p:grpSpPr>
          <a:xfrm>
            <a:off x="2011320" y="2676600"/>
            <a:ext cx="4541760" cy="682560"/>
            <a:chOff x="2011320" y="2676600"/>
            <a:chExt cx="4541760" cy="682560"/>
          </a:xfrm>
        </p:grpSpPr>
        <p:pic>
          <p:nvPicPr>
            <p:cNvPr id="45" name="15 Rectángulo redondeado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011320" y="2676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100240" y="27432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48" name="17 Rectángulo redondeado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19 Rectángulo redondeado"/>
          <p:cNvGrpSpPr/>
          <p:nvPr/>
        </p:nvGrpSpPr>
        <p:grpSpPr>
          <a:xfrm>
            <a:off x="1865160" y="4962600"/>
            <a:ext cx="4548240" cy="682560"/>
            <a:chOff x="1865160" y="4962600"/>
            <a:chExt cx="4548240" cy="682560"/>
          </a:xfrm>
        </p:grpSpPr>
        <p:pic>
          <p:nvPicPr>
            <p:cNvPr id="51" name="19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86516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95732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54" name="22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57" name="24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4 Rectángulo redondeado"/>
          <p:cNvGrpSpPr/>
          <p:nvPr/>
        </p:nvGrpSpPr>
        <p:grpSpPr>
          <a:xfrm>
            <a:off x="4084560" y="5608800"/>
            <a:ext cx="4541760" cy="682560"/>
            <a:chOff x="4084560" y="5608800"/>
            <a:chExt cx="4541760" cy="682560"/>
          </a:xfrm>
        </p:grpSpPr>
        <p:pic>
          <p:nvPicPr>
            <p:cNvPr id="60" name="14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084560" y="56088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172040" y="567216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3D55-8F57-4138-9C06-AB27E6D46AB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15 Rectángulo redondeado"/>
          <p:cNvGrpSpPr/>
          <p:nvPr/>
        </p:nvGrpSpPr>
        <p:grpSpPr>
          <a:xfrm>
            <a:off x="725400" y="2322360"/>
            <a:ext cx="8047080" cy="4035600"/>
            <a:chOff x="725400" y="2322360"/>
            <a:chExt cx="8047080" cy="4035600"/>
          </a:xfrm>
        </p:grpSpPr>
        <p:pic>
          <p:nvPicPr>
            <p:cNvPr id="66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2322360"/>
              <a:ext cx="804708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77760" y="2549520"/>
              <a:ext cx="754560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Aproximación alternativa al diagnóst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para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 como un continuo. Nivel de desajuste global actu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- con rasgo específico (desajuste moderado de la personalidad y presencia de rasgos patológico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69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24 Rectángulo redondeado"/>
          <p:cNvGrpSpPr/>
          <p:nvPr/>
        </p:nvGrpSpPr>
        <p:grpSpPr>
          <a:xfrm>
            <a:off x="225360" y="1536840"/>
            <a:ext cx="4541760" cy="682560"/>
            <a:chOff x="225360" y="1536840"/>
            <a:chExt cx="4541760" cy="682560"/>
          </a:xfrm>
        </p:grpSpPr>
        <p:pic>
          <p:nvPicPr>
            <p:cNvPr id="72" name="2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153684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14280" y="1600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5" name="10 Flecha izquierda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7BE5-72FB-4AE3-A537-42A0942C396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15 Rectángulo redondeado"/>
          <p:cNvGrpSpPr/>
          <p:nvPr/>
        </p:nvGrpSpPr>
        <p:grpSpPr>
          <a:xfrm>
            <a:off x="512640" y="1676520"/>
            <a:ext cx="4540320" cy="682560"/>
            <a:chOff x="512640" y="1676520"/>
            <a:chExt cx="4540320" cy="682560"/>
          </a:xfrm>
        </p:grpSpPr>
        <p:pic>
          <p:nvPicPr>
            <p:cNvPr id="81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512640" y="1676520"/>
              <a:ext cx="4540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00120" y="17431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84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14 Rectángulo redondeado"/>
          <p:cNvGrpSpPr/>
          <p:nvPr/>
        </p:nvGrpSpPr>
        <p:grpSpPr>
          <a:xfrm>
            <a:off x="512640" y="2535120"/>
            <a:ext cx="8113680" cy="3756240"/>
            <a:chOff x="512640" y="2535120"/>
            <a:chExt cx="8113680" cy="3756240"/>
          </a:xfrm>
        </p:grpSpPr>
        <p:pic>
          <p:nvPicPr>
            <p:cNvPr id="87" name="1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535120"/>
              <a:ext cx="8113680" cy="37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49160" y="2749680"/>
              <a:ext cx="7645680" cy="32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TP (7 criterios de desajust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Del yo: identidad y auto-dire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Interpersonal: empatía e intim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valuación de los rasgos patológicos: afectividad negativa, distanciamiento, antagonismo, desinhibición, psicoticismo. Otros 25 específ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0" name="10 Flecha izquierda" descr=""/>
            <p:cNvPicPr/>
            <p:nvPr/>
          </p:nvPicPr>
          <p:blipFill>
            <a:blip r:embed="rId4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A440-6A97-4621-94D3-CB7A0C8C910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96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99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Paran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02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05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08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típi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1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DA13-C5B5-4657-95F3-D88AC0DE5A5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17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20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ANTISO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23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26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29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HISTRIO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9 Rectángulo redondeado"/>
          <p:cNvGrpSpPr/>
          <p:nvPr/>
        </p:nvGrpSpPr>
        <p:grpSpPr>
          <a:xfrm>
            <a:off x="798480" y="4748040"/>
            <a:ext cx="4541760" cy="682920"/>
            <a:chOff x="798480" y="4748040"/>
            <a:chExt cx="4541760" cy="682920"/>
          </a:xfrm>
        </p:grpSpPr>
        <p:pic>
          <p:nvPicPr>
            <p:cNvPr id="132" name="9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98480" y="4748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85960" y="4815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NARCIS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1 Flecha izquierda" descr=""/>
            <p:cNvPicPr/>
            <p:nvPr/>
          </p:nvPicPr>
          <p:blipFill>
            <a:blip r:embed="rId7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EE31-9659-4029-BF01-8D4148EAC54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41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44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VA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47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50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DEPENDIEN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53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OBSESIVO-COMPUL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6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23:42:51Z</dcterms:created>
  <dc:creator>USUARIO</dc:creator>
  <dc:description/>
  <dc:language>en-US</dc:language>
  <cp:lastModifiedBy>USUARIO</cp:lastModifiedBy>
  <dcterms:modified xsi:type="dcterms:W3CDTF">2014-06-02T00:00:41Z</dcterms:modified>
  <cp:revision>6</cp:revision>
  <dc:subject/>
  <dc:title>DSM-V</dc:title>
</cp:coreProperties>
</file>