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D6A-4698-411D-BAD9-AA0CEEEA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C49-6570-4AE6-8632-6C59B577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C2C-A838-47F5-B14C-23280FB4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3B9-5837-4656-A745-71850B03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014-280E-477D-83B7-0300E09A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808-10AF-49DE-A949-05416C3B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2F5-FACB-40B9-B138-495CFA9F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7EB-A87E-4ACA-B1CE-6036315C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03E-0D53-4E56-89E0-A9E11EC4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1A7-5495-469E-94E6-5858596C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BA8-7DC1-4099-B0A9-BF837466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4D5-2760-4FB8-9690-52CFB5A7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6509-06D8-4AB7-A17A-D368521C1B7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por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Otro trastorno relacionados con trauma y estresore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A836-5D65-4B35-9235-89D63E05AEE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 con los trastornos de estré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gra algunos que aparecían con los trastornos de ansiedad y otros que estaban dentro de la categoría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significativos en el trastorno de estrés postraumático (eventos más explícitos, desaparece el criterio A2, cuatro grupos de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 separados para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estrés agudo, directo o indirecto. Eliminación criterio A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vinculación reactivo,  y trastorno de la actividad social desinhibida (trastornos separad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A22C-16B3-4F49-9851-12CAD9139DB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7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, pero separa los dos tipos (inhibido y desinhibido), como trastorno de la vinculación reactivo y trastorno de la actividad social desinhib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el trastorno de vinculación reactivo especifica más los indicadores y añade varios criterios de exclu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constante de conducta inhibida, emocional retraída hacia adultos cuidadores: falta de búsqueda de consuelo, o falta de respuesta cuando se consuel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ersistente alteración social: mínima respuesta social, limitado afecto positivo, episodios de irritabilidad inexplic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insuficientes cuidado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criterios de TEA. Antes de l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E17C-C803-407C-8D49-FE6C469871E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niño se acerca activamente a adultos no familiares: reducida reticencia a acercarse, conducta excesivamente familiar, reducida comprobación de la opinión de los adultos cuidadores, disposición a ir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s conductas no se limitan a impulsiv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cuidados insuficiente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9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4F1D-09E9-436F-B8FC-A4D44BC631C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 adultos y mayores de 6 años, de los niños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dultos: exposición a muerte real o peligro de muerte, lesiones o violencia sexual (4 criterios); presencia de síntomas intrusivos (recuerdos recurrentes, sueños, sensación de que el acontecimiento está sucediendo, malestar ante estímulos que lo recuerdan); evitación de estímulos asociados al trauma (7 criterios); alteraciones negativas de las cogniciones (7 criterios); alteraciones de la activación y reactividad (6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disociativos (despersonalización, desrealización), inicio demo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niños: exposición a muerte real o peligro de muerte, lesiones o violencia sexual (2 criterios); presencia de síntomas intrusivos (recuerdos recurrentes, sueños, sensación de que el acontecimiento está sucediendo, malestar ante estímulos que lo recuerdan); evitación de estímulos asociados al trauma (5 criterios); alteraciones negativas de las cogniciones (5 criterios); alteraciones de la activación y reactividad (5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626-FC16-4537-8438-488E690619E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exposición a muerte real o peligro de muerte, lesiones o violencia sexual (4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intrusivos (recuerdos recurrentes, sueños, sensación de que el acontecimiento está sucediendo, malestar ante estímulos que lo recuerdan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 de evitación de estímulos asociados al trauma (2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fecto negativo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isociativos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ctivación (5): problemas de sueños, irritabilidad, hiper-vigilancia, concentración, respuestas exageradas de sobresalt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ción mínima 3 días y un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E498-10DF-49D2-B5E6-FCE165A9496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emocionales o de conducta e respuesta a estresores, dentro de los tres meses siguientes al evento, con malestar y deterioro social significativo. No persisten más de 6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responden a due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ánimo depresivo, ansiedad, mixto, alteraciones del comportamiento, mixto con alteraciones emocionales y comportamiento, no especifi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7D93-337A-416F-9CAF-9DA9926D27A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13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6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RELACIONADOS CON TRAUMA Y ESTRES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relacionados con trauma y estresores” más la razón especi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FFDA-47C3-4D8E-BFCA-A707A90A150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2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7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28:38Z</dcterms:modified>
  <cp:revision>26</cp:revision>
  <dc:subject/>
  <dc:title>DSM-V</dc:title>
</cp:coreProperties>
</file>