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0DE-613B-4D45-9CE3-E8E7EC17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BAC-D478-4423-84F4-F28C9357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B63-CE7D-4C5B-8079-F89402D3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620-88C6-4DB3-A404-6C966461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A70-BC70-4B21-ADBA-8546976F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912-C264-452E-B187-D488251C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ABA-8574-4D9E-8AD1-5924DBA2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8AE-D72A-4450-95EE-A9233698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D4F-4152-457F-ABA8-02E4248D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DAE-591C-4CD3-90C9-C9E2198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139-C957-43D2-8071-AB418D8B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A34-5CB0-4F87-8CDA-27803438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334-294F-429B-8DA4-3774D77AA44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image" Target="../media/image1.png"/><Relationship Id="rId14" Type="http://schemas.openxmlformats.org/officeDocument/2006/relationships/slide" Target="slide2.xm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ansiedad por sepa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Mutismo selec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Fobia específ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ansiedad social (fobia so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 pán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Agorafo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de ansiedad generaliz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 ansiedad inducido por sustancias/medicam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rastorno de ansiedad debido a otra afección méd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Otro trastorno de ansiedad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Trastorno de ansiedad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1D5F-DC05-42C7-BF6A-74288F73E8F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 ANSIEDAD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limitados, no ansiedad generalizada que ocurre menos días, ataques de viento, ataque de nerv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3E9D-697C-4E32-A8AE-EDC4FCF9D51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4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2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trastorno TOC (nuevo capítulo), de estrés postraumático y trastorno de estrés y se mueven a otros capítulos específ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en criterios para fobia específica  (duración 6 meses, reconocer que la ansiedad es excesiva para mayores de 18 años) y trastorno de ansiedad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son un especific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pánico y agorafobia se diagnostíian por sepa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incluyen el mutismo selectivo y el trastorno de ansiedad por separ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3465-51B1-4880-AE41-FE03D49E15D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POR SEPA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 criterio de inicio antes de los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nsiedad excesiva por separación del hogar o de las personas vinculadas: malestar, preocupación excesiva, negativa a salir, miedo a estar solo, pesadillas, quejas de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4 semanas en niños y 6 o más en adul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6F19-1F7A-4504-9BF7-CFB1EEF46B5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MUTISMO SEL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 respecto a DSM-IV-TR (5 criterios) referidos al fracaso a hablar en situaciones sociales, interfiere en el rendimiento social, al menos 1 mes, no debido a falta de lenguaje y otro trastorno de la comun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624-3FFA-4059-8B4D-4BC7BC23BAA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FOBIA ESPECÍF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ustanciales, pero desaparece la irracionalidad del miedo (no debe reconocers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temporal para todas las edades: 6 me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 Temor acusado o ansiedad hacia objeto o situación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animal, ambiental, sangre-inyecciones, situacional u otros tip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5EA-54EE-4346-8BAC-BD399887BFD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ismo contenido que en DSM-IV-TR, con criterios un poco más extens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iguales a los de fobia específica: Criterio temporal para todas las edades: 6 meses; y criterios:  Temor acusado o ansiedad hacia situación social , con miedo a ser evaluados negativamente, y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73FB-745F-44E6-9FF6-F4DCC531120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PÁ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inesperados y recidivantes / recurrentes. Aparición súbita de miedo o malestar intenso, con al menos cuatro de los trece síntomas (palpitaciones, sudoración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crisis han durado al menos una vez un mes, con 1 síntoma de inquietud persistente o cambio significativo de comporta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sustancias o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ener en cuenta síntomas específicos cultur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 de ataque de angustia (no es un trastorno mental), y puede aparecer durante el transcurso de otros trastorno mentales. Trec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DDC4-FAA2-4FA1-99E4-B9487BAD866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GORAFO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situaciones agorafóbicas deben ser dos ( 5 posibles), independiente del trastorno de pánico, pudiendo codificar ambos al mismo tiem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de evitación o temor a las situaciones, creencia de dificultad para escapar de e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GENE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mantienen los criterios, solo cambia criterio de duración: 6 meses, en los que ocurre más días que no los criterios (3 o má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6ED5-C8A8-4EF0-8E0F-8BB7D243D83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SIEDAD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C57-9C6A-4881-A798-737CE59156F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1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3:19:51Z</dcterms:modified>
  <cp:revision>35</cp:revision>
  <dc:subject/>
  <dc:title>Diapositiva 1</dc:title>
</cp:coreProperties>
</file>