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3E0A-C8EB-4150-94A7-A89AC7BC0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69BE-3194-4D2B-9712-27B955F4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10AF-3FE9-427A-99E9-F522B5332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8330-364A-4D04-AF5A-89C3D7A5E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5E09-BE2F-4ED1-960D-C9A83108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4D6C-B683-48DA-8DDD-86E4C07E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69F3-6433-417E-82EB-BC8EDB2C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1133-9E04-457C-85AB-788F4069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E18F-5A9D-4146-8F27-2E903A07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909D-2F46-43B2-9267-9DBF719F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A285-7579-473D-A586-700583CE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121D-7016-48D9-B3E8-1C40B324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FE67-5882-4500-BE2B-5E493A43F92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SM-V.ppt" TargetMode="Externa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9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9.xml"/><Relationship Id="rId10" Type="http://schemas.openxmlformats.org/officeDocument/2006/relationships/image" Target="../media/image1.png"/><Relationship Id="rId11" Type="http://schemas.openxmlformats.org/officeDocument/2006/relationships/slide" Target="slide2.xml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7160" y="2357280"/>
            <a:ext cx="785808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rastorno de desregulación emocional disrupt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rastorno depresivo may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rastorno depresivo persistente (distim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rastorno disfórico premestr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Trastorno depresivo inducido por sustancias/medic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Trastorno depresivo debido a otra condición méd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Otros trastorno depresivo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Trastorno depresivo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A7F5-A821-42B0-A5A2-C1DD805059C3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47" name="10 Rectángulo redondeado" descr=""/>
            <p:cNvPicPr/>
            <p:nvPr/>
          </p:nvPicPr>
          <p:blipFill>
            <a:blip r:embed="rId10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11 Rectángulo redondeado"/>
          <p:cNvGrpSpPr/>
          <p:nvPr/>
        </p:nvGrpSpPr>
        <p:grpSpPr>
          <a:xfrm>
            <a:off x="725400" y="1322280"/>
            <a:ext cx="5327640" cy="750960"/>
            <a:chOff x="725400" y="1322280"/>
            <a:chExt cx="5327640" cy="750960"/>
          </a:xfrm>
        </p:grpSpPr>
        <p:pic>
          <p:nvPicPr>
            <p:cNvPr id="50" name="11 Rectángulo redondeado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725400" y="1322280"/>
              <a:ext cx="532764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817560" y="1389240"/>
              <a:ext cx="5151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Cambios en DSM-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SPECTOS DESTAC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parado de otros trastornos del ánimo (en DSM-IV-TR dentro de esa categoría). Capítulo aparte de los trastornos bipolar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o trastorno en la etapa de infancia: desregulación emocional disruptivo. Hasta los 18 años, por irritabilidad persistente y episodios de descontrol conductual extrem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l episodio depresivo pasa a ser la definición de trastorno depresivo mayo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 crea trastorno depresivo persistente (agrupa trastorno depresivo mayor y distimia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 añade el especificador “con síntomas mixtos, cuando se cumple varios síntomas de episodio manía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 elimina el criterio de “ 2 meses después de fallecimiento” para diagnóstico de trastorno depresivo mayor en duelo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l trastorno  disfórico premenstrual abandona el trastorno depresivo “no especificado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0F74-6114-4F46-9088-92C7D8A86E48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58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61" name="11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DISREGULACIÓN DISRUPTIVA DEL ESTADO DE ÁNI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, para evitar sobre-diagnóstico y excesivo tratamiento en ni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Graves pataletas verbales y/o conductuales, desproporcionadas en intensidad y duración. No acordes al nivel de desarroll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Frecuencia: 3 o más veces por semana. Duración: al menos 12 meses, sin 2 o más meses sin síntomas. Ambientes: al menos en dos (casa, escuela, compañero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tado de ánimo persistentemente irritable, enfadado cada día y observable por otr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ntre los 6 y los 18 años. Aparece antes de los 10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pisodio maniaco o hipomaniaco: todos los criterios, nunca más de 1 dí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deben ocurrir durante un trastorno depresivo mayor u otro trastorno ment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5764-1D90-4673-BCF0-CAA79FA50FD4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69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12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72" name="12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9 Rectángulo redondeado"/>
          <p:cNvSpPr/>
          <p:nvPr/>
        </p:nvSpPr>
        <p:spPr>
          <a:xfrm>
            <a:off x="642960" y="2214720"/>
            <a:ext cx="8215200" cy="4214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57160" y="2285640"/>
            <a:ext cx="78580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PRESIVO MAY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inco síntomas durante 2 semanas, uno será estado de ánimo depresivo la mayor parte del día (en niños puede ser irritable) y pérdida de interés o capacidad para el placer, además d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Pérdida importante de peso, pérdida o aumento de apetit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Insomnio, hipersom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Agitación o enlentecimiento psicomotor. Fatiga o pérdida de energí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Sentimiento de inutilidad o culpa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Disminución de l a capacidad para concentrar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Pensamiento recurrentes de muerte, ideación suicida o tentativa o plan específic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alestar clínico significativo y deterioro social, laboral o otras áre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debido a una sustancia o enfermedad méd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ha habido episodio maniaco o hipomaníac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malestar ansioso, características mixtas, melancólicas, atípicas, catatonia, comienzo en el post-parto, patrón estacional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756A-DD22-4416-8467-93D340757658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80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83" name="11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57160" y="2286000"/>
            <a:ext cx="78580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PRESIVO PERSISTE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nsolidación del trastorno distímico y del trastorno depresivo crónic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tado de ánimo triste  durante al menos dos años. En niños puede ser irritable, al menos 1 año. C. No ha estado dos meses sin síntom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resencia de dos o más síntoma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Pérdida o aumento de apetito; Insomnio, hipersomnia; Fatiga o pérdida de energía; Baja autoestima; Disminución de l a capacidad para concentrarse; Sentimientos de desesperanz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ha habido episodio maniaco o hipomaníaco. No debido a sustancia o enfermeda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malestar ansioso, características mixtas, melancólicas, atípicas, comienzo en el post-parto, 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remisión total o parcial; comienzo temprano o tardío; c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B920-6631-48E4-A66B-40754A2BC314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91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94" name="11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ISFÓRICO PREMESTR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bandona el grupo de trastorno no especificad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rincipales indicadores( 1 o más): labilidad emocional, irritabilidad, disforia y ansiedad , que ocurren repetidamente en el ciclo premenstru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íntomas combinados: disminución del interés, dificultad de concentración, letargia, cambio del apetito, cambio del sueño, sentido de estar sobrepasado, síntomas físic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Remiten después de la menstru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041B-07C0-4134-925C-46FE5CAEF58B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02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05" name="11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PRESIVO INDUCIDO POR SUSTANCIAS O MEDIC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esaparece el “trastorno del estado de ánimo inducido por sustancias” y aparecen dos: trastorno bipolar inducido/relacionado por sustancias/medicación y  trastorno depresivo inducido por sustancias/medic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lteración del estado de ánimo deprimid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urante o después de intoxicación de sustancia, síndrome de abstinencia o exposición a medic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parece en transcurso de deliriu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comienzo durante intoxicación o abstinenc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5 CuadroTexto"/>
          <p:cNvSpPr/>
          <p:nvPr/>
        </p:nvSpPr>
        <p:spPr>
          <a:xfrm>
            <a:off x="1054080" y="714240"/>
            <a:ext cx="41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Trastornos depre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F5D2-6E34-4A92-A7CA-8218A840360D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14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17" name="11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PRESIVO DEBIDO A OTRA CONDICIÓN MÉD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lteración del estado de ánimo deprimid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nsecuencia fisiológica de una enfermedad méd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parece en transcurso de deliriu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con características depresivas, de episodio depresivo mayor o mixt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5 CuadroTexto"/>
          <p:cNvSpPr/>
          <p:nvPr/>
        </p:nvSpPr>
        <p:spPr>
          <a:xfrm>
            <a:off x="1054080" y="714240"/>
            <a:ext cx="41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Trastornos depre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BABB-F67F-482A-B906-5C15F168AD32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26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29" name="11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OTRO TRASTORNO DEPRESIV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epresión breve recurrente(2-13 días, al menos 4 síntomas, al menos 1 vez al me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pisodio depresivo breve (4-13 días, al menos 4 síntoma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pisodio depresivo con síntomas insuficientes (al menos 1 síntoma, dos semana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POR SÍNTOMAS SOMÁTICOS Y RELACIONADOS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ando no hay suficiente información para diagnóstico más específic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con malestar ansioso, gravedad (4 niveles), síntomas mixt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5F0D-112F-48A6-85C2-14C79A7B597B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37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40" name="11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1:53:55Z</dcterms:created>
  <dc:creator>USUARIO</dc:creator>
  <dc:description/>
  <dc:language>en-US</dc:language>
  <cp:lastModifiedBy>USUARIO</cp:lastModifiedBy>
  <dcterms:modified xsi:type="dcterms:W3CDTF">2014-06-01T22:10:17Z</dcterms:modified>
  <cp:revision>30</cp:revision>
  <dc:subject/>
  <dc:title>Diapositiva 1</dc:title>
</cp:coreProperties>
</file>