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12D-4601-4754-B816-501FB909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287-C606-4193-A033-6D19A887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750-0240-440B-AFC1-46696898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888-8C86-4263-A208-DD7FAD8C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C28-11A4-4DBD-997B-C9BECE81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F7F-4753-4919-AF31-A020C702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C46-A08F-4143-AEA0-10099F81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D31-0C97-43FD-BA56-77660469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B98-540B-4048-A2C0-24E93ED5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D50-16E4-40BE-B87F-EEFD3B92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735-175A-455C-8924-CD55CFFF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84F-1708-46B3-96BA-2CF47AD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EA2D-8983-4040-819E-606060C0061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rum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vitación /restricción de la ingestión de al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 trastorno alimentario o de la ingestión de alimento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alimentario o de la ingestión de aliment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D4EC-6969-465A-A38E-D7E198939F7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corporación de trastornos de la infancia, niñez y adolescencia: Pica, rumiación; más el cambio de trastorno de la ingestión alimentaria en la infancia o de la niñez por  trastorno evitativo/restrictivo de la ingesta de comida (falta de interés por la comida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evitativo/restrictivo de la ingesta de comida aumenta de número d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ción de criterio de amenorrea de la anorexia y criterio temporal de la bulim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: trastorno por atracón. Cambio de criterio temporal: 1 por semana, durante 3 meses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9C04-C186-4B13-849A-F59054E1002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ingestión de sustancias no nutritivas, inadecuadas al nivel de desarrollo y no forma parte de practicas sociales o culturales. Período al meno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a ingesta aparece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46B4-4974-4406-A86D-2735F840066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RUMI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regurgitaciones repetidas de alimento. NO atribuible a alteración gastrointestinal u otra enfermedad médica. No ocurre en transcurso de anorexia, bulimia, atracón o trastorno de evitación/restricción de ingesta de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os síntomas aparecen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9568-4A96-4F28-8C3E-8C337EDE393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VITACIÓN/RESTRICCIÓN DE LA INGESTA DE COM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Cambio de nombre y de grupo (antes en trastorno de la infancia o de la niñez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cento en la aversión a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comida o alimentación, con manifestación en pérdida de peso significativa, deficiencia nutricional significativa, depende de nutrición oral, interferencia en el funcionamiento psico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por falta de disponibilidad de comida o práctica cultu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 durante anorexia o bulimia nerviosa ( no hay alteración de la imagen corporal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718E-5970-4CA8-AEBC-4F29FB87D8B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n el criterio A, el peso inferior al 85%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tricción de ingesta, lleva peso significativamente bajo respecto a lo esperado por edad, sexo, salud, trayecto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nso miedo a ganar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percepción del propio peso, exageración de la influencia del peso o form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btipos: restrictivo (dieta, ayuno o ejercicio intenso), compulsivo/purgativo(atracón o comportamiento purgativ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gravedad: IMC. Curso (remisión parcial o total). Gravedad: 4 niveles (leve ≥17 a extremo 1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2CAE-6DF1-4AB7-A5C2-9F216F78539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compensatorias para prevenir ganancia de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utoevaluación influida por el peso y la siluet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curso (remisión parcial o total) y gravedad: 4 niveles (leve 1-3 episodios/semana a extremo 14 o má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999B-DC59-4605-AA41-5FE82DA96FA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( no es una afección en estudio como en DSM-IV-TR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s a: comer más rápido, sentirse desagradablemente lleno, comer gran cantidad de comida aunque no sienta hambre, comer a solas por sentimiento de vergüenza, sentirse a disgusto con uno mismo, depresión o culp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al recordar los atrac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asocia a estrategias compensatorias ( no aparece en curso de anorexia o bul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B140-1D40-42BA-AD6C-50A16F1D075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ALI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alimentación” más la razón especifica: anorexia nerviosa atípica, bulimia nerviosa de baja frecuencia y/o de limitada duración, trastorno por atracón de baja frecuencia y/o de limitada duración, trastorno por purg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LIMENTA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90A9-3457-46CA-8743-141B3664DF4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38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2:38Z</dcterms:modified>
  <cp:revision>14</cp:revision>
  <dc:subject/>
  <dc:title>DSM-V</dc:title>
</cp:coreProperties>
</file>