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EDF-273A-4B7B-9262-3EF001C3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67A-E61D-4DF9-A688-3ABFFA0F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567-7EB6-45E0-B554-769C3D36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9E5-F7A4-40B2-9F77-93748EF7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00A-8532-4E30-8BD8-CCC6E02C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78B-1CAA-44E6-B2D4-4FB2E8A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6AC-99AF-4BD3-81A6-5F260E8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AF0-219F-4380-9E06-5951358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874-1269-4B4D-949A-0DDCE0A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FA9-7D52-43D5-BF3E-D02DEAB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D18-8488-40BD-B01D-6851AC6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ED1-A6AC-45E5-A214-D603564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0C7A-59FB-4AF6-AC9E-D159DFFFFF0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tro trastorno alimentario de la excreción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D64A-863D-4FDF-B5CB-2C098E66B55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ición de la categoría de trastornos de inicio en la infancia y la adolescencia y pasa a ser una categorí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vinculado de otros cuadros o trastornos por la alteración de hábitos básicos o por la edad de apari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39AD-E551-49C9-9CA8-7E90710B52A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misión repetida de orina en la cama o en la ropa (involuntaria o inten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2 episodios por semana en 3 meses consecutivos o malestar clínicamente significativo o deterioro social, académico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cronológica al men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sólo nocturna, sólo diurna, nocturna y diur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6AF-891F-4867-8E3A-02BE54665C9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vacuación repetida de heces, involuntaria o intencio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1 episodio al mes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: por lo menos 4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estreñimiento e incontinencia por rebosamiento o sin estreñimiento e incontinencia por rebosamiento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18A3-239E-46A9-A312-6F7DE45BEEC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EXCRE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excreción” más la razón especifica: baja frecuencia de enuresis o encopres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CF1-3FD7-4B2C-9EBC-E9D3AEB16B0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1:33Z</dcterms:modified>
  <cp:revision>20</cp:revision>
  <dc:subject/>
  <dc:title>DSM-V</dc:title>
</cp:coreProperties>
</file>