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BBD-D854-4743-84B4-49D1F2D8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1AD-F477-4456-A82D-C20A1B2E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E97-28C4-4CCC-9886-7D29B969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DCC-8253-49C7-9ED6-0116F655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941-D6A7-431F-B0A1-23D8CCE7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2FF-9E1D-4938-8FB6-492CDFE6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CF9-FAE8-4F97-9B0F-CEE9D5B0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016-A5AA-47B2-B8AD-7B10A4EC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82A-EF0E-4F96-B331-83A89BE3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3DC-0E0F-4BA6-943B-FFE231C2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20D-4869-4010-9BBA-0D61A9E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875-06E4-4279-98E5-7BBB4A2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10A9-F257-4297-904E-8AE530FFF40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2.xm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obsesivo-compulsivo (T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por excor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OC inducido por sustancias/medic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OC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Otro TOC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1EA7-6CF7-4EE2-8C9A-B5A1B8FBAB6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 obsesivo compuls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ja de considerarse trastorno de ansiedad y tiene entidad prop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grupa otros trastornos como dismórfico corporal o tricotilomanía (antes control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s: trastornos por acumulación y trastorno por excori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es: “con pobre insight” o introspección,  “relacionado con tics”, “dismorfia muscular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1417-0FC2-43F5-BC26-FB61E4A06AA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enos criterios para las obsesiones, elimina obligación que sean producto de su pensamiento. Elimina criterio B (irracionalidad de lo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obsesiones o compulsiones (2 criterios): pensamiento o impulsos recurrentes que causan ansiedad; intenta ignorar o suprimir los pensamientos; o comportamientos de carácter repetitivo en respuesta a una obse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ponen pérdida de tiempo, más de 1 hora la día o interfieren en la rutina dia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los síntomas de otros trastor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relacionado con tic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3FD5-3E07-4A76-9ED7-158C98E7022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 de capítulo (deja trastornos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ocupación con defectos percibidos en la apariencia física que no es observado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Ha realizado comportamientos repetitivos o actos mentales (compara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preocupaciones por el tamaño y la silueta (T. alimentació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smorfia muscular: preocupación por insuficiente múscu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2E37-141F-4956-85C6-38E59FDF316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ficultad persistente a deshacerse de las posesiones (necesidad de guardar los objetos) y le produce malest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orden o congestión de la vivien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otra condición méd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adquisición exces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1137-7EE1-4289-BED0-D79B5345BD7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ignificativos en los criterios (arrancamiento de cabello con pérdida perceptible), salvo la eliminación de la tensión/alivio al llevarlo a cab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XCORIACIÓN (RASCADO / ARRANCAMIENTO DE LA PI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Rascado o arrancamiento que provoca lesiones cutáneas, con intentos de disminuir o parar el rascado, ocupando gran cantidad de su tiempo, con deterioro social, con comportamientos o rituales asocia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7A64-08FA-4549-8EB0-F565621A14A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  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similares a TOC, rumiaciones sobre la apariencia, síntomas de acumulación, arrancamiento o ras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D34B-1131-4FDA-B0A6-D2A2C31D0D3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OC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2E87-6FF6-4496-8BAB-9C30F0B7955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42:12Z</dcterms:modified>
  <cp:revision>20</cp:revision>
  <dc:subject/>
  <dc:title>DSM-V</dc:title>
</cp:coreProperties>
</file>