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117-BC1E-4DD6-BD8B-9C91F45E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78C-8CE3-42F1-A78D-FC9B2D90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6C0F-D5D4-48BE-BA2F-FDA6510E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544-4779-449C-AD6B-5A2B6FA2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E76-BD64-42BD-90F2-CEC81BEE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F1A-5B5F-4830-B08A-93AF512B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E97-0746-4A86-897A-844F4C56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93BB-735E-4498-A8C3-B0E65D09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56EB-09DE-48DA-8BD7-DD053E1A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C1C-05DC-460F-824E-31C90388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F46-C294-4EDA-A740-89A5D1AF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B42-C4D8-43BD-88D4-5C09F93E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501E-CDCD-4C35-B55C-9058D6D02D4D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c9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717C-5FA2-4B0B-80AD-7F3EB591428E}" type="slidenum">
              <a:rPr b="0" lang="es-ES" sz="1200" spc="-1" strike="noStrike">
                <a:solidFill>
                  <a:srgbClr val="898c9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DSM-V_trastornosexcreci&#243;n.ppt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DSM-V_trastornosTOC.ppt" TargetMode="External"/><Relationship Id="rId4" Type="http://schemas.openxmlformats.org/officeDocument/2006/relationships/image" Target="../media/image4.png"/><Relationship Id="rId5" Type="http://schemas.openxmlformats.org/officeDocument/2006/relationships/hyperlink" Target="file:///DSM-V_trastornosdeansiedad.ppt" TargetMode="External"/><Relationship Id="rId6" Type="http://schemas.openxmlformats.org/officeDocument/2006/relationships/image" Target="../media/image5.png"/><Relationship Id="rId7" Type="http://schemas.openxmlformats.org/officeDocument/2006/relationships/hyperlink" Target="file:///DSM-V_trastornosalimentarios.ppt" TargetMode="External"/><Relationship Id="rId8" Type="http://schemas.openxmlformats.org/officeDocument/2006/relationships/image" Target="../media/image6.png"/><Relationship Id="rId9" Type="http://schemas.openxmlformats.org/officeDocument/2006/relationships/hyperlink" Target="file:///DSM-V_trastornostraumas.ppt" TargetMode="External"/><Relationship Id="rId10" Type="http://schemas.openxmlformats.org/officeDocument/2006/relationships/image" Target="../media/image7.png"/><Relationship Id="rId11" Type="http://schemas.openxmlformats.org/officeDocument/2006/relationships/hyperlink" Target="file:///DSM-V_trastornos%20personalidad.ppt" TargetMode="External"/><Relationship Id="rId12" Type="http://schemas.openxmlformats.org/officeDocument/2006/relationships/image" Target="../media/image8.png"/><Relationship Id="rId13" Type="http://schemas.openxmlformats.org/officeDocument/2006/relationships/hyperlink" Target="file:///DSM-V_trastornosconducta.ppt" TargetMode="External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3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1857240" y="1857240"/>
            <a:ext cx="5715000" cy="171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3 Rectángulo redondeado"/>
          <p:cNvSpPr/>
          <p:nvPr/>
        </p:nvSpPr>
        <p:spPr>
          <a:xfrm>
            <a:off x="2857680" y="571680"/>
            <a:ext cx="3643200" cy="1143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bcb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00120" y="1856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42c8"/>
                </a:solidFill>
                <a:latin typeface="Calibri"/>
              </a:rPr>
              <a:t>Reflexión sobre la nueva clasificación de los trastornos mentales frente a DSM-IV-TR</a:t>
            </a:r>
            <a:endParaRPr b="0" lang="en-US" sz="3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5" name="10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65A7-69A1-4876-B36B-033E9CB1E03D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1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47" name="12 Rectángulo redondeado"/>
          <p:cNvGrpSpPr/>
          <p:nvPr/>
        </p:nvGrpSpPr>
        <p:grpSpPr>
          <a:xfrm>
            <a:off x="3651120" y="4896000"/>
            <a:ext cx="2835360" cy="961920"/>
            <a:chOff x="3651120" y="4896000"/>
            <a:chExt cx="2835360" cy="961920"/>
          </a:xfrm>
        </p:grpSpPr>
        <p:pic>
          <p:nvPicPr>
            <p:cNvPr id="48" name="12 Rectángulo redondeado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651120" y="4896000"/>
              <a:ext cx="283536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755880" y="4970520"/>
              <a:ext cx="26323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4617b"/>
                  </a:solidFill>
                  <a:latin typeface="Calibri"/>
                </a:rPr>
                <a:t>ACCESO</a:t>
              </a:r>
              <a:endParaRPr b="0" lang="en-US" sz="32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ificultades de aprendizaje en (especificar si) :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en la lectura: precisión en la lectura de palabras, velocidad o fluidez  de la lectura, comprensión de la lectura. Dislex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es en la expresión escrita: corrección ortográfica,  gramatical y de la puntuación, claridad u organización de la expresión escrita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Con dificultad matemática: sentido de los números, memorización de operaciones, cálculo correcto o fluido, razonamiento matemático. Discalculia como término alternativ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3 niveles de gravedad: leve, moderado, grav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Registrar cada una de las áreas y subaptitudes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e deben cumplir los cuatro criterios diagnósticos: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4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4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44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 específico del aprendizaje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4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6885-8165-449F-829E-61F27775F1B5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l desarrollo de la coordinación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movimientos estereotipados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tics 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rastorno de la Tourette; trastorno de tics motores o vocales persistentes (solo motores o vocales); trastorno de tics transitori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50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51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52" name="5 CuadroTexto"/>
            <p:cNvSpPr/>
            <p:nvPr/>
          </p:nvSpPr>
          <p:spPr>
            <a:xfrm>
              <a:off x="1000080" y="714600"/>
              <a:ext cx="32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motor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5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26B7-35A2-468D-B775-4E04DFA89EAC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negativista desafiant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explosivo intermitent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nducta (agresión a personas o animales, destrucción de la propiedad, engaño o robo, incumplimiento grave de normas):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Tipo de inicio infantil, adolescente, no especificado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: con emociones prosociales limitadas, falta de remordimientos o culpabilidad, insensible – carente de empatía, despreocupado por su rendimiento, afecto superficial o deficiente. 3 niveles de gravedad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personalidad antisocial (dentro de trastornos de la personalidad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Piromanía, cleptomanía, TC no especificado, Otro TC especifica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58" name="6 Grupo"/>
          <p:cNvGrpSpPr/>
          <p:nvPr/>
        </p:nvGrpSpPr>
        <p:grpSpPr>
          <a:xfrm>
            <a:off x="785880" y="571680"/>
            <a:ext cx="4572000" cy="1428840"/>
            <a:chOff x="785880" y="571680"/>
            <a:chExt cx="4572000" cy="1428840"/>
          </a:xfrm>
        </p:grpSpPr>
        <p:sp>
          <p:nvSpPr>
            <p:cNvPr id="159" name="3 Rectángulo redondeado"/>
            <p:cNvSpPr/>
            <p:nvPr/>
          </p:nvSpPr>
          <p:spPr>
            <a:xfrm>
              <a:off x="785880" y="571680"/>
              <a:ext cx="4572000" cy="1428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0" name="5 CuadroTexto"/>
            <p:cNvSpPr/>
            <p:nvPr/>
          </p:nvSpPr>
          <p:spPr>
            <a:xfrm>
              <a:off x="1054800" y="714600"/>
              <a:ext cx="412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6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9383-5456-482D-A7FD-01DA9FC88B62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Problemas de relación: 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problemas relacionados con la educación familiar; problemas de relación con los hermanos; educación lejos de los padres; niño afectado por una relación parental conflictiva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Maltrato infantil y negligencia</a:t>
            </a:r>
            <a:r>
              <a:rPr b="1" lang="es-ES" sz="1800" spc="-1" strike="noStrike">
                <a:solidFill>
                  <a:srgbClr val="0042c8"/>
                </a:solidFill>
                <a:latin typeface="Calibri"/>
              </a:rPr>
              <a:t>: maltrato físico infantil, abuso sexual infantil, maltrato psicológico infantil  y negligencia infantil. En todos ellos puede ser confirmado o sospechado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Funcionamiento intelectual límite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66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sp>
          <p:nvSpPr>
            <p:cNvPr id="167" name="3 Rectángulo redondeado"/>
            <p:cNvSpPr/>
            <p:nvPr/>
          </p:nvSpPr>
          <p:spPr>
            <a:xfrm>
              <a:off x="785880" y="571680"/>
              <a:ext cx="4572000" cy="1428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68" name="5 CuadroTexto"/>
            <p:cNvSpPr/>
            <p:nvPr/>
          </p:nvSpPr>
          <p:spPr>
            <a:xfrm>
              <a:off x="1054800" y="714240"/>
              <a:ext cx="412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Otros problemas que pueden ser objeto de atención clínic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6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8F7E-5BBE-4A7B-9FED-6CFB01F8AC78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B99C-1E1C-4793-B23B-3095F0868956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grpSp>
        <p:nvGrpSpPr>
          <p:cNvPr id="53" name="15 Rectángulo redondeado"/>
          <p:cNvGrpSpPr/>
          <p:nvPr/>
        </p:nvGrpSpPr>
        <p:grpSpPr>
          <a:xfrm>
            <a:off x="79200" y="3535200"/>
            <a:ext cx="4548240" cy="682920"/>
            <a:chOff x="79200" y="3535200"/>
            <a:chExt cx="4548240" cy="682920"/>
          </a:xfrm>
        </p:grpSpPr>
        <p:pic>
          <p:nvPicPr>
            <p:cNvPr id="54" name="15 Rectángulo redondeado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9200" y="3535200"/>
              <a:ext cx="45482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71360" y="360036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la elimin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56" name="16 Rectángulo redondeado"/>
          <p:cNvGrpSpPr/>
          <p:nvPr/>
        </p:nvGrpSpPr>
        <p:grpSpPr>
          <a:xfrm>
            <a:off x="4651200" y="4248000"/>
            <a:ext cx="4548240" cy="684360"/>
            <a:chOff x="4651200" y="4248000"/>
            <a:chExt cx="4548240" cy="684360"/>
          </a:xfrm>
        </p:grpSpPr>
        <p:pic>
          <p:nvPicPr>
            <p:cNvPr id="57" name="16 Rectángulo redondeado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651200" y="4248000"/>
              <a:ext cx="4548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743360" y="4314960"/>
              <a:ext cx="43722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. Obsesivo-compulsiv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59" name="17 Rectángulo redondeado"/>
          <p:cNvGrpSpPr/>
          <p:nvPr/>
        </p:nvGrpSpPr>
        <p:grpSpPr>
          <a:xfrm>
            <a:off x="79200" y="4248000"/>
            <a:ext cx="4548240" cy="684360"/>
            <a:chOff x="79200" y="4248000"/>
            <a:chExt cx="4548240" cy="684360"/>
          </a:xfrm>
        </p:grpSpPr>
        <p:pic>
          <p:nvPicPr>
            <p:cNvPr id="60" name="17 Rectángulo redondeado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79200" y="4248000"/>
              <a:ext cx="454824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71360" y="4314960"/>
              <a:ext cx="437220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ansie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62" name="18 Rectángulo redondeado"/>
          <p:cNvGrpSpPr/>
          <p:nvPr/>
        </p:nvGrpSpPr>
        <p:grpSpPr>
          <a:xfrm>
            <a:off x="4651200" y="4962600"/>
            <a:ext cx="4548240" cy="682560"/>
            <a:chOff x="4651200" y="4962600"/>
            <a:chExt cx="4548240" cy="682560"/>
          </a:xfrm>
        </p:grpSpPr>
        <p:pic>
          <p:nvPicPr>
            <p:cNvPr id="63" name="18 Rectángulo redondeado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4651200" y="4962600"/>
              <a:ext cx="4548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743360" y="5029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la aliment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65" name="19 Rectángulo redondeado"/>
          <p:cNvGrpSpPr/>
          <p:nvPr/>
        </p:nvGrpSpPr>
        <p:grpSpPr>
          <a:xfrm>
            <a:off x="79200" y="4962600"/>
            <a:ext cx="4548240" cy="682560"/>
            <a:chOff x="79200" y="4962600"/>
            <a:chExt cx="4548240" cy="682560"/>
          </a:xfrm>
        </p:grpSpPr>
        <p:pic>
          <p:nvPicPr>
            <p:cNvPr id="66" name="19 Rectángulo redondeado" descr="">
              <a:hlinkClick r:id="rId9"/>
            </p:cNvPr>
            <p:cNvPicPr/>
            <p:nvPr/>
          </p:nvPicPr>
          <p:blipFill>
            <a:blip r:embed="rId10"/>
            <a:stretch/>
          </p:blipFill>
          <p:spPr>
            <a:xfrm>
              <a:off x="79200" y="4962600"/>
              <a:ext cx="4548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71360" y="502920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. de trauma y estresor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68" name="20 Rectángulo redondeado"/>
          <p:cNvGrpSpPr/>
          <p:nvPr/>
        </p:nvGrpSpPr>
        <p:grpSpPr>
          <a:xfrm>
            <a:off x="4651200" y="5681520"/>
            <a:ext cx="4548240" cy="676440"/>
            <a:chOff x="4651200" y="5681520"/>
            <a:chExt cx="4548240" cy="676440"/>
          </a:xfrm>
        </p:grpSpPr>
        <p:pic>
          <p:nvPicPr>
            <p:cNvPr id="69" name="20 Rectángulo redondeado" descr="">
              <a:hlinkClick r:id="rId11"/>
            </p:cNvPr>
            <p:cNvPicPr/>
            <p:nvPr/>
          </p:nvPicPr>
          <p:blipFill>
            <a:blip r:embed="rId12"/>
            <a:stretch/>
          </p:blipFill>
          <p:spPr>
            <a:xfrm>
              <a:off x="4651200" y="5681520"/>
              <a:ext cx="454824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743360" y="574344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 la personali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71" name="21 Rectángulo redondeado"/>
          <p:cNvGrpSpPr/>
          <p:nvPr/>
        </p:nvGrpSpPr>
        <p:grpSpPr>
          <a:xfrm>
            <a:off x="73080" y="5619600"/>
            <a:ext cx="4614840" cy="738360"/>
            <a:chOff x="73080" y="5619600"/>
            <a:chExt cx="4614840" cy="738360"/>
          </a:xfrm>
        </p:grpSpPr>
        <p:pic>
          <p:nvPicPr>
            <p:cNvPr id="72" name="21 Rectángulo redondeado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73080" y="5619600"/>
              <a:ext cx="461484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71360" y="574344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4617b"/>
                  </a:solidFill>
                  <a:latin typeface="Calibri"/>
                </a:rPr>
                <a:t>T. disruptivos, de control de impulsos y de la conducta</a:t>
              </a: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74" name="22 Rectángulo redondeado"/>
          <p:cNvGrpSpPr/>
          <p:nvPr/>
        </p:nvGrpSpPr>
        <p:grpSpPr>
          <a:xfrm>
            <a:off x="79200" y="2822400"/>
            <a:ext cx="4548240" cy="682920"/>
            <a:chOff x="79200" y="2822400"/>
            <a:chExt cx="4548240" cy="682920"/>
          </a:xfrm>
        </p:grpSpPr>
        <p:pic>
          <p:nvPicPr>
            <p:cNvPr id="75" name="22 Rectángulo redondeado" descr=""/>
            <p:cNvPicPr/>
            <p:nvPr/>
          </p:nvPicPr>
          <p:blipFill>
            <a:blip r:embed="rId15"/>
            <a:stretch/>
          </p:blipFill>
          <p:spPr>
            <a:xfrm>
              <a:off x="79200" y="2822400"/>
              <a:ext cx="45482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71360" y="288612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l neuro-desarroll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77" name="23 Rectángulo redondeado"/>
          <p:cNvGrpSpPr/>
          <p:nvPr/>
        </p:nvGrpSpPr>
        <p:grpSpPr>
          <a:xfrm>
            <a:off x="4651200" y="3535200"/>
            <a:ext cx="4548240" cy="682920"/>
            <a:chOff x="4651200" y="3535200"/>
            <a:chExt cx="4548240" cy="682920"/>
          </a:xfrm>
        </p:grpSpPr>
        <p:pic>
          <p:nvPicPr>
            <p:cNvPr id="78" name="23 Rectángulo redondeado" descr=""/>
            <p:cNvPicPr/>
            <p:nvPr/>
          </p:nvPicPr>
          <p:blipFill>
            <a:blip r:embed="rId16"/>
            <a:stretch/>
          </p:blipFill>
          <p:spPr>
            <a:xfrm>
              <a:off x="4651200" y="3535200"/>
              <a:ext cx="45482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743360" y="3600360"/>
              <a:ext cx="4372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grpSp>
        <p:nvGrpSpPr>
          <p:cNvPr id="80" name="24 Rectángulo redondeado"/>
          <p:cNvGrpSpPr/>
          <p:nvPr/>
        </p:nvGrpSpPr>
        <p:grpSpPr>
          <a:xfrm>
            <a:off x="2011320" y="1889280"/>
            <a:ext cx="4541760" cy="682560"/>
            <a:chOff x="2011320" y="1889280"/>
            <a:chExt cx="4541760" cy="682560"/>
          </a:xfrm>
        </p:grpSpPr>
        <p:pic>
          <p:nvPicPr>
            <p:cNvPr id="81" name="24 Rectángulo redondeado" descr=""/>
            <p:cNvPicPr/>
            <p:nvPr/>
          </p:nvPicPr>
          <p:blipFill>
            <a:blip r:embed="rId17"/>
            <a:stretch/>
          </p:blipFill>
          <p:spPr>
            <a:xfrm>
              <a:off x="2011320" y="1889280"/>
              <a:ext cx="45417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100240" y="1957320"/>
              <a:ext cx="43718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4617b"/>
                  </a:solidFill>
                  <a:latin typeface="Calibri"/>
                </a:rPr>
                <a:t>Principales cambios y estructur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9 Rectángulo redondeado"/>
          <p:cNvSpPr/>
          <p:nvPr/>
        </p:nvSpPr>
        <p:spPr>
          <a:xfrm>
            <a:off x="642960" y="2214720"/>
            <a:ext cx="6643800" cy="264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Eliminación del sistema multiaxia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Evaluación dimensional con diferentes escala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Organización evolutiva de los trastornos.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86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87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88" name="5 CuadroTexto"/>
            <p:cNvSpPr/>
            <p:nvPr/>
          </p:nvSpPr>
          <p:spPr>
            <a:xfrm>
              <a:off x="1000080" y="714600"/>
              <a:ext cx="221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Estructura y modificacion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8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B7E8-8A7C-4F6F-AD25-6D6B682A3B1A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8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c9d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l desarrollo intelectual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 la comunicación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 del espectro autista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 por déficit de la atención e hiperactividad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l aprendizaje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42c8"/>
                </a:solidFill>
                <a:latin typeface="Calibri"/>
              </a:rPr>
              <a:t>Trastornos de las habilidades motoras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94" name="6 Grupo"/>
          <p:cNvGrpSpPr/>
          <p:nvPr/>
        </p:nvGrpSpPr>
        <p:grpSpPr>
          <a:xfrm>
            <a:off x="785880" y="571680"/>
            <a:ext cx="3643200" cy="1334160"/>
            <a:chOff x="785880" y="571680"/>
            <a:chExt cx="3643200" cy="1334160"/>
          </a:xfrm>
        </p:grpSpPr>
        <p:sp>
          <p:nvSpPr>
            <p:cNvPr id="95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96" name="5 CuadroTexto"/>
            <p:cNvSpPr/>
            <p:nvPr/>
          </p:nvSpPr>
          <p:spPr>
            <a:xfrm>
              <a:off x="1000080" y="714600"/>
              <a:ext cx="221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neurodesarrollo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9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E2EA-1EBD-4AA5-BFD4-3C59902267B5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l desarrollo intelectual o discapacidad intelectual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global del desarrollo (men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No es posible valoración sistemática y no cumple los hitos de funcionamiento intelectual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intelectual no especificado (mayores de 5 años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97ba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  </a:t>
            </a:r>
            <a:r>
              <a:rPr b="1" lang="es-ES" sz="1800" spc="-1" strike="noStrike">
                <a:solidFill>
                  <a:srgbClr val="97baff"/>
                </a:solidFill>
                <a:latin typeface="Calibri"/>
              </a:rPr>
              <a:t>Cuando la valoración es difícil por procedimientos locales o deterioros sensoriales o físicos.</a:t>
            </a:r>
            <a:endParaRPr b="0" lang="en-US" sz="18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02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03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04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Discapacidades intelectuales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0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3204-D7FA-4522-AC0B-1B38E439EBD2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del desarrollo intelectual / discapacidad intelectual vs retraso mental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riterios: IQ + función adaptativa+ inicio en etapa de desarroll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Áreas de evaluación: razonamiento, resolución de problemas, pensamiento abstracto, juicio, aprendizaje académ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Instrumentos IQ y adaptación : estandarizados y validados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Gravedad actual: leve, moderado, grave, profun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ominios a valorar:  conceptual, social y práctic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10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11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12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desarrollo intelectual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1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3C84-B917-46B5-BF83-7A1A0AB0D3B8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 del lenguaje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fonológic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fluidez  de inicio en la infancia (tartamude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social (pragmático)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de la comunicación no especificad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18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19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20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 la comunicación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5A9D-D7A1-4120-9F70-8C322BBBEE06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Cambio de terminología: trastornos generalizados del desarrollo vs trastornos del espectro autist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saparecen las categorías diagnósticas independientes: Rett, Asperger.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Baremo de severidad de los síntomas o gravedad: 3 niveles de ayuda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Deficiencias persistentes en comunicación social (A) y patrones restrictivos y repetitivos (B)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Especificaciones: déficit intelectual, deterioro del lenguaje, asociado a afectación médica-genética-ambiental, asociado a trastorno del desarrollo neurológico, mental o del comportamiento.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26" name="6 Grupo"/>
          <p:cNvGrpSpPr/>
          <p:nvPr/>
        </p:nvGrpSpPr>
        <p:grpSpPr>
          <a:xfrm>
            <a:off x="785880" y="571680"/>
            <a:ext cx="3643200" cy="1143000"/>
            <a:chOff x="785880" y="571680"/>
            <a:chExt cx="3643200" cy="1143000"/>
          </a:xfrm>
        </p:grpSpPr>
        <p:sp>
          <p:nvSpPr>
            <p:cNvPr id="127" name="3 Rectángulo redondeado"/>
            <p:cNvSpPr/>
            <p:nvPr/>
          </p:nvSpPr>
          <p:spPr>
            <a:xfrm>
              <a:off x="785880" y="571680"/>
              <a:ext cx="3643200" cy="1143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28" name="5 CuadroTexto"/>
            <p:cNvSpPr/>
            <p:nvPr/>
          </p:nvSpPr>
          <p:spPr>
            <a:xfrm>
              <a:off x="1000080" y="714600"/>
              <a:ext cx="328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del espectro autista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2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F6E7-0EEA-43CA-9643-9C4BE3A096C0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8100000"/>
          </a:gra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206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Síntomas de inatención (6/9) e hiperactividad/impulsividad (6/9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Antes de los 12 años, en dos o más contextos y con interferencia funcional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presentación: combinada o predominante falta de atención o hiperactividad / impulsividad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r en remisión parcial y gravedad actual (3 nivele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Otro trastorno por déficit de atención con hiperactividad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Predominio de síntomas pero no cumple criterios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Especificación de motivos (síntomas)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42c8"/>
                </a:solidFill>
                <a:latin typeface="Calibri"/>
              </a:rPr>
              <a:t>Trastorno por déficit de atención con hiperactividad no especificado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42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0042c8"/>
                </a:solidFill>
                <a:latin typeface="Calibri"/>
              </a:rPr>
              <a:t>No se especifican los motivos y la información es insuficiente.</a:t>
            </a: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grpSp>
        <p:nvGrpSpPr>
          <p:cNvPr id="134" name="6 Grupo"/>
          <p:cNvGrpSpPr/>
          <p:nvPr/>
        </p:nvGrpSpPr>
        <p:grpSpPr>
          <a:xfrm>
            <a:off x="785880" y="428760"/>
            <a:ext cx="4214880" cy="1263600"/>
            <a:chOff x="785880" y="428760"/>
            <a:chExt cx="4214880" cy="1263600"/>
          </a:xfrm>
        </p:grpSpPr>
        <p:sp>
          <p:nvSpPr>
            <p:cNvPr id="135" name="3 Rectángulo redondeado"/>
            <p:cNvSpPr/>
            <p:nvPr/>
          </p:nvSpPr>
          <p:spPr>
            <a:xfrm>
              <a:off x="785880" y="428760"/>
              <a:ext cx="4214880" cy="12636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5560">
              <a:solidFill>
                <a:srgbClr val="bc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60"/>
                </a:solidFill>
                <a:latin typeface="Arial"/>
              </a:endParaRPr>
            </a:p>
          </p:txBody>
        </p:sp>
        <p:sp>
          <p:nvSpPr>
            <p:cNvPr id="136" name="5 CuadroTexto"/>
            <p:cNvSpPr/>
            <p:nvPr/>
          </p:nvSpPr>
          <p:spPr>
            <a:xfrm>
              <a:off x="1033560" y="586800"/>
              <a:ext cx="380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2060"/>
                  </a:solidFill>
                  <a:latin typeface="Calibri"/>
                </a:rPr>
                <a:t>Trastornos por déficit de atención e hiperactividad</a:t>
              </a:r>
              <a:endParaRPr b="0" lang="en-US" sz="2400" spc="-1" strike="noStrike">
                <a:solidFill>
                  <a:srgbClr val="002060"/>
                </a:solidFill>
                <a:latin typeface="Arial"/>
              </a:endParaRPr>
            </a:p>
          </p:txBody>
        </p:sp>
      </p:grpSp>
      <p:sp>
        <p:nvSpPr>
          <p:cNvPr id="13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5910-C02D-40A9-9BBC-48228AA648D5}" type="datetime">
              <a:rPr b="0" lang="es-ES" sz="1200" spc="-1" strike="noStrike">
                <a:solidFill>
                  <a:srgbClr val="898c9d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42c8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6T21:31:00Z</dcterms:created>
  <dc:creator>USUARIO</dc:creator>
  <dc:description/>
  <dc:language>en-US</dc:language>
  <cp:lastModifiedBy>USUARIO</cp:lastModifiedBy>
  <dcterms:modified xsi:type="dcterms:W3CDTF">2014-06-02T00:12:47Z</dcterms:modified>
  <cp:revision>46</cp:revision>
  <dc:subject/>
  <dc:title>DSM-V</dc:title>
</cp:coreProperties>
</file>