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8B30-506A-4F32-AE4A-6EB2AA4C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F05-F00A-443B-A4F5-5719A369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6A0-4E00-467E-92D1-F3734EC1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386F-74DF-4914-B4A3-076558F7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6F2-AB87-45A8-B49F-8ADC40B2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352-95F2-4631-B0CF-8AD93832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B44-3E20-4CC6-B278-EAF253E7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19B-8599-4496-945F-6CE79C00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5858-179E-4125-8232-CE89F846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63C-FF0E-455E-A39B-7D2DB8C2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66C-BDB3-4309-8258-39F2F94E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4D3-D432-44B6-880F-78AABE2B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0435-46F3-4F92-8C85-C7D8EB420B1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8.xml"/><Relationship Id="rId11" Type="http://schemas.openxmlformats.org/officeDocument/2006/relationships/image" Target="../media/image1.png"/><Relationship Id="rId12" Type="http://schemas.openxmlformats.org/officeDocument/2006/relationships/slide" Target="slide2.xml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obsesivo-compulsivo (TO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ismórfico cor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por acumu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icotil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por excor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OC inducido por sustancias/medic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TOC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Otro TOC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0" action="ppaction://hlinksldjump"/>
              </a:rPr>
              <a:t>TOC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B1BB-AA79-41D3-819F-3E9CFCCBBD7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47" name="11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 obsesivo compuls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2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50" name="12 Rectángulo redondeado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ja de considerarse trastorno de ansiedad y tiene entidad prop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grupa otros trastornos como dismórfico corporal o tricotilomanía (antes control de impuls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s: trastornos por acumulación y trastorno por excori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dores: “con pobre insight” o introspección,  “relacionado con tics”, “dismorfia muscular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C026-42DD-42CF-BB3C-38C83C9102F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61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OBSESIVO COMPULS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enos criterios para las obsesiones, elimina obligación que sean producto de su pensamiento. Elimina criterio B (irracionalidad de los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sencia de obsesiones o compulsiones (2 criterios): pensamiento o impulsos recurrentes que causan ansiedad; intenta ignorar o suprimir los pensamientos; o comportamientos de carácter repetitivo en respuesta a una obses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uponen pérdida de tiempo, más de 1 hora la día o interfieren en la rutina diar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mejor por los síntomas de otros trastorn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; relacionado con tic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72FD-5AFB-4E9B-AB94-3B713E917F1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72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ISMÓRFICO CORPO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mbio de capítulo (deja trastornos de impuls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ocupación con defectos percibidos en la apariencia física que no es observado por otr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Ha realizado comportamientos repetitivos o actos mentales (comparar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mejor por preocupaciones por el tamaño y la silueta (T. alimentación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ismorfia muscular: preocupación por insuficiente múscu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B41A-DA44-4547-B03C-F132C43E41E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83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ACUMUL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ificultad persistente a deshacerse de las posesiones (necesidad de guardar los objetos) y le produce malest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orden o congestión de la vivien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otra condición méd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ciencia de la enfermedad  buena o ajustada; poca conciencia de la enfermedad; sin conciencia de la enfermedad; adquisición excesiv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3F3F-006D-4C8E-BEB9-2D53A80916B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94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ICOTIL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y cambios significativos en los criterios (arrancamiento de cabello con pérdida perceptible), salvo la eliminación de la tensión/alivio al llevarlo a cab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EXCORIACIÓN (RASCADO / ARRANCAMIENTO DE LA PI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 Rascado o arrancamiento que provoca lesiones cutáneas, con intentos de disminuir o parar el rascado, ocupando gran cantidad de su tiempo, con deterioro social, con comportamientos o rituales asociad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3E5F-B757-400A-8851-DE4F051C18C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05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OC INDUCIDO POR MEDICACIÓN/SUSTANC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Obsesiones, compulsiones, rascado, arrancamiento de piel o cabello, característicos de TO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intoxicación por sustancias, abstinencia o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Obsesiones, compulsiones, rascado, arrancamiento de piel o cabello, característicos de TOC.  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similares a TOC, rumiaciones sobre la apariencia, síntomas de acumulación, arrancamiento o rasca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2798-D9B2-4990-9A7F-F77DDB6998E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16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OC ESPECIF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OC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3F00-39D7-4BAC-BD20-434D793FFE9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1 Rectángulo redondeado"/>
          <p:cNvGrpSpPr/>
          <p:nvPr/>
        </p:nvGrpSpPr>
        <p:grpSpPr>
          <a:xfrm>
            <a:off x="1054080" y="676440"/>
            <a:ext cx="4737240" cy="1396800"/>
            <a:chOff x="1054080" y="676440"/>
            <a:chExt cx="4737240" cy="1396800"/>
          </a:xfrm>
        </p:grpSpPr>
        <p:pic>
          <p:nvPicPr>
            <p:cNvPr id="127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3724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obsesivos compul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2T07:42:12Z</dcterms:modified>
  <cp:revision>20</cp:revision>
  <dc:subject/>
  <dc:title>DSM-V</dc:title>
</cp:coreProperties>
</file>