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83F2-2D0A-4EDA-8974-073664C4E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A174-64E5-4BC4-8CAE-259AD688E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73BB-5C6A-4DA3-93EA-BD40781F0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8D1B-E9DA-44D8-A4B5-63E9485E6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0103-C1AC-41A0-99F0-D86EE96A4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61F4-AED1-4721-B61B-593503755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F1DC-3EB2-4907-8CC4-E818ED8F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DC25-ED6B-4103-9DD8-4A063F1D6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6F15-583D-4013-BD58-F91DFE576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2671-608A-4BBD-8E09-0210B167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341A-1270-4E97-8A6E-CC009B3F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D63E-5960-4755-BCF2-8DDD89C3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FCD8D-4425-4A49-94EA-75C79857F69E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DSM-V.ppt" TargetMode="Externa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9.xml"/><Relationship Id="rId10" Type="http://schemas.openxmlformats.org/officeDocument/2006/relationships/image" Target="../media/image1.png"/><Relationship Id="rId11" Type="http://schemas.openxmlformats.org/officeDocument/2006/relationships/slide" Target="slide2.xml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P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rastorno de rumi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rastorno de evitación /restricción de la ingestión de aliment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Anorexia nervio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6" action="ppaction://hlinksldjump"/>
              </a:rPr>
              <a:t>Bulimia nervio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7" action="ppaction://hlinksldjump"/>
              </a:rPr>
              <a:t>Trastorno por atrac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8" action="ppaction://hlinksldjump"/>
              </a:rPr>
              <a:t>Otro trastorno alimentario o de la ingestión de alimentos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9" action="ppaction://hlinksldjump"/>
              </a:rPr>
              <a:t>Trastorno alimentario o de la ingestión de alimentos no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153DD-3C53-4444-9D6D-B4F8488A5B2C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11 Rectángulo redondeado"/>
          <p:cNvGrpSpPr/>
          <p:nvPr/>
        </p:nvGrpSpPr>
        <p:grpSpPr>
          <a:xfrm>
            <a:off x="1054080" y="676440"/>
            <a:ext cx="4718160" cy="1396800"/>
            <a:chOff x="1054080" y="676440"/>
            <a:chExt cx="4718160" cy="1396800"/>
          </a:xfrm>
        </p:grpSpPr>
        <p:pic>
          <p:nvPicPr>
            <p:cNvPr id="47" name="11 Rectángulo redondeado" descr=""/>
            <p:cNvPicPr/>
            <p:nvPr/>
          </p:nvPicPr>
          <p:blipFill>
            <a:blip r:embed="rId10"/>
            <a:stretch/>
          </p:blipFill>
          <p:spPr>
            <a:xfrm>
              <a:off x="1054080" y="676440"/>
              <a:ext cx="471816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1206360" y="777960"/>
              <a:ext cx="4445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alimentarios y de la ingestión de aliment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12 Rectángulo redondeado"/>
          <p:cNvGrpSpPr/>
          <p:nvPr/>
        </p:nvGrpSpPr>
        <p:grpSpPr>
          <a:xfrm>
            <a:off x="5797440" y="1463760"/>
            <a:ext cx="3260880" cy="755640"/>
            <a:chOff x="5797440" y="1463760"/>
            <a:chExt cx="3260880" cy="755640"/>
          </a:xfrm>
        </p:grpSpPr>
        <p:pic>
          <p:nvPicPr>
            <p:cNvPr id="50" name="12 Rectángulo redondeado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5797440" y="1463760"/>
              <a:ext cx="32608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5889600" y="1531800"/>
              <a:ext cx="3079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Cambios en DSM-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ASPECTOS DESTACADO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Incorporación de trastornos de la infancia, niñez y adolescencia: Pica, rumiación; más el cambio de trastorno de la ingestión alimentaria en la infancia o de la niñez por  trastorno evitativo/restrictivo de la ingesta de comida (falta de interés por la comida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Trastorno evitativo/restrictivo de la ingesta de comida aumenta de número de criteri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liminación de criterio de amenorrea de la anorexia y criterio temporal de la bulimi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uevo: trastorno por atracón. Cambio de criterio temporal: 1 por semana, durante 3 meses 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07FA0-752A-4375-9CC9-983E1B7B0C80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58" name="10 Flecha izquierda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11 Rectángulo redondeado"/>
          <p:cNvGrpSpPr/>
          <p:nvPr/>
        </p:nvGrpSpPr>
        <p:grpSpPr>
          <a:xfrm>
            <a:off x="1054080" y="676440"/>
            <a:ext cx="4718160" cy="1396800"/>
            <a:chOff x="1054080" y="676440"/>
            <a:chExt cx="4718160" cy="1396800"/>
          </a:xfrm>
        </p:grpSpPr>
        <p:pic>
          <p:nvPicPr>
            <p:cNvPr id="61" name="11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1054080" y="676440"/>
              <a:ext cx="471816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1206360" y="777960"/>
              <a:ext cx="4445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alimentarios y de la ingestión de aliment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P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Mantiene los criterios diagnóstico: ingestión de sustancias no nutritivas, inadecuadas al nivel de desarrollo y no forma parte de practicas sociales o culturales. Período al menos de 1 m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i la ingesta aparece con otro trastorno mental, debe ser suficientemente grave para atención clínica independient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ciones: “en remisión”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F8611-79E9-4C16-A8ED-C695299CF595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69" name="10 Flecha izquierda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11 Rectángulo redondeado"/>
          <p:cNvGrpSpPr/>
          <p:nvPr/>
        </p:nvGrpSpPr>
        <p:grpSpPr>
          <a:xfrm>
            <a:off x="1054080" y="676440"/>
            <a:ext cx="4718160" cy="1396800"/>
            <a:chOff x="1054080" y="676440"/>
            <a:chExt cx="4718160" cy="1396800"/>
          </a:xfrm>
        </p:grpSpPr>
        <p:pic>
          <p:nvPicPr>
            <p:cNvPr id="72" name="11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1054080" y="676440"/>
              <a:ext cx="471816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1206360" y="777960"/>
              <a:ext cx="4445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alimentarios y de la ingestión de aliment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RUMIACIÓ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Mantiene los criterios diagnóstico: regurgitaciones repetidas de alimento. NO atribuible a alteración gastrointestinal u otra enfermedad médica. No ocurre en transcurso de anorexia, bulimia, atracón o trastorno de evitación/restricción de ingesta de comid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i los síntomas aparecen con otro trastorno mental, debe ser suficientemente grave para atención clínica independient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ciones: “en remisión”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4ADBC-B697-41A6-B3E0-776E20B71C74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80" name="10 Flecha izquierda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11 Rectángulo redondeado"/>
          <p:cNvGrpSpPr/>
          <p:nvPr/>
        </p:nvGrpSpPr>
        <p:grpSpPr>
          <a:xfrm>
            <a:off x="1054080" y="676440"/>
            <a:ext cx="4718160" cy="1396800"/>
            <a:chOff x="1054080" y="676440"/>
            <a:chExt cx="4718160" cy="1396800"/>
          </a:xfrm>
        </p:grpSpPr>
        <p:pic>
          <p:nvPicPr>
            <p:cNvPr id="83" name="11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1054080" y="676440"/>
              <a:ext cx="471816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1206360" y="777960"/>
              <a:ext cx="4445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alimentarios y de la ingestión de aliment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POR EVITACIÓN/RESTRICCIÓN DE LA INGESTA DE COMI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-Cambio de nombre y de grupo (antes en trastorno de la infancia o de la niñez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cento en la aversión a la comid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lteración de la comida o alimentación, con manifestación en pérdida de peso significativa, deficiencia nutricional significativa, depende de nutrición oral, interferencia en el funcionamiento psicosocia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se explica por falta de disponibilidad de comida o práctica cultura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sucede durante anorexia o bulimia nerviosa ( no hay alteración de la imagen corporal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atribuible a enfermedad médica u otro trastorno menta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ciones: “en remisión”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A6541-7514-4C01-A813-4AC05C6400E1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91" name="10 Flecha izquierda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11 Rectángulo redondeado"/>
          <p:cNvGrpSpPr/>
          <p:nvPr/>
        </p:nvGrpSpPr>
        <p:grpSpPr>
          <a:xfrm>
            <a:off x="1054080" y="676440"/>
            <a:ext cx="4718160" cy="1396800"/>
            <a:chOff x="1054080" y="676440"/>
            <a:chExt cx="4718160" cy="1396800"/>
          </a:xfrm>
        </p:grpSpPr>
        <p:pic>
          <p:nvPicPr>
            <p:cNvPr id="94" name="11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1054080" y="676440"/>
              <a:ext cx="471816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1206360" y="777960"/>
              <a:ext cx="4445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alimentarios y de la ingestión de aliment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ANOREXIA NERVIO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Desaparece en el criterio A, el peso inferior al 85%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Restricción de ingesta, lleva peso significativamente bajo respecto a lo esperado por edad, sexo, salud, trayectori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Intenso miedo a ganar pes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lteración de la percepción del propio peso, exageración de la influencia del peso o forma corpora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ubtipos: restrictivo (dieta, ayuno o ejercicio intenso), compulsivo/purgativo(atracón o comportamiento purgativo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ciones de gravedad: IMC. Curso (remisión parcial o total). Gravedad: 4 niveles (leve ≥17 a extremo 15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667FB-8478-4592-A6DB-99DFF13BA662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02" name="10 Flecha izquierda" descr=""/>
            <p:cNvPicPr/>
            <p:nvPr/>
          </p:nvPicPr>
          <p:blipFill>
            <a:blip r:embed="rId1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11 Rectángulo redondeado"/>
          <p:cNvGrpSpPr/>
          <p:nvPr/>
        </p:nvGrpSpPr>
        <p:grpSpPr>
          <a:xfrm>
            <a:off x="1054080" y="676440"/>
            <a:ext cx="4718160" cy="1396800"/>
            <a:chOff x="1054080" y="676440"/>
            <a:chExt cx="4718160" cy="1396800"/>
          </a:xfrm>
        </p:grpSpPr>
        <p:pic>
          <p:nvPicPr>
            <p:cNvPr id="105" name="11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1054080" y="676440"/>
              <a:ext cx="471816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1206360" y="777960"/>
              <a:ext cx="4445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alimentarios y de la ingestión de aliment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BULIMIA NERVIO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pisodios recurrentes de atracones (comer en breve periodo de tiempo una cantidad superior a la media) y sensación de ausencia de control sobre la comid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onductas compensatorias para prevenir ganancia de pes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Frecuencia: 1 vez por semana durante 3 mes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utoevaluación influida por el peso y la silueta corpora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ciones de curso (remisión parcial o total) y gravedad: 4 niveles (leve 1-3 episodios/semana a extremo 14 o má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AE54A-13B0-4B03-A245-7B958D294A8F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13" name="10 Flecha izquierda" descr=""/>
            <p:cNvPicPr/>
            <p:nvPr/>
          </p:nvPicPr>
          <p:blipFill>
            <a:blip r:embed="rId1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11 Rectángulo redondeado"/>
          <p:cNvGrpSpPr/>
          <p:nvPr/>
        </p:nvGrpSpPr>
        <p:grpSpPr>
          <a:xfrm>
            <a:off x="1054080" y="676440"/>
            <a:ext cx="4718160" cy="1396800"/>
            <a:chOff x="1054080" y="676440"/>
            <a:chExt cx="4718160" cy="1396800"/>
          </a:xfrm>
        </p:grpSpPr>
        <p:pic>
          <p:nvPicPr>
            <p:cNvPr id="116" name="11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1054080" y="676440"/>
              <a:ext cx="471816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1206360" y="777960"/>
              <a:ext cx="4445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alimentarios y de la ingestión de aliment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POR ATRAC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uevo trastorno ( no es una afección en estudio como en DSM-IV-TR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riterio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pisodios recurrentes de atracones (comer en breve periodo de tiempo una cantidad superior a la media) y sensación de ausencia de control sobre la comid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sociados a: comer más rápido, sentirse desagradablemente lleno, comer gran cantidad de comida aunque no sienta hambre, comer a solas por sentimiento de vergüenza, sentirse a disgusto con uno mismo, depresión o culpabilida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Malestar al recordar los atracon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se asocia a estrategias compensatorias ( no aparece en curso de anorexia o bulimia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Frecuencia: 1 vez por semana durante 3 mes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B5AC9-6037-4EA9-ACB0-7C09FC11ECB4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24" name="10 Flecha izquierda" descr=""/>
            <p:cNvPicPr/>
            <p:nvPr/>
          </p:nvPicPr>
          <p:blipFill>
            <a:blip r:embed="rId1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11 Rectángulo redondeado"/>
          <p:cNvGrpSpPr/>
          <p:nvPr/>
        </p:nvGrpSpPr>
        <p:grpSpPr>
          <a:xfrm>
            <a:off x="1054080" y="676440"/>
            <a:ext cx="4718160" cy="1396800"/>
            <a:chOff x="1054080" y="676440"/>
            <a:chExt cx="4718160" cy="1396800"/>
          </a:xfrm>
        </p:grpSpPr>
        <p:pic>
          <p:nvPicPr>
            <p:cNvPr id="127" name="11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1054080" y="676440"/>
              <a:ext cx="471816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1206360" y="777960"/>
              <a:ext cx="4445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alimentarios y de la ingestión de aliment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OTRO TRASTORNOS ESPECIFICOS DE LA ALIMENT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ueva categorí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cumple todos los criterios de alguna de las categorías precedent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umplimentar como “otro trastorno específico de la alimentación” más la razón especifica: anorexia nerviosa atípica, bulimia nerviosa de baja frecuencia y/o de limitada duración, trastorno por atracón de baja frecuencia y/o de limitada duración, trastorno por purg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 LA ALIMENTACIÓN NO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-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uando no hay suficiente información para diagnóstico más específic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60A92-0774-425C-90E5-11912F3C57FB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10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35" name="10 Flecha izquierda" descr=""/>
            <p:cNvPicPr/>
            <p:nvPr/>
          </p:nvPicPr>
          <p:blipFill>
            <a:blip r:embed="rId1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11 Rectángulo redondeado"/>
          <p:cNvGrpSpPr/>
          <p:nvPr/>
        </p:nvGrpSpPr>
        <p:grpSpPr>
          <a:xfrm>
            <a:off x="1054080" y="676440"/>
            <a:ext cx="4718160" cy="1396800"/>
            <a:chOff x="1054080" y="676440"/>
            <a:chExt cx="4718160" cy="1396800"/>
          </a:xfrm>
        </p:grpSpPr>
        <p:pic>
          <p:nvPicPr>
            <p:cNvPr id="138" name="11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1054080" y="676440"/>
              <a:ext cx="4718160" cy="13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1206360" y="777960"/>
              <a:ext cx="444528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alimentarios y de la ingestión de aliment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2:52:41Z</dcterms:created>
  <dc:creator>USUARIO</dc:creator>
  <dc:description/>
  <dc:language>en-US</dc:language>
  <cp:lastModifiedBy>USUARIO</cp:lastModifiedBy>
  <dcterms:modified xsi:type="dcterms:W3CDTF">2014-06-01T21:52:38Z</dcterms:modified>
  <cp:revision>14</cp:revision>
  <dc:subject/>
  <dc:title>DSM-V</dc:title>
</cp:coreProperties>
</file>