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B96-A6E3-4615-BEFB-17D338B7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FD2-39CE-4CDF-A927-E9ED9BCF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F2D-ACB8-4929-96D1-13AFEBBC9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C17C-491B-4561-8C55-B6CDDB4C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874-BCF3-4EEA-A1F7-1B6BAF70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BD4-D9DF-4E33-B6FD-D0717A80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54B-638F-4D19-9701-D2C5E23B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781-885C-4165-8A3F-93D1079F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3646-E1B3-47C4-B9F7-26EB17DB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1AF-8413-42AB-9829-AD7C0D5D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DC4-824D-40DE-AF11-EB39A24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278-E321-4CD0-BA36-69723588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074B-3617-4860-AC8B-D8A98898CF8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negativista desafi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explosivo intermit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conduc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antisocial de la personalidad (indicadores en trast. Personalidad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Pir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Cleptoman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s destructivos del control de los impulsos y de la conducta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structivo del control de los impulsos y de la conducta no espec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45" name="3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46" name="3 Rectángulo redondeado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137D-7294-4BA0-A8C5-3C74A7E28D79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Rectángulo redondeado">
            <a:hlinkClick r:id="rId11" action="ppaction://hlinksldjump"/>
          </p:cNvPr>
          <p:cNvSpPr/>
          <p:nvPr/>
        </p:nvSpPr>
        <p:spPr>
          <a:xfrm>
            <a:off x="6143760" y="1500120"/>
            <a:ext cx="2357280" cy="5000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alibri"/>
              </a:rPr>
              <a:t>Cambios en DSM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Se incluyen los trastornos de conducta perturbadora que estaban en los trastornos de inicio en la infancia y la adolesce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040"/>
                </a:solidFill>
                <a:latin typeface="Calibri"/>
              </a:rPr>
              <a:t>Desaparecen otros trastornos del control de impulsos (la tricotilomanía) o el juego patológico( trastornos relacionados con otras sustancias y otras adiccione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D1EA-AE74-4E71-B314-CEF250BF689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58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59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NEGATIVISTA DESAFI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(3 GRUPOS)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enfadado o irrit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mportamiento discutidor /desafia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entimien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 a malestar personal o en otros, o tiene impacto negativo en el funcionamiento 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n en transcurso de trastorno psicótico, uso de sustancias, depresión, t. bipola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la mayoría de los días durante 6 meses (menores de 5 años), 1 vez por semana durante 6 meses (mayores de 5 añ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gravedad (3 nivel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C743-F049-4C0F-926E-639D3945C587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69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70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CONDUCTA (antes disoc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atrón repetitivo en el que se violan los derechos de personas o normas soci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resión a personas y animales (7 criterios). Amenazas, peleas, uso de arma, crueldad física con personas o animales, robos con enfrentamiento, forzar sexualmen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estrucción de la propiedad 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Fraudelencia o robo (3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Violaciones graves de las normas (3), permanecer fuera de casa, novillos antes de los 13 añ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 más de 18 años, no cumple criterios de trastorno antisocial de la persona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criterio durante 6 meses o 3 en los últimos 12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limitadas emociones prosociales. (NOVEDAD ), falta de remordimiento o culpa, callosidad-falta de empatía, despreocupado por el rendimiento , afecto superficial o deficiente. Tipo de inicio: infantil, adolescente, inespecífico. Grav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EC6C-4351-441C-B2BE-8C621ECFFC3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80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81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EXPLOSIVO INTERMI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mplían los criterios y las especificac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llidos de comportamiento, fallo para controlar impulsos agresivos. Agresiones verbales o físicas, 2 veces por semana, en 3 meses ( no produce daño físico o a la propiedad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es estallidos en 12 meses con daños físicos o a la propi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premeditados y no persiguen objetivos tangi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ausan marcado malestar personal o funcionamiento social, interpers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mínima 6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puede añadirse a diagnóstico por TDAH, conducta, TEA, oposicionista-desafiante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E457-1CDF-437D-A998-223912C2CD1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91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92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ANTISOCIAL DE LA PERSONA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A. Desajuste moderado o mayor en el funcionamiento de la personalidad (2 áreas): identidad, autodirección, empatía, intim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 B. 6 o más rasgos atópicos: manipulación, crueldad, falsedad, hostilidad, arriesgarse, impulsividad e irrespons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con 18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síntomas psicopát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F440-580E-471F-9B3F-17844D5D68A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02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03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R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CLEPTOMAN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No registra variaciones respecto a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CFCB-8DC9-4407-822B-AB2B69863D66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6 Grupo"/>
          <p:cNvGrpSpPr/>
          <p:nvPr/>
        </p:nvGrpSpPr>
        <p:grpSpPr>
          <a:xfrm>
            <a:off x="785880" y="571680"/>
            <a:ext cx="4572000" cy="1428480"/>
            <a:chOff x="785880" y="571680"/>
            <a:chExt cx="4572000" cy="1428480"/>
          </a:xfrm>
        </p:grpSpPr>
        <p:grpSp>
          <p:nvGrpSpPr>
            <p:cNvPr id="113" name="11 Rectángulo redondeado"/>
            <p:cNvGrpSpPr/>
            <p:nvPr/>
          </p:nvGrpSpPr>
          <p:grpSpPr>
            <a:xfrm>
              <a:off x="785880" y="571680"/>
              <a:ext cx="4572000" cy="1428480"/>
              <a:chOff x="785880" y="571680"/>
              <a:chExt cx="4572000" cy="1428480"/>
            </a:xfrm>
          </p:grpSpPr>
          <p:pic>
            <p:nvPicPr>
              <p:cNvPr id="114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785880" y="571680"/>
                <a:ext cx="4572000" cy="14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912600" y="66888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5 CuadroTexto"/>
            <p:cNvSpPr/>
            <p:nvPr/>
          </p:nvSpPr>
          <p:spPr>
            <a:xfrm>
              <a:off x="1107000" y="73692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POR SINTOMA SOMÁTICO ESPECIFICADO O RELACION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breve, menor de 6 mes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por ansiedad, pero no aparece criterio D (sin excesivas preocupacion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seudociesis o falsa creencia de estar embaraz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 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39F8-E634-45C7-895C-514A985F102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6 Grupo"/>
          <p:cNvGrpSpPr/>
          <p:nvPr/>
        </p:nvGrpSpPr>
        <p:grpSpPr>
          <a:xfrm>
            <a:off x="938160" y="723960"/>
            <a:ext cx="4572000" cy="1428840"/>
            <a:chOff x="938160" y="723960"/>
            <a:chExt cx="4572000" cy="1428840"/>
          </a:xfrm>
        </p:grpSpPr>
        <p:grpSp>
          <p:nvGrpSpPr>
            <p:cNvPr id="124" name="11 Rectángulo redondeado"/>
            <p:cNvGrpSpPr/>
            <p:nvPr/>
          </p:nvGrpSpPr>
          <p:grpSpPr>
            <a:xfrm>
              <a:off x="938160" y="723960"/>
              <a:ext cx="4572000" cy="1428840"/>
              <a:chOff x="938160" y="723960"/>
              <a:chExt cx="4572000" cy="1428840"/>
            </a:xfrm>
          </p:grpSpPr>
          <p:pic>
            <p:nvPicPr>
              <p:cNvPr id="125" name="11 Rectángulo redondeado" descr=""/>
              <p:cNvPicPr/>
              <p:nvPr/>
            </p:nvPicPr>
            <p:blipFill>
              <a:blip r:embed="rId1"/>
              <a:stretch/>
            </p:blipFill>
            <p:spPr>
              <a:xfrm>
                <a:off x="938160" y="723960"/>
                <a:ext cx="45720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064880" y="821160"/>
                <a:ext cx="4323240" cy="11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5 CuadroTexto"/>
            <p:cNvSpPr/>
            <p:nvPr/>
          </p:nvSpPr>
          <p:spPr>
            <a:xfrm>
              <a:off x="1259280" y="889200"/>
              <a:ext cx="4021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structivos del control de los impulsos y de la conduc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10 Flecha izquierda"/>
          <p:cNvSpPr/>
          <p:nvPr/>
        </p:nvSpPr>
        <p:spPr>
          <a:xfrm>
            <a:off x="8143920" y="6357960"/>
            <a:ext cx="571320" cy="285840"/>
          </a:xfrm>
          <a:prstGeom prst="lef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1:37:01Z</dcterms:modified>
  <cp:revision>18</cp:revision>
  <dc:subject/>
  <dc:title>Diapositiva 1</dc:title>
</cp:coreProperties>
</file>