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0F4-6B04-443F-8A3F-303D8342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9FB-39F3-4324-9E5D-DE3F4115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2BA-20AD-4C17-8D00-D97930BA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38F-2448-435C-ADE0-D181B8EE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BF0-AA22-4AEC-8088-3DC47F5B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ED4-D996-425F-9073-C99F3A2D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C8F-94AD-4DA6-98FB-2D2E2178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375D-2C40-42BA-B164-6ECCFCED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8FA-921C-405F-95ED-2AE99EA4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201F-C1B4-44B2-973F-733648C0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7C1-13ED-4F2C-B81B-64B2838D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A71-270F-4EBB-829C-CCFEAA41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7126-979D-47BD-A530-A305C19104C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image" Target="../media/image1.png"/><Relationship Id="rId14" Type="http://schemas.openxmlformats.org/officeDocument/2006/relationships/slide" Target="slide2.xm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ansiedad por separ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Mutismo selec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Fobia específ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ansiedad social (fobia so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 pán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Agorafob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de ansiedad generaliz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 ansiedad inducido por sustancias/medicam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rastorno de ansiedad debido a otra afección méd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Otro trastorno de ansiedad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 action="ppaction://hlinksldjump"/>
              </a:rPr>
              <a:t>Trastorno de ansiedad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2316-647B-4D02-9EED-EE9F5EBCD4C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3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 ANSIEDAD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limitados, no ansiedad generalizada que ocurre menos días, ataques de viento, ataque de nerv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BB4-C2CC-40BF-B980-B6D354006BE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4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2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trastorno TOC (nuevo capítulo), de estrés postraumático y trastorno de estrés y se mueven a otros capítulos específ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en criterios para fobia específica  (duración 6 meses, reconocer que la ansiedad es excesiva para mayores de 18 años) y trastorno de ansiedad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son un especificad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pánico y agorafobia se diagnostíian por sepa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incluyen el mutismo selectivo y el trastorno de ansiedad por separ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BB35-9FFA-4E90-B165-D1A62629574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POR SEPAR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 criterio de inicio antes de los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nsiedad excesiva por separación del hogar o de las personas vinculadas: malestar, preocupación excesiva, negativa a salir, miedo a estar solo, pesadillas, quejas de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4 semanas en niños y 6 o más en adul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3021-EA6C-453F-9931-9DE8A997848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MUTISMO SELE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UBICACIÓN, antes en trastorno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dicadores estables respecto a DSM-IV-TR (5 criterios) referidos al fracaso a hablar en situaciones sociales, interfiere en el rendimiento social, al menos 1 mes, no debido a falta de lenguaje y otro trastorno de la comun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2F44-26B5-4D22-9A78-EB2318D4DA7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FOBIA ESPECÍF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ustanciales, pero desaparece la irracionalidad del miedo (no debe reconocers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temporal para todas las edades: 6 me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 Temor acusado o ansiedad hacia objeto o situación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animal, ambiental, sangre-inyecciones, situacional u otros tip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0953-414B-4E1A-B59E-4FA6EF0AF6C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ismo contenido que en DSM-IV-TR, con criterios un poco más extens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iguales a los de fobia específica: Criterio temporal para todas las edades: 6 meses; y criterios:  Temor acusado o ansiedad hacia situación social , con miedo a ser evaluados negativamente, y que provoca miedo inmediato o ansiedad, desproporcionado al peligr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2876-4653-4204-90FF-3B201BD527B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PÁN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inesperados y recidivantes / recurrentes. Aparición súbita de miedo o malestar intenso, con al menos cuatro de los trece síntomas (palpitaciones, sudoración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crisis han durado al menos una vez un mes, con 1 síntoma de inquietud persistente o cambio significativo de comporta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sustancias o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ener en cuenta síntomas específicos cultur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 de ataque de angustia (no es un trastorno mental), y puede aparecer durante el transcurso de otros trastorno mentales. Trec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3781-8E76-4E49-929C-D9DA0C38EC5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GORAFO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Las situaciones agorafóbicas deben ser dos ( 5 posibles), independiente del trastorno de pánico, pudiendo codificar ambos al mismo tiem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de evitación o temor a las situaciones, creencia de dificultad para escapar de e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ANSIEDAD GENERALIZ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mantienen los criterios, solo cambia criterio de duración: 6 meses, en los que ocurre más días que no los criterios (3 o má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BE56-B509-4493-95DF-3114E6BBB4B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SIEDAD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taques de pánico o ansiedad predomin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 ans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AA41-7198-4D1E-A77F-3A79641E320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1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3:19:51Z</dcterms:modified>
  <cp:revision>35</cp:revision>
  <dc:subject/>
  <dc:title>Diapositiva 1</dc:title>
</cp:coreProperties>
</file>