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C4F-86D2-4511-A51D-CAD4C835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4E4-B751-4B07-8CE7-127D4294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A09-9572-4F8C-AC0E-83B39AAA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D9F-D826-4983-998C-8379FDAD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F02-0F06-4C3C-BFD6-24181376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250-476D-4F6D-81D5-992AB51F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518-21AC-4CF9-8F2D-DB656391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A43-6C4F-4505-A7BA-D271EACF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915-4467-4A95-AFDF-B74D601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AB8-6979-49D8-8621-6A47C5B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C89-6E8A-45C0-BC73-6B8594F1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D1E-FAA1-49C2-A68B-19E84EA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F016-631B-48E2-A619-D28C0365CF9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DSM-V.ppt" TargetMode="Externa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9.xml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7160" y="2357280"/>
            <a:ext cx="785808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rastorno de desregulación emocional disrup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rastorno depresivo persistente (dist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6" action="ppaction://hlinksldjump"/>
              </a:rPr>
              <a:t>Trastorno depresivo inducido por sustancias/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7" action="ppaction://hlinksldjump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8" action="ppaction://hlinksldjump"/>
              </a:rPr>
              <a:t>Otros 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9" action="ppaction://hlinksldjump"/>
              </a:rPr>
              <a:t>Trastorno depresivo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35C6-C757-41E1-9930-774CE0C129A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11 Rectángulo redondeado"/>
          <p:cNvGrpSpPr/>
          <p:nvPr/>
        </p:nvGrpSpPr>
        <p:grpSpPr>
          <a:xfrm>
            <a:off x="725400" y="1322280"/>
            <a:ext cx="5327640" cy="750960"/>
            <a:chOff x="725400" y="1322280"/>
            <a:chExt cx="5327640" cy="750960"/>
          </a:xfrm>
        </p:grpSpPr>
        <p:pic>
          <p:nvPicPr>
            <p:cNvPr id="50" name="11 Rectángulo redondeado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725400" y="1322280"/>
              <a:ext cx="53276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17560" y="1389240"/>
              <a:ext cx="5151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Cambios en DSM-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ASPECTOS DESTAC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parado de otros trastornos del ánimo (en DSM-IV-TR dentro de esa categoría). Capítulo aparte de los trastornos bipola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o trastorno en la etapa de infancia: desregulación emocional disruptivo. Hasta los 18 años, por irritabilidad persistente y episodios de descontrol conductual extrem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episodio depresivo pasa a ser la definición de trastorno depresivo mayo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crea trastorno depresivo persistente (agrupa trastorno depresivo mayor y distimi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añade el especificador “con síntomas mixtos, cuando se cumple varios síntomas de episodio maní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e elimina el criterio de “ 2 meses después de fallecimiento” para diagnóstico de trastorno depresivo mayor en duel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l trastorno  disfórico premenstrual abandona el trastorno depresivo “no especificado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1E4-230D-4689-8E91-DC3C3EF5923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58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61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 DISREGULACIÓN DISRUPTIVA DEL ESTADO DE ÁNIM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, para evitar sobre-diagnóstico y excesivo tratamiento en ni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Graves pataletas verbales y/o conductuales, desproporcionadas en intensidad y duración. No acordes al nivel de desarroll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Frecuencia: 3 o más veces por semana. Duración: al menos 12 meses, sin 2 o más meses sin síntomas. Ambientes: al menos en dos (casa, escuela, compañer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persistentemente irritable, enfadado cada día y observable por otr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ntre los 6 y los 18 años. Aparece antes de los 10 añ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maniaco o hipomaniaco: todos los criterios, nunca más de 1 d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en ocurrir durante un trastorno depresivo mayor u otro trastorno men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608D-2612-464E-BD39-1AFD2FD5FE6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69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12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72" name="12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9 Rectángulo redondeado"/>
          <p:cNvSpPr/>
          <p:nvPr/>
        </p:nvSpPr>
        <p:spPr>
          <a:xfrm>
            <a:off x="642960" y="2214720"/>
            <a:ext cx="8215200" cy="421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57160" y="2285640"/>
            <a:ext cx="7858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MAY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inco síntomas durante 2 semanas, uno será estado de ánimo depresivo la mayor parte del día (en niños puede ser irritable) y pérdida de interés o capacidad para el placer, además de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importante de peso, pérdida o aumento de apetit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Insomnio, hipersom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Agitación o enlentecimiento psicomotor. Fatiga o pérdida de energí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Sentimiento de inutilidad o culpa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Disminución de l a capacidad para concentrar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ensamiento recurrentes de muerte, ideación suicida o tentativa o plan específ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Malestar clínico significativo y deterioro social, laboral o otras áre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debido a una sustancia o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atatonia, comienzo en el post-parto, patrón estacional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3F49-916B-49C0-8737-E5D00F38445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80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83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57160" y="2286000"/>
            <a:ext cx="78580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PERSIST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olidación del trastorno distímico y del trastorno depresivo crón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riterio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tado de ánimo triste  durante al menos dos años. En niños puede ser irritable, al menos 1 año. C. No ha estado dos meses sin síntom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esencia de dos o más síntoma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404040"/>
                </a:solidFill>
                <a:latin typeface="Calibri"/>
              </a:rPr>
              <a:t>Pérdida o aumento de apetito; Insomnio, hipersomnia; Fatiga o pérdida de energía; Baja autoestima; Disminución de l a capacidad para concentrarse; Sentimientos de desesperanz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ha habido episodio maniaco o hipomaníaco. No debido a sustancia o enfermeda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malestar ansioso, características mixtas, melancólicas, atípicas, comienzo en el post-parto,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remisión total o parcial; comienzo temprano o tardío;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D087-8B91-449F-80B5-94CD8EA9CD18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94" name="11 Flecha izquierda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ISFÓRICO PREMESTR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bandona el grupo de trastorno no especificad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Principales indicadores( 1 o más): labilidad emocional, irritabilidad, disforia y ansiedad , que ocurren repetidamente en el ciclo premenstru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Síntomas combinados: disminución del interés, dificultad de concentración, letargia, cambio del apetito, cambio del sueño, sentido de estar sobrepasado, síntomas físic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Remiten después de la menstru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A870-826B-4927-82A3-F8BB80D6E67E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02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05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INDUCIDO POR SUSTANCIAS O MEDICACIÓ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saparece el “trastorno del estado de ánimo inducido por sustancias” y aparecen dos: trastorno bipolar inducido/relacionado por sustancias/medicación y  trastorno depresivo inducido por sustancias/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urante o después de intoxicación de sustancia, síndrome de abstinencia o exposición a medic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mienzo durante intoxicación o abstinenci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0D8-FE02-44F7-ABDE-8BD4BDD1D27A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14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17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DEPRESIVO DEBIDO A OTRA CONDICIÓN MÉ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Alteración del estado de ánimo deprimid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onsecuencia fisiológica de una enfermedad médic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o aparece en transcurso de deliriu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r: con características depresivas, de episodio depresivo mayor o mixt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5 CuadroTexto"/>
          <p:cNvSpPr/>
          <p:nvPr/>
        </p:nvSpPr>
        <p:spPr>
          <a:xfrm>
            <a:off x="1054080" y="71424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Trastornos depre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413A-1D9C-4A99-A0AE-F41EBFD4B88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26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29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9 Rectángulo redondeado"/>
          <p:cNvSpPr/>
          <p:nvPr/>
        </p:nvSpPr>
        <p:spPr>
          <a:xfrm>
            <a:off x="642960" y="2214720"/>
            <a:ext cx="8215200" cy="400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81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0880" y="213840"/>
            <a:ext cx="2357280" cy="16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SM-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57160" y="2500200"/>
            <a:ext cx="78580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OTRO TRASTORNO DEPRESIV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Nueva categorí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Depresión breve recurrente(2-13 días, al menos 4 síntomas, al menos 1 vez al me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breve (4-13 días, al menos 4 síntom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pisodio depresivo con síntomas insuficientes (al menos 1 síntoma, dos sema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TRASTORNO POR SÍNTOMAS SOMÁTICOS Y RELACIONADOS NO ESPECIFIC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Cuando no hay suficiente información para diagnóstico más especí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40404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040"/>
                </a:solidFill>
                <a:latin typeface="Calibri"/>
              </a:rPr>
              <a:t>Especificaciones: con malestar ansioso, gravedad (4 niveles), síntomas mixt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462-6AF0-4ED4-A176-C1CC3A892543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8 Marcador de pie de página"/>
          <p:cNvSpPr/>
          <p:nvPr/>
        </p:nvSpPr>
        <p:spPr>
          <a:xfrm>
            <a:off x="3124080" y="6356520"/>
            <a:ext cx="551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OEP. VENTA DE BAÑOS. GRUPO DE TRABAJO 2013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10 Rectángulo redondeado"/>
          <p:cNvGrpSpPr/>
          <p:nvPr/>
        </p:nvGrpSpPr>
        <p:grpSpPr>
          <a:xfrm>
            <a:off x="725400" y="463680"/>
            <a:ext cx="5327640" cy="749160"/>
            <a:chOff x="725400" y="463680"/>
            <a:chExt cx="5327640" cy="749160"/>
          </a:xfrm>
        </p:grpSpPr>
        <p:pic>
          <p:nvPicPr>
            <p:cNvPr id="137" name="10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725400" y="463680"/>
              <a:ext cx="5327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817560" y="531720"/>
              <a:ext cx="5151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Calibri"/>
                </a:rPr>
                <a:t>Trastornos depres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11 Flecha izquierda"/>
          <p:cNvGrpSpPr/>
          <p:nvPr/>
        </p:nvGrpSpPr>
        <p:grpSpPr>
          <a:xfrm>
            <a:off x="8083440" y="6321600"/>
            <a:ext cx="689040" cy="396720"/>
            <a:chOff x="8083440" y="6321600"/>
            <a:chExt cx="689040" cy="396720"/>
          </a:xfrm>
        </p:grpSpPr>
        <p:pic>
          <p:nvPicPr>
            <p:cNvPr id="140" name="11 Flecha izquierda" descr=""/>
            <p:cNvPicPr/>
            <p:nvPr/>
          </p:nvPicPr>
          <p:blipFill>
            <a:blip r:embed="rId2"/>
            <a:stretch/>
          </p:blipFill>
          <p:spPr>
            <a:xfrm>
              <a:off x="8083440" y="6321600"/>
              <a:ext cx="6890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15200" y="6429240"/>
              <a:ext cx="50004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1:53:55Z</dcterms:created>
  <dc:creator>USUARIO</dc:creator>
  <dc:description/>
  <dc:language>en-US</dc:language>
  <cp:lastModifiedBy>USUARIO</cp:lastModifiedBy>
  <dcterms:modified xsi:type="dcterms:W3CDTF">2014-06-01T22:10:17Z</dcterms:modified>
  <cp:revision>30</cp:revision>
  <dc:subject/>
  <dc:title>Diapositiva 1</dc:title>
</cp:coreProperties>
</file>