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60E-D13C-4217-B52E-7BC796EE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917-1023-4AB0-8D70-E81A9252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6B7-78ED-4EB0-B5FA-4210A3C5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A67-8865-4516-B6B1-994C2037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8B9-19CB-471C-AF00-1A136A7A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A93-6569-4DA1-94E8-62681084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68D-021E-47E2-BC2B-18CC8DDC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D63-AD97-4CC5-BE6B-FFD1218D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66D9-EE21-4F7E-88F6-25BB14DB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ADB-3C71-4E16-A80D-BE804D7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511-6081-41AC-A996-1A84F909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B71-4C9B-448E-8274-D5A6C490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8AED-BE20-4093-9410-AD426E303BE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2.xml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Otro trastorno alimentario de la excreción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8ADA-3D7A-4AB7-90B2-2887F9DD906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47" name="10 Rectángulo redondeado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0" name="11 Rectángulo redondeado" descr=""/>
            <p:cNvPicPr/>
            <p:nvPr/>
          </p:nvPicPr>
          <p:blipFill>
            <a:blip r:embed="rId8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499840"/>
            <a:ext cx="7858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ición de la categoría de trastornos de inicio en la infancia y la adolescencia y pasa a ser una categorí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vinculado de otros cuadros o trastornos por la alteración de hábitos básicos o por la edad de apari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4E78-89B6-4AD6-AE9F-4338EE10A1B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31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U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misión repetida de orina en la cama o en la ropa (involuntaria o intenciona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2 episodios por semana en 3 meses consecutivos o malestar clínicamente significativo o deterioro social, académico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 cronológica al menos 5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sólo nocturna, sólo diurna, nocturna y diurn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0013-1D95-4382-9E54-E4AA64E1650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4316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COPR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mismos criterios que DSM-IV-T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vacuación repetida de heces, involuntaria o intencio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 menos 1 episodio al mes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dad: por lo menos 4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fectos fisiológicos de sustancia ni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estreñimiento e incontinencia por rebosamiento o sin estreñimiento e incontinencia por rebosamiento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8A8C-DD78-425F-B117-8F9D2292923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EXCRE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excreción” más la razón especifica: baja frecuencia de enuresis o encopresi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EXCRE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 y no comunica razón específ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ABA0-26C5-437C-AB0D-7D607552DB2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938160" y="822240"/>
            <a:ext cx="4329000" cy="963720"/>
            <a:chOff x="938160" y="822240"/>
            <a:chExt cx="4329000" cy="96372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938160" y="822240"/>
              <a:ext cx="43290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041480" y="898560"/>
              <a:ext cx="413208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 la excre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3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3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1:33Z</dcterms:modified>
  <cp:revision>20</cp:revision>
  <dc:subject/>
  <dc:title>DSM-V</dc:title>
</cp:coreProperties>
</file>