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A69-06B0-439A-9635-FE53145B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47B-BC7E-43C6-9C4A-EB052579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EB2A-027C-413D-9284-132161A0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5AD-FDD0-402B-87A9-E5C7CA52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7D1-7343-4D63-A428-19088C4D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984-4D0E-4362-AA6E-EE2F719D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3D1-E4B0-4585-B0ED-11D2A767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E329-8E6A-4831-B862-F8F88DD7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DF3-455D-4B71-98E9-50D03398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AFE-8C66-4617-8C7B-318B1F7F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7435-BA61-48B0-89EB-99EC816C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115-4F07-4B55-97FD-F8A2DA5A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3E6E-AF2D-4260-B712-C52FE833DEA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2.xm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de la vinculación rea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e la actividad social desinhib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 estrés postraumá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por estrés agu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s adapt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Otro trastorno relacionados con trauma y estresores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Trastorno relacionados con trauma y estresore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C882-F3FE-4962-B03A-D3592BB6901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47" name="10 Rectángulo redondeado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50" name="11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 con los trastornos de estré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tegra algunos que aparecían con los trastornos de ansiedad y otros que estaban dentro de la categoría de la infancia y adolesc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s significativos en el trastorno de estrés postraumático (eventos más explícitos, desaparece el criterio A2, cuatro grupos de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 separados para menores de 6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de estrés agudo, directo o indirecto. Eliminación criterio A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de vinculación reactivo,  y trastorno de la actividad social desinhibida (trastornos separad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05ED-057C-42C1-B53B-92FB53EC1D7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3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71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VINCULACIÓN REAC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mismos criterios que DSM-IV-TR, pero separa los dos tipos (inhibido y desinhibido), como trastorno de la vinculación reactivo y trastorno de la actividad social desinhib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n el trastorno de vinculación reactivo especifica más los indicadores y añade varios criterios de exclus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constante de conducta inhibida, emocional retraída hacia adultos cuidadores: falta de búsqueda de consuelo, o falta de respuesta cuando se consuel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ersistente alteración social: mínima respuesta social, limitado afecto positivo, episodios de irritabilidad inexplic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extremo de insuficientes cuidados (3 criteri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criterios de TEA. Antes de los 5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persistencia, grav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3165-CDDF-4D54-8DFE-EE59A49AC6B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3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ACTIVIDAD SOCIAL DESINHIB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 niño se acerca activamente a adultos no familiares: reducida reticencia a acercarse, conducta excesivamente familiar, reducida comprobación de la opinión de los adultos cuidadores, disposición a ir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s conductas no se limitan a impulsiv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extremo de cuidados insuficientes (3 criteri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 mínima 9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persistencia, grav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C56E-E640-45B0-9C97-7F566D43343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3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2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ESTRÉS POSTRAUMÁTIC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para adultos y mayores de 6 años, de los niños menores de 6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dultos: exposición a muerte real o peligro de muerte, lesiones o violencia sexual (4 criterios); presencia de síntomas intrusivos (recuerdos recurrentes, sueños, sensación de que el acontecimiento está sucediendo, malestar ante estímulos que lo recuerdan); evitación de estímulos asociados al trauma (7 criterios); alteraciones negativas de las cogniciones (7 criterios); alteraciones de la activación y reactividad (6 criterios). Duran más de 1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disociativos (despersonalización, desrealización), inicio demor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n niños: exposición a muerte real o peligro de muerte, lesiones o violencia sexual (2 criterios); presencia de síntomas intrusivos (recuerdos recurrentes, sueños, sensación de que el acontecimiento está sucediendo, malestar ante estímulos que lo recuerdan); evitación de estímulos asociados al trauma (5 criterios); alteraciones negativas de las cogniciones (5 criterios); alteraciones de la activación y reactividad (5 criterios). Duran más de 1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78DC-47A8-4583-BC18-5F7B06E67FBE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ESTRÉS AGU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exposición a muerte real o peligro de muerte, lesiones o violencia sexual (4 criterios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intrusivos (recuerdos recurrentes, sueños, sensación de que el acontecimiento está sucediendo, malestar ante estímulos que lo recuerdan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 de evitación de estímulos asociados al trauma (2 criterios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de afecto negativo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disociativos (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de activación (5): problemas de sueños, irritabilidad, hiper-vigilancia, concentración, respuestas exageradas de sobresalt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uración mínima 3 días y un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A9C7-7269-46D3-9134-70264764D54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102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5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S ADAPTA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emocionales o de conducta e respuesta a estresores, dentro de los tres meses siguientes al evento, con malestar y deterioro social significativo. No persisten más de 6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responden a due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ánimo depresivo, ansiedad, mixto, alteraciones del comportamiento, mixto con alteraciones emocionales y comportamiento, no especific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B417-80D7-4816-8D7E-52E37A241C8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113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6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S ESPECIFICOS RELACIONADOS CON TRAUMA Y ESTRESO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mplimentar como “otro trastorno específico relacionados con trauma y estresores” más la razón especif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RELACIONADOS CON TRAUMA Y ESTRESORE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 y no comunica razón específ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6CBE-6410-493C-808D-09998A752AAD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0 Rectángulo redondeado"/>
          <p:cNvGrpSpPr/>
          <p:nvPr/>
        </p:nvGrpSpPr>
        <p:grpSpPr>
          <a:xfrm>
            <a:off x="938160" y="792000"/>
            <a:ext cx="4329000" cy="993960"/>
            <a:chOff x="938160" y="792000"/>
            <a:chExt cx="4329000" cy="993960"/>
          </a:xfrm>
        </p:grpSpPr>
        <p:pic>
          <p:nvPicPr>
            <p:cNvPr id="124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792000"/>
              <a:ext cx="43290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relacionados con trauma y estreso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7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2T07:28:38Z</dcterms:modified>
  <cp:revision>26</cp:revision>
  <dc:subject/>
  <dc:title>DSM-V</dc:title>
</cp:coreProperties>
</file>