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49B-FFC7-47EC-B8F3-D89EAC43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F23-A8BD-401D-8B60-1E1288CF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7C1-B2A9-4845-9B4A-8E40DD6A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D81-0DEE-4362-8359-C6AF3733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6A4-6D8C-48F9-9580-03CB1F65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59A-0B1D-4BF4-9865-345E5A72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27F-72DA-4E0E-A6B0-7EC6860F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E78-6FFF-4DBF-A5B2-270EBFF6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0B8-8294-485F-965C-9B594B82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DF4-84A8-4819-82CB-80367BFD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143-DB0E-4549-B827-08B47D6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494-2449-4B89-846C-CA3EB9FD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6FB4-99DA-445D-9710-2A5F6BCB5F8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4BE5-B84C-45AF-9AC6-8D439FD30EA7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SM-V_trastornosexcreci&#243;n.pp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DSM-V_trastornosTOC.ppt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DSM-V_trastornosdeansiedad.ppt" TargetMode="External"/><Relationship Id="rId6" Type="http://schemas.openxmlformats.org/officeDocument/2006/relationships/image" Target="../media/image5.png"/><Relationship Id="rId7" Type="http://schemas.openxmlformats.org/officeDocument/2006/relationships/hyperlink" Target="file:///DSM-V_trastornosalimentarios.ppt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DSM-V_trastornostraumas.ppt" TargetMode="External"/><Relationship Id="rId10" Type="http://schemas.openxmlformats.org/officeDocument/2006/relationships/image" Target="../media/image7.png"/><Relationship Id="rId11" Type="http://schemas.openxmlformats.org/officeDocument/2006/relationships/hyperlink" Target="file:///DSM-V_trastornos%20personalidad.ppt" TargetMode="External"/><Relationship Id="rId12" Type="http://schemas.openxmlformats.org/officeDocument/2006/relationships/image" Target="../media/image8.png"/><Relationship Id="rId13" Type="http://schemas.openxmlformats.org/officeDocument/2006/relationships/hyperlink" Target="file:///DSM-V_trastornosconducta.ppt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3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1857240" y="1857240"/>
            <a:ext cx="57150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3 Rectángulo redondeado"/>
          <p:cNvSpPr/>
          <p:nvPr/>
        </p:nvSpPr>
        <p:spPr>
          <a:xfrm>
            <a:off x="2857680" y="5716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c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00120" y="185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42c8"/>
                </a:solidFill>
                <a:latin typeface="Calibri"/>
              </a:rPr>
              <a:t>Reflexión sobre la nueva clasificación de los trastornos mentales frente a DSM-IV-TR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10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DD71-3872-4B01-99F7-F4144E86305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1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47" name="12 Rectángulo redondeado"/>
          <p:cNvGrpSpPr/>
          <p:nvPr/>
        </p:nvGrpSpPr>
        <p:grpSpPr>
          <a:xfrm>
            <a:off x="3651120" y="4896000"/>
            <a:ext cx="2835360" cy="961920"/>
            <a:chOff x="3651120" y="4896000"/>
            <a:chExt cx="2835360" cy="961920"/>
          </a:xfrm>
        </p:grpSpPr>
        <p:pic>
          <p:nvPicPr>
            <p:cNvPr id="48" name="12 Rectángulo redondeado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1120" y="4896000"/>
              <a:ext cx="28353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55880" y="4970520"/>
              <a:ext cx="2632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4617b"/>
                  </a:solidFill>
                  <a:latin typeface="Calibri"/>
                </a:rPr>
                <a:t>ACCESO</a:t>
              </a:r>
              <a:endParaRPr b="0" lang="en-US" sz="32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4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EA5E-CE12-4D17-8A02-F0B0F16523F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trastorno de tics motores o vocales persistentes (solo motores o vocales); trastorno de tics transitori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2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3235-883B-458E-AE44-5B9F9E1D793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nducta (agresión a personas o animales, destrucción de la propiedad, engaño o robo, incumplimiento grave de normas):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ipo de inicio infantil, adolescente,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: con emociones prosociales limitadas, falta de remordimientos o culpabilidad, insensible – carente de empatía, despreocupado por su rendimiento, afecto superficial o deficiente. 3 niveles de grave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personalidad antisocial (dentro de trastornos de la personalidad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iromanía, cleptomanía, TC no especificado, Otro TC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8" name="6 Grupo"/>
          <p:cNvGrpSpPr/>
          <p:nvPr/>
        </p:nvGrpSpPr>
        <p:grpSpPr>
          <a:xfrm>
            <a:off x="785880" y="571680"/>
            <a:ext cx="4572000" cy="1428840"/>
            <a:chOff x="785880" y="571680"/>
            <a:chExt cx="4572000" cy="1428840"/>
          </a:xfrm>
        </p:grpSpPr>
        <p:sp>
          <p:nvSpPr>
            <p:cNvPr id="159" name="3 Rectángulo redondeado"/>
            <p:cNvSpPr/>
            <p:nvPr/>
          </p:nvSpPr>
          <p:spPr>
            <a:xfrm>
              <a:off x="785880" y="571680"/>
              <a:ext cx="4572000" cy="1428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0" name="5 CuadroTexto"/>
            <p:cNvSpPr/>
            <p:nvPr/>
          </p:nvSpPr>
          <p:spPr>
            <a:xfrm>
              <a:off x="1054800" y="714600"/>
              <a:ext cx="412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EE91-D8B3-424F-B377-A5934EEA87C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6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67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8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F77C-012D-4B80-98F3-34BBF9DA8233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F6EA-6E18-4CD8-9905-C67B86B8CB4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3" name="15 Rectángulo redondeado"/>
          <p:cNvGrpSpPr/>
          <p:nvPr/>
        </p:nvGrpSpPr>
        <p:grpSpPr>
          <a:xfrm>
            <a:off x="79200" y="3535200"/>
            <a:ext cx="4548240" cy="682920"/>
            <a:chOff x="79200" y="3535200"/>
            <a:chExt cx="4548240" cy="682920"/>
          </a:xfrm>
        </p:grpSpPr>
        <p:pic>
          <p:nvPicPr>
            <p:cNvPr id="54" name="15 Rectángulo redondeado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9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1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elimin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6" name="16 Rectángulo redondeado"/>
          <p:cNvGrpSpPr/>
          <p:nvPr/>
        </p:nvGrpSpPr>
        <p:grpSpPr>
          <a:xfrm>
            <a:off x="4651200" y="4248000"/>
            <a:ext cx="4548240" cy="684360"/>
            <a:chOff x="4651200" y="4248000"/>
            <a:chExt cx="4548240" cy="684360"/>
          </a:xfrm>
        </p:grpSpPr>
        <p:pic>
          <p:nvPicPr>
            <p:cNvPr id="57" name="16 Rectángulo redondeado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651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43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Obsesivo-compulsiv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9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60" name="17 Rectángulo redondeado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2" name="18 Rectángulo redondeado"/>
          <p:cNvGrpSpPr/>
          <p:nvPr/>
        </p:nvGrpSpPr>
        <p:grpSpPr>
          <a:xfrm>
            <a:off x="4651200" y="4962600"/>
            <a:ext cx="4548240" cy="682560"/>
            <a:chOff x="4651200" y="4962600"/>
            <a:chExt cx="4548240" cy="682560"/>
          </a:xfrm>
        </p:grpSpPr>
        <p:pic>
          <p:nvPicPr>
            <p:cNvPr id="63" name="18 Rectángulo redondeado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651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743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aliment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5" name="19 Rectángulo redondeado"/>
          <p:cNvGrpSpPr/>
          <p:nvPr/>
        </p:nvGrpSpPr>
        <p:grpSpPr>
          <a:xfrm>
            <a:off x="79200" y="4962600"/>
            <a:ext cx="4548240" cy="682560"/>
            <a:chOff x="79200" y="4962600"/>
            <a:chExt cx="4548240" cy="682560"/>
          </a:xfrm>
        </p:grpSpPr>
        <p:pic>
          <p:nvPicPr>
            <p:cNvPr id="66" name="19 Rectángulo redondeado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79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71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de trauma y estres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8" name="20 Rectángulo redondeado"/>
          <p:cNvGrpSpPr/>
          <p:nvPr/>
        </p:nvGrpSpPr>
        <p:grpSpPr>
          <a:xfrm>
            <a:off x="4651200" y="5681520"/>
            <a:ext cx="4548240" cy="676440"/>
            <a:chOff x="4651200" y="5681520"/>
            <a:chExt cx="4548240" cy="676440"/>
          </a:xfrm>
        </p:grpSpPr>
        <p:pic>
          <p:nvPicPr>
            <p:cNvPr id="69" name="20 Rectángulo redondeado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51200" y="5681520"/>
              <a:ext cx="45482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743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personal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1" name="21 Rectángulo redondeado"/>
          <p:cNvGrpSpPr/>
          <p:nvPr/>
        </p:nvGrpSpPr>
        <p:grpSpPr>
          <a:xfrm>
            <a:off x="73080" y="5619600"/>
            <a:ext cx="4614840" cy="738360"/>
            <a:chOff x="73080" y="5619600"/>
            <a:chExt cx="4614840" cy="738360"/>
          </a:xfrm>
        </p:grpSpPr>
        <p:pic>
          <p:nvPicPr>
            <p:cNvPr id="72" name="21 Rectángulo redondeado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3080" y="5619600"/>
              <a:ext cx="46148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71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4617b"/>
                  </a:solidFill>
                  <a:latin typeface="Calibri"/>
                </a:rPr>
                <a:t>T. disruptivos, de control de impulsos y de la conducta</a:t>
              </a: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4" name="22 Rectángulo redondeado"/>
          <p:cNvGrpSpPr/>
          <p:nvPr/>
        </p:nvGrpSpPr>
        <p:grpSpPr>
          <a:xfrm>
            <a:off x="79200" y="2822400"/>
            <a:ext cx="4548240" cy="682920"/>
            <a:chOff x="79200" y="2822400"/>
            <a:chExt cx="4548240" cy="682920"/>
          </a:xfrm>
        </p:grpSpPr>
        <p:pic>
          <p:nvPicPr>
            <p:cNvPr id="75" name="22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79200" y="28224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71360" y="288612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l neuro-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7" name="23 Rectángulo redondeado"/>
          <p:cNvGrpSpPr/>
          <p:nvPr/>
        </p:nvGrpSpPr>
        <p:grpSpPr>
          <a:xfrm>
            <a:off x="4651200" y="3535200"/>
            <a:ext cx="4548240" cy="682920"/>
            <a:chOff x="4651200" y="3535200"/>
            <a:chExt cx="4548240" cy="682920"/>
          </a:xfrm>
        </p:grpSpPr>
        <p:pic>
          <p:nvPicPr>
            <p:cNvPr id="78" name="23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4651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743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80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81" name="24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Principales cambios y estructur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9 Rectángulo redondeado"/>
          <p:cNvSpPr/>
          <p:nvPr/>
        </p:nvSpPr>
        <p:spPr>
          <a:xfrm>
            <a:off x="642960" y="2214720"/>
            <a:ext cx="664380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liminación del sistema multiaxi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valuación dimensional con diferentes escal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Organización evolutiva de los trastornos.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8" name="5 CuadroTexto"/>
            <p:cNvSpPr/>
            <p:nvPr/>
          </p:nvSpPr>
          <p:spPr>
            <a:xfrm>
              <a:off x="1000080" y="714600"/>
              <a:ext cx="22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Estructura y modificacion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8452-3169-4A94-9237-EB1AC59078E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desarrollo intelectu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del espectro autista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s habilidades motor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9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FEF2-6F93-4D97-A000-6016D8E7082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0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A519-91A1-4800-9CA2-C34C7DA7C93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12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683D-ABA3-471B-9698-03F40340B8E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idez 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56BE-C843-48E1-8B55-2603846432D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2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0830-ED85-4BEA-8BD1-21DEA11873C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34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35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6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7759-727A-4D3F-A104-A95D8C040BB0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2T00:12:47Z</dcterms:modified>
  <cp:revision>46</cp:revision>
  <dc:subject/>
  <dc:title>DSM-V</dc:title>
</cp:coreProperties>
</file>