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27FD-BB78-4812-A21C-6918FBFF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A40A-A1ED-4C89-851B-EBFF01FD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F190-627A-41F0-B225-6FBA5764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EA9F-B60B-4DC4-B22B-BFE22F07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E640-F1FE-4466-8D1C-E2A2F708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F00D-5177-44DF-BB4B-81EDBC85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AE8-A9D5-4922-ADB2-599CD7B0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ACA6-291D-47AC-AF44-8B98F8BF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A370-BCF1-4E37-B81D-BF669840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9DB0-10CB-418F-B1E5-7A7FEE6A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9831-87AE-4353-ABBC-84CC24A3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12BC-03B2-4449-B065-601DF244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FF8F-E307-4715-9A59-B5635B08D0EC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c9d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4048-ACF6-4B40-8101-B124CD31C519}" type="slidenum">
              <a:rPr b="0" lang="es-ES" sz="1200" spc="-1" strike="noStrike">
                <a:solidFill>
                  <a:srgbClr val="898c9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286000"/>
            <a:ext cx="7858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2" action="ppaction://hlinksldjump"/>
              </a:rPr>
              <a:t>Discapacidades intelectuales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3" action="ppaction://hlinksldjump"/>
              </a:rPr>
              <a:t>Trastornos de la comunicación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4" action="ppaction://hlinksldjump"/>
              </a:rPr>
              <a:t>Trastorno del espectro del autismo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5" action="ppaction://hlinksldjump"/>
              </a:rPr>
              <a:t>Trastorno por déficit de la atención e hiperactividad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6" action="ppaction://hlinksldjump"/>
              </a:rPr>
              <a:t>Trastorno específico del aprendizaje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7" action="ppaction://hlinksldjump"/>
              </a:rPr>
              <a:t>Trastornos motores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8" action="ppaction://hlinksldjump"/>
              </a:rPr>
              <a:t>Otros trastornos  del desarrollo neurológico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44" name="6 Grupo"/>
          <p:cNvGrpSpPr/>
          <p:nvPr/>
        </p:nvGrpSpPr>
        <p:grpSpPr>
          <a:xfrm>
            <a:off x="785880" y="571680"/>
            <a:ext cx="3643200" cy="1334160"/>
            <a:chOff x="785880" y="571680"/>
            <a:chExt cx="3643200" cy="1334160"/>
          </a:xfrm>
        </p:grpSpPr>
        <p:sp>
          <p:nvSpPr>
            <p:cNvPr id="45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46" name="5 CuadroTexto"/>
            <p:cNvSpPr/>
            <p:nvPr/>
          </p:nvSpPr>
          <p:spPr>
            <a:xfrm>
              <a:off x="1000080" y="714600"/>
              <a:ext cx="221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neurodesarrollo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4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314F-8B83-4889-932C-31822507A7C7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por déficit de atención con hiperactividad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íntomas de inatención (6/9) e hiperactividad/impulsividad (6/9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Antes de los 12 años, en dos o más contextos y con interferencia funcional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r presentación: combinada o predominante falta de atención o hiperactividad / impulsividad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r en remisión parcial y gravedad actual (3 nivele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Otro trastorno por déficit de atención con hiperactividad especificad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Predominio de síntomas pero no cumple criterios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ción de motivos (síntoma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por déficit de atención con hiperactividad no especificad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se especifican los motivos y la información es insuficiente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40" name="6 Grupo"/>
          <p:cNvGrpSpPr/>
          <p:nvPr/>
        </p:nvGrpSpPr>
        <p:grpSpPr>
          <a:xfrm>
            <a:off x="785880" y="428760"/>
            <a:ext cx="4214880" cy="1263600"/>
            <a:chOff x="785880" y="428760"/>
            <a:chExt cx="4214880" cy="1263600"/>
          </a:xfrm>
        </p:grpSpPr>
        <p:sp>
          <p:nvSpPr>
            <p:cNvPr id="141" name="3 Rectángulo redondeado"/>
            <p:cNvSpPr/>
            <p:nvPr/>
          </p:nvSpPr>
          <p:spPr>
            <a:xfrm>
              <a:off x="785880" y="428760"/>
              <a:ext cx="4214880" cy="12636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42" name="5 CuadroTexto"/>
            <p:cNvSpPr/>
            <p:nvPr/>
          </p:nvSpPr>
          <p:spPr>
            <a:xfrm>
              <a:off x="1033560" y="586800"/>
              <a:ext cx="380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por déficit de atención e hiperactividad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4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DDB3-4421-4A89-B378-23D99B7C286B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45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46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ificultades de aprendizaje en (especificar si) : 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 en la lectura: precisión en la lectura de palabras, velocidad o fluidez  de la lectura, comprensión de la lectura. Dislexia como término alternativ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es en la expresión escrita: corrección ortográfica,  gramatical y de la puntuación, claridad u organización de la expresión escrita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 matemática: sentido de los números, memorización de operaciones, cálculo correcto o fluido, razonamiento matemático. Discalculia como término alternativ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3 niveles de gravedad: leve, moderado, grave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Registrar cada una de las áreas y subaptitudes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e deben cumplir los cuatro criterios diagnósticos: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51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52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53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 específico del aprendizaje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5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13D4-CD55-474F-9ACD-CA5577917C31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56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57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l desarrollo de la coordinación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movimientos estereotipados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tics 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rastorno de la Tourette;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rastorno de tics motores o vocales persistentes (solo motores o vocales);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rastorno de tics transitorio,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otro trastorno especificado de tics,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rastorno de tics no especificad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62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63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64" name="5 CuadroTexto"/>
            <p:cNvSpPr/>
            <p:nvPr/>
          </p:nvSpPr>
          <p:spPr>
            <a:xfrm>
              <a:off x="1000080" y="714600"/>
              <a:ext cx="32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motor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6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813F-71B8-4D9B-84F9-5EE160C917CC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67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68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Problemas de relación: </a:t>
            </a:r>
            <a:r>
              <a:rPr b="1" lang="es-ES" sz="1800" spc="-1" strike="noStrike">
                <a:solidFill>
                  <a:srgbClr val="0042c8"/>
                </a:solidFill>
                <a:latin typeface="Calibri"/>
              </a:rPr>
              <a:t>problemas relacionados con la educación familiar; problemas de relación con los hermanos; educación lejos de los padres; niño afectado por una relación parental conflictiva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Maltrato infantil y negligencia</a:t>
            </a:r>
            <a:r>
              <a:rPr b="1" lang="es-ES" sz="1800" spc="-1" strike="noStrike">
                <a:solidFill>
                  <a:srgbClr val="0042c8"/>
                </a:solidFill>
                <a:latin typeface="Calibri"/>
              </a:rPr>
              <a:t>: maltrato físico infantil, abuso sexual infantil, maltrato psicológico infantil  y negligencia infantil. En todos ellos puede ser confirmado o sospechado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Funcionamiento intelectual límite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73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sp>
          <p:nvSpPr>
            <p:cNvPr id="174" name="3 Rectángulo redondeado"/>
            <p:cNvSpPr/>
            <p:nvPr/>
          </p:nvSpPr>
          <p:spPr>
            <a:xfrm>
              <a:off x="785880" y="571680"/>
              <a:ext cx="4572000" cy="1428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75" name="5 CuadroTexto"/>
            <p:cNvSpPr/>
            <p:nvPr/>
          </p:nvSpPr>
          <p:spPr>
            <a:xfrm>
              <a:off x="1054800" y="714240"/>
              <a:ext cx="412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Otros problemas que pueden ser objeto de atención clínic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7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DE59-AE95-452B-ADC2-80B182E9AA54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78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79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2d700"/>
                </a:solidFill>
                <a:uFillTx/>
                <a:latin typeface="Calibri"/>
                <a:hlinkClick r:id="rId1" action="ppaction://hlinksldjump"/>
              </a:rPr>
              <a:t>Trastorno del desarrollo intelectual o discapacidad intelectual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global del desarrollo (menores de 5 años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7b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No es posible valoración sistemática y no cumple los hitos de funcionamiento intelectual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intelectual no especificado (mayores de 5 años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7b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  </a:t>
            </a: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Cuando la valoración es difícil por procedimientos locales o deterioros sensoriales o físicos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52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53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54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Discapacidades intelectual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5280-B6D9-4872-B6F8-0FFB3774D180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57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58" name="10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ambio de terminología: trastornos del desarrollo intelectual / discapacidad intelectual vs retraso mental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riterios: IQ + función adaptativa+ inicio en etapa de desarroll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Áreas de evaluación: razonamiento, resolución de problemas, pensamiento abstracto, juicio, aprendizaje académic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Instrumentos IQ y adaptación : estandarizados y validados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Gravedad actual: leve, moderado, grave, profund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ominios a valorar:  conceptual, social y práctic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63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64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65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desarrollo intelectual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2B35-2A59-4982-9584-B1AF0B4F84DE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68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9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2d700"/>
                </a:solidFill>
                <a:uFillTx/>
                <a:latin typeface="Calibri"/>
                <a:hlinkClick r:id="rId1" action="ppaction://hlinksldjump"/>
              </a:rPr>
              <a:t>Trastorno  del lenguaje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2d700"/>
                </a:solidFill>
                <a:uFillTx/>
                <a:latin typeface="Calibri"/>
                <a:hlinkClick r:id="rId2" action="ppaction://hlinksldjump"/>
              </a:rPr>
              <a:t>Trastorno fonológic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2d700"/>
                </a:solidFill>
                <a:uFillTx/>
                <a:latin typeface="Calibri"/>
                <a:hlinkClick r:id="rId3" action="ppaction://hlinksldjump"/>
              </a:rPr>
              <a:t>Trastorno de la fluencia de inicio en la infancia (tartamude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2d700"/>
                </a:solidFill>
                <a:uFillTx/>
                <a:latin typeface="Calibri"/>
                <a:hlinkClick r:id="rId4" action="ppaction://hlinksldjump"/>
              </a:rPr>
              <a:t>Trastorno de la comunicación social (pragmátic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comunicación no especificad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74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75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76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CC21-6D65-45B8-A367-98BA9398E027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79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0" name="10 Flecha izquierda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 del lenguaje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Unificación del trastorno mixto receptivo-expresivo y trastorno expresivo (DSM-IV-TR)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Inicio temprano (en torno a los 4 año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atribuible a condiciones médicas ni neurológicas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riterio A: dificultades persistentes en adquisición y uso del lenguaje: vocabulario, estructura de frases limitada, errores en el discurs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riterio B: por debajo de lo esperado a su edad, con limitaciones funcionales.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85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86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87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40B6-961B-44C7-9E0F-0FB5C187A72F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90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1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fonológic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imilar al trastorno fonológico (DSM-IV-TR)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riterio A: dificultades persistentes en producción de sonidos del habla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Por debajo de lo esperado a su edad (inicio temprano, en torno a los 4 años),  on limitaciones funcionales.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atribuible a condiciones congénitas o adquiridas (parálisis cerebral,…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96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97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98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29F5-2D77-482D-9FE2-759E1D27A645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01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2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fluencia de inicio en la infancia (tartamude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in cambios significativos respecto a DSM-IV-TR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Alteraciones de la fluidez y en el patrón de habla en 1 o más síntomas (7 en total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ausan ansiedad al hablar o limitaciones en la comunicación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Inicio temprano del desarrollo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atribuibles a déficits sensoriales o motores del habla, ni lesión neurológica u condición médica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07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08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09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10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334D-AB05-494D-871B-B5A7D585D369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1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12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3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comunicación social (pragmátic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uevo diagnóstico (componente pragmático del lenguaje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Dificultades en la comunicación verbal y no verbal (uso de la comunicación con objetos sociales, ajustar la comunicación al contexto, seguir reglas de conversación y narración, compresión de lo no-explícito y significados no literale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Produce limitaciones funcionales en uno o más dominios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n un momento temprano del desarroll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atribuible a otra condición médica, neurológica o bajas aptitudes gramaticales, y no se explica mejor por TEA, DI, retraso global u otro trastorno mental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18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19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20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DE0E-D8DF-4D4A-8FE8-8016082A7814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23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4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ambio de terminología: trastornos generalizados del desarrollo vs trastornos del espectro autista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esaparecen las categorías diagnósticas independientes: Rett, Asperger.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Baremo de severidad de los síntomas o gravedad: 3 niveles de ayuda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eficiencias persistentes en comunicación social (A) y patrones restrictivos y repetitivos (B) del comportamient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Especificaciones: déficit intelectual, deterioro del lenguaje, asociado a afectación médica-genética-ambiental, asociado a trastorno del desarrollo neurológico, mental o del comportamient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29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30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31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espectro autist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32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A23C-0EF5-4142-A345-1B13EB55785A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3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34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35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21:31:00Z</dcterms:created>
  <dc:creator>USUARIO</dc:creator>
  <dc:description/>
  <dc:language>en-US</dc:language>
  <cp:lastModifiedBy>USUARIO</cp:lastModifiedBy>
  <dcterms:modified xsi:type="dcterms:W3CDTF">2014-06-01T22:38:58Z</dcterms:modified>
  <cp:revision>55</cp:revision>
  <dc:subject/>
  <dc:title>DSM-V</dc:title>
</cp:coreProperties>
</file>