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21B-42CB-4A60-80E1-605D765F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CDE-B031-4E1F-9FD1-518C377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488-8740-4C14-8A4C-41127D8B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6EB-FC92-4B63-9902-340F07C6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EEC-E12F-49F4-89A3-A902F92D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90C-CEBF-4ADA-87DD-53FDDB9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A81-E3AD-404E-A45B-4D55A53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8E0-5728-4ABB-866D-B0D1F7AE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4E9-AFFD-45A1-914B-A5E5F99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562-A055-4051-BE98-AACB9D1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292-2CE6-47FA-8809-4D199F0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A5B-D0EF-4AC8-AB9D-CCF0E6F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9E0E-1AD1-4760-B245-D515556AF7E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obsesivo-compulsivo (T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por excor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OC inducido por sustancias/med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OC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Otro TOC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4FD7-96F1-4B20-A008-D9E0B136991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 obsesivo compuls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ja de considerarse trastorno de ansiedad y tiene entidad prop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grupa otros trastornos como dismórfico corporal o tricotilomanía (antes control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s: trastornos por acumulación y trastorno por excori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es: “con pobre insight” o introspección,  “relacionado con tics”, “dismorfia muscular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2D11-76AF-491E-AD28-A35C7AA37EB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enos criterios para las obsesiones, elimina obligación que sean producto de su pensamiento. Elimina criterio B (irracionalidad de lo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obsesiones o compulsiones (2 criterios): pensamiento o impulsos recurrentes que causan ansiedad; intenta ignorar o suprimir los pensamientos; o comportamientos de carácter repetitivo en respuesta a una obs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ponen pérdida de tiempo, más de 1 hora la día o interfieren en la rutina dia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los síntomas de otros trastor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relacionado con ti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8D8-B2AA-40F6-A3B8-34F87E462D8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 de capítulo (deja trastornos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ocupación con defectos percibidos en la apariencia física que no es observado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Ha realizado comportamientos repetitivos o actos mentales (compara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preocupaciones por el tamaño y la silueta (T. alimentació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smorfia muscular: preocupación por insuficiente múscu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106C-A7C9-4425-95AC-5ADCABD10A9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ficultad persistente a deshacerse de las posesiones (necesidad de guardar los objetos) y le produce malest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orden o congestión de la vivi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otra condición méd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adquisición exces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62C4-2374-4B6B-A18B-FB1443C172E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ignificativos en los criterios (arrancamiento de cabello con pérdida perceptible), salvo la eliminación de la tensión/alivio al llevarlo a cab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XCORIACIÓN (RASCADO / ARRANCAMIENTO DE LA PI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Rascado o arrancamiento que provoca lesiones cutáneas, con intentos de disminuir o parar el rascado, ocupando gran cantidad de su tiempo, con deterioro social, con comportamientos o rituales asoci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95C7-8713-441B-9C66-70EE607FA7C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  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similares a TOC, rumiaciones sobre la apariencia, síntomas de acumulación, arrancamiento o ras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4E09-3B59-42A1-A9F7-A4C738E7EA4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OC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A29-5D4B-4762-8884-7DF0E4A5392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42:12Z</dcterms:modified>
  <cp:revision>20</cp:revision>
  <dc:subject/>
  <dc:title>DSM-V</dc:title>
</cp:coreProperties>
</file>