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5A6-905E-4464-B330-0A7B20E5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054-CFBA-47EC-B3D0-DC997424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0E6-0C91-42E6-9E1C-2544DBC4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E0C-D0A9-4B3B-B0AA-AE0E9432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CF5-B7A6-4810-AA87-AD3F3487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B08-FF92-467F-B404-FC470649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66F-907D-43CC-AB98-C5CE2D71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DBC-9314-4DF5-A35B-94AF8A60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8D6-252F-4491-B62F-D665BBDD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0B4-825E-4BC9-9F46-A0077F32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5FE-A5CF-4208-BE9D-2E27A6E5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BE6-BB16-4B9F-BEE5-93F8B3AC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DAB5-FB68-469A-B17F-9D9EAA72C0C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P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 rum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evitación /restricción de la ingestión de ali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Anorex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Bulim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rastorno por atrac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 trastorno alimentario o de la ingestión de alimentos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alimentario o de la ingestión de aliment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835E-AB26-4C29-ADFA-E8E0225B76A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47" name="1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2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50" name="12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corporación de trastornos de la infancia, niñez y adolescencia: Pica, rumiación; más el cambio de trastorno de la ingestión alimentaria en la infancia o de la niñez por  trastorno evitativo/restrictivo de la ingesta de comida (falta de interés por la comida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evitativo/restrictivo de la ingesta de comida aumenta de número de crite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iminación de criterio de amenorrea de la anorexia y criterio temporal de la bulim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: trastorno por atracón. Cambio de criterio temporal: 1 por semana, durante 3 meses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7B42-9D1F-46B0-ADEB-80870BF1AEF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61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P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 diagnóstico: ingestión de sustancias no nutritivas, inadecuadas al nivel de desarrollo y no forma parte de practicas sociales o culturales. Período al meno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i la ingesta aparece con otro trastorno mental, debe ser suficientemente grave para atención clínic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B3D9-3A70-40FC-AC3F-3F5B6F94153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72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RUMI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 diagnóstico: regurgitaciones repetidas de alimento. NO atribuible a alteración gastrointestinal u otra enfermedad médica. No ocurre en transcurso de anorexia, bulimia, atracón o trastorno de evitación/restricción de ingesta de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i los síntomas aparecen con otro trastorno mental, debe ser suficientemente grave para atención clínic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ECE2-E45F-4E49-9CA1-0F393929DE2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83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EVITACIÓN/RESTRICCIÓN DE LA INGESTA DE COM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Cambio de nombre y de grupo (antes en trastorno de la infancia o de la niñez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cento en la aversión a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 la comida o alimentación, con manifestación en pérdida de peso significativa, deficiencia nutricional significativa, depende de nutrición oral, interferencia en el funcionamiento psico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por falta de disponibilidad de comida o práctica cultu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ucede durante anorexia o bulimia nerviosa ( no hay alteración de la imagen corporal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nfermedad médica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BD26-E1C9-4588-B91A-F82D8C1FE67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94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NOREX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ece en el criterio A, el peso inferior al 85%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stricción de ingesta, lleva peso significativamente bajo respecto a lo esperado por edad, sexo, salud, trayector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tenso miedo a ganar pe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 la percepción del propio peso, exageración de la influencia del peso o forma corpo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ubtipos: restrictivo (dieta, ayuno o ejercicio intenso), compulsivo/purgativo(atracón o comportamiento purgativ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 de gravedad: IMC. Curso (remisión parcial o total). Gravedad: 4 niveles (leve ≥17 a extremo 15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1F67-A433-4A98-9A06-6A71E38AD23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05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BULIM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s recurrentes de atracones (comer en breve periodo de tiempo una cantidad superior a la media) y sensación de ausencia de control sobr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ductas compensatorias para prevenir ganancia de pe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vez por semana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utoevaluación influida por el peso y la silueta corpo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 de curso (remisión parcial o total) y gravedad: 4 niveles (leve 1-3 episodios/semana a extremo 14 o má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B079-E055-4BA7-BE99-90BB3A6899D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16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ATRAC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 trastorno ( no es una afección en estudio como en DSM-IV-TR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s recurrentes de atracones (comer en breve periodo de tiempo una cantidad superior a la media) y sensación de ausencia de control sobr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sociados a: comer más rápido, sentirse desagradablemente lleno, comer gran cantidad de comida aunque no sienta hambre, comer a solas por sentimiento de vergüenza, sentirse a disgusto con uno mismo, depresión o culpabi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lestar al recordar los atrac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asocia a estrategias compensatorias ( no aparece en curso de anorexia o bulim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vez por semana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A8F1-391F-406E-A74C-62538359583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27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DE LA ALI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de la alimentación” más la razón especifica: anorexia nerviosa atípica, bulimia nerviosa de baja frecuencia y/o de limitada duración, trastorno por atracón de baja frecuencia y/o de limitada duración, trastorno por purg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ALIMENTA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D538-7AF7-4B64-9D6E-8117DF769BA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38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1T21:52:38Z</dcterms:modified>
  <cp:revision>14</cp:revision>
  <dc:subject/>
  <dc:title>DSM-V</dc:title>
</cp:coreProperties>
</file>