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F11-4A6E-46C0-BA04-D8CB67AF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771-68F0-4183-92A8-E89B8FFE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DD0-BF06-43C0-A322-209C9EAF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CAE-489A-4114-95D3-A75A49C7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8EE-5650-4FB1-BE2E-86799E83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88A-DB84-4157-9F34-CDD14AF0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E56-4761-4BE7-A901-710118E6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C31-FFB4-41AD-A7D1-03D4D4AA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3DF-07E1-46C9-80F3-FB6FE755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A09-D7C4-4FD3-BCC6-36B5F0CA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8E0-41D3-4B90-BD09-15B2151E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095-955E-4940-BF62-41391D52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5F84-11AA-49A7-9755-1FF32625AA9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negativista desafia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explosivo intermit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conduc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antisocial de la personalidad (indicadores en trast. Personalidad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Piroman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Cleptoman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s trastornos destructivos del control de los impulsos y de la conducta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structivo del control de los impulsos y de la conducta no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45" name="3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46" name="3 Rectángulo redondeado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DB6F-E2D9-472B-A75C-9EC54B284B0E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0 Rectángulo redondeado">
            <a:hlinkClick r:id="rId11" action="ppaction://hlinksldjump"/>
          </p:cNvPr>
          <p:cNvSpPr/>
          <p:nvPr/>
        </p:nvSpPr>
        <p:spPr>
          <a:xfrm>
            <a:off x="6143760" y="1500120"/>
            <a:ext cx="235728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Cambios en DSM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404040"/>
                </a:solidFill>
                <a:latin typeface="Calibri"/>
              </a:rPr>
              <a:t>Se incluyen los trastornos de conducta perturbadora que estaban en los trastornos de inicio en la infancia y la adolesce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Calibri"/>
              </a:rPr>
              <a:t>Desaparecen otros trastornos del control de impulsos (la tricotilomanía) o el juego patológico( trastornos relacionados con otras sustancias y otras adiccion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4889-9192-4D05-90F9-359CA297B84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58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59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NEGATIVISTA DESAFI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(3 GRUPOS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enfadado o irrit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mportamiento discutidor /desafia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sentimien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sociado a malestar personal o en otros, o tiene impacto negativo en el funcionamiento 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uceden en transcurso de trastorno psicótico, uso de sustancias, depresión, t. bipol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la mayoría de los días durante 6 meses (menores de 5 años), 1 vez por semana durante 6 meses (mayores de 5 añ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gravedad (3 nivel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0383-1F2C-4956-991E-55E558AF197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69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70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CONDUCTA (antes diso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repetitivo en el que se violan los derechos de personas o normas soci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Agresión a personas y animales (7 criterios). Amenazas, peleas, uso de arma, crueldad física con personas o animales, robos con enfrentamiento, forzar sexualmen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Destrucción de la propiedad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Fraudelencia o robo (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Violaciones graves de las normas (3), permanecer fuera de casa, novillos antes de los 13 añ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 más de 18 años, no cumple criterios de trastorno antisocial de la persona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criterio durante 6 meses o 3 en los últimos 12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limitadas emociones prosociales. (NOVEDAD ), falta de remordimiento o culpa, callosidad-falta de empatía, despreocupado por el rendimiento , afecto superficial o deficiente. Tipo de inicio: infantil, adolescente, inespecífico. Grav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1F3A-5008-41F0-941E-D78EC2A2BAC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80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81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EXPLOSIVO INTERMIT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amplían los criterios y las especificaci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llidos de comportamiento, fallo para controlar impulsos agresivos. Agresiones verbales o físicas, 2 veces por semana, en 3 meses ( no produce daño físico o a la propiedad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es estallidos en 12 meses con daños físicos o a la propi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premeditados y no persiguen objetivos tangib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usan marcado malestar personal o funcionamiento social, interperso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mínima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puede añadirse a diagnóstico por TDAH, conducta, TEA, oposicionista-desafiante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3E3E-42AB-45BA-BE14-2FCFF244D86E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91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92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ANTISOCIAL DE LA PERSONAL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A. Desajuste moderado o mayor en el funcionamiento de la personalidad (2 áreas): identidad, autodirección, empatía, intim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B. 6 o más rasgos atópicos: manipulación, crueldad, falsedad, hostilidad, arriesgarse, impulsividad e irresponsabi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con 18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psicopát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4D54-CDA8-4405-B130-32FE344F173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102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103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PIR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No registra variaciones respecto a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CLEPT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No registra variaciones respecto a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2CC3-3F72-47DB-888A-B5D5AAF5930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113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114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POR SINTOMA SOMÁTICO ESPECIFICADO O RELACION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breve, menor de 6 meses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por ansiedad, pero no aparece criterio D (sin excesivas preocupacion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seudociesis o falsa creencia de estar embaraz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 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9F15-2A90-42D1-97DE-ABBBFE10F36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6 Grupo"/>
          <p:cNvGrpSpPr/>
          <p:nvPr/>
        </p:nvGrpSpPr>
        <p:grpSpPr>
          <a:xfrm>
            <a:off x="938160" y="723960"/>
            <a:ext cx="4572000" cy="1428840"/>
            <a:chOff x="938160" y="723960"/>
            <a:chExt cx="4572000" cy="1428840"/>
          </a:xfrm>
        </p:grpSpPr>
        <p:grpSp>
          <p:nvGrpSpPr>
            <p:cNvPr id="124" name="11 Rectángulo redondeado"/>
            <p:cNvGrpSpPr/>
            <p:nvPr/>
          </p:nvGrpSpPr>
          <p:grpSpPr>
            <a:xfrm>
              <a:off x="938160" y="723960"/>
              <a:ext cx="4572000" cy="1428840"/>
              <a:chOff x="938160" y="723960"/>
              <a:chExt cx="4572000" cy="1428840"/>
            </a:xfrm>
          </p:grpSpPr>
          <p:pic>
            <p:nvPicPr>
              <p:cNvPr id="125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938160" y="723960"/>
                <a:ext cx="45720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1064880" y="82116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5 CuadroTexto"/>
            <p:cNvSpPr/>
            <p:nvPr/>
          </p:nvSpPr>
          <p:spPr>
            <a:xfrm>
              <a:off x="1259280" y="88920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1:37:01Z</dcterms:modified>
  <cp:revision>18</cp:revision>
  <dc:subject/>
  <dc:title>Diapositiva 1</dc:title>
</cp:coreProperties>
</file>