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BF3-E105-45A7-9D62-8039A0C7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3173-C6AC-4B1C-A2FC-A57AE440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3CE6-67F3-412C-936F-80A6C346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A18-EADF-4220-B537-0240D25F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BA8-ACCD-479E-808F-9CF87836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7768-19AE-4981-88F6-59E710F5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75E-C79C-461A-8B91-2315B655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2155-C35F-4951-BC7C-587E2C7C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0E36-3456-4D58-AFB5-89B583A7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7E5-1278-4853-91CE-A681AA56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1396-722F-4939-9FD9-56535A67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D0B2-87B4-4DD3-A4AD-8E674FB4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6D20-72F4-40AE-BFD3-D5A5569CBF4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image" Target="../media/image1.png"/><Relationship Id="rId14" Type="http://schemas.openxmlformats.org/officeDocument/2006/relationships/slide" Target="slide2.xml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357280"/>
            <a:ext cx="7858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de ansiedad por separ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Mutismo selec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Fobia específ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de ansiedad social (fobia so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 de pán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Agorafob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Trastorno de ansiedad generaliz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de ansiedad inducido por sustancias/medicamen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Trastorno de ansiedad debido a otra afección méd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Otro trastorno de ansiedad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Trastorno de ansiedad no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4F8F-BA13-49CB-B2AD-543AE4386A92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13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725400" y="1322280"/>
            <a:ext cx="5327640" cy="750960"/>
            <a:chOff x="725400" y="1322280"/>
            <a:chExt cx="5327640" cy="750960"/>
          </a:xfrm>
        </p:grpSpPr>
        <p:pic>
          <p:nvPicPr>
            <p:cNvPr id="50" name="11 Rectángulo redondeado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25400" y="1322280"/>
              <a:ext cx="53276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17560" y="1389240"/>
              <a:ext cx="5151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 DE ANSIEDAD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limitados, no ansiedad generalizada que ocurre menos días, ataques de viento, ataque de nerv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SÍNTOMAS SOMÁTICOS Y RELACIONAD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9483-C655-440F-8836-0B57A9FE998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4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52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elimina el trastorno TOC (nuevo capítulo), de estrés postraumático y trastorno de estrés y se mueven a otros capítulos específ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s en criterios para fobia específica  (duración 6 meses, reconocer que la ansiedad es excesiva para mayores de 18 años) y trastorno de ansiedad soci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son un especificad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de pánico y agorafobia se diagnostíian por separ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incluyen el mutismo selectivo y el trastorno de ansiedad por separ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FB2C-BEAF-4A62-8BFB-786ADC836F0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ANSIEDAD POR SEPAR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UBICACIÓN, antes en trastorno de la infancia y adolesc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dicadores estab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imina criterio de inicio antes de los 18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nsiedad excesiva por separación del hogar o de las personas vinculadas: malestar, preocupación excesiva, negativa a salir, miedo a estar solo, pesadillas, quejas de síntomas fís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 menos 4 semanas en niños y 6 o más en adul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311C-B2B1-419C-8320-D1F005A4A8D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2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2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21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2856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MUTISMO SELE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UBICACIÓN, antes en trastorno de la infancia y adolesc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dicadores estables respecto a DSM-IV-TR (5 criterios) referidos al fracaso a hablar en situaciones sociales, interfiere en el rendimiento social, al menos 1 mes, no debido a falta de lenguaje y otro trastorno de la comun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A30D-7B9E-472A-AF5D-615F1CB099F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FOBIA ESPECÍF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y cambios sustanciales, pero desaparece la irracionalidad del miedo (no debe reconocers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 temporal para todas las edades: 6 me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 Temor acusado o ansiedad hacia objeto o situación que provoca miedo inmediato o ansiedad, desproporcionado al peligr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animal, ambiental, sangre-inyecciones, situacional u otros tip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815F-417C-4381-8119-A03A2467162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ANSIEDAD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ismo contenido que en DSM-IV-TR, con criterios un poco más extens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s iguales a los de fobia específica: Criterio temporal para todas las edades: 6 meses; y criterios:  Temor acusado o ansiedad hacia situación social , con miedo a ser evaluados negativamente, y que provoca miedo inmediato o ansiedad, desproporcionado al peligr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DA72-DFAE-4629-8C44-1D53F5AF03F6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02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5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PÁN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inesperados y recidivantes / recurrentes. Aparición súbita de miedo o malestar intenso, con al menos cuatro de los trece síntomas (palpitaciones, sudoración…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Las crisis han durado al menos una vez un mes, con 1 síntoma de inquietud persistente o cambio significativo de comportamient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debido a sustancias o enfermedad médica u otro trastorno men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ener en cuenta síntomas específicos cultura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dor de ataque de angustia (no es un trastorno mental), y puede aparecer durante el transcurso de otros trastorno mentales. Trece criter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 ans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68B0-1B8F-43AB-91FA-1AF2365C52B0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14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7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GORAFO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Las situaciones agorafóbicas deben ser dos ( 5 posibles), independiente del trastorno de pánico, pudiendo codificar ambos al mismo tiemp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ductas de evitación o temor a las situaciones, creencia de dificultad para escapar de el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ANSIEDAD GENERALIZ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mantienen los criterios, solo cambia criterio de duración: 6 meses, en los que ocurre más días que no los criterios (3 o más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 ans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4539-9AA2-4ECD-92C9-F510D0118C92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26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9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ANSIEDAD INDUCIDO POR MEDICACIÓN/SUSTANC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o ansiedad predomin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intoxicación por sustancias, abstinencia o 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o ansiedad predomin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una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 ans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5BF9-9E07-4AB6-A7D0-F9453D20774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3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41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1:53:55Z</dcterms:created>
  <dc:creator>USUARIO</dc:creator>
  <dc:description/>
  <dc:language>en-US</dc:language>
  <cp:lastModifiedBy>USUARIO</cp:lastModifiedBy>
  <dcterms:modified xsi:type="dcterms:W3CDTF">2014-06-01T23:19:51Z</dcterms:modified>
  <cp:revision>35</cp:revision>
  <dc:subject/>
  <dc:title>Diapositiva 1</dc:title>
</cp:coreProperties>
</file>