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6F23-E635-4086-B3E4-7CCDD72BD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A81C-9563-4749-9E57-96418336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2484-295B-4030-9F9C-12919E95C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5F6E-9F15-4415-90F3-B40010E5D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81E6-9D5E-409C-B150-B1B669B8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860D-3213-4B08-BE06-AD21B8F9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7156-984A-424F-A797-9CD61454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F1FA-BE9C-4ADD-B63B-7A658E0A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FB35-3D07-43A3-9EC9-11B42882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379C-6C12-41F2-ADBD-86ABE2B5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6E17-BAC1-4505-8748-D9711476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E034-5A3A-460D-99E5-75F13D2A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37A2-5EC2-4DA7-8586-D7D8EEF05BBF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DSM-V.ppt" TargetMode="Externa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9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9.xml"/><Relationship Id="rId10" Type="http://schemas.openxmlformats.org/officeDocument/2006/relationships/image" Target="../media/image1.png"/><Relationship Id="rId11" Type="http://schemas.openxmlformats.org/officeDocument/2006/relationships/slide" Target="slide2.xml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7160" y="2357280"/>
            <a:ext cx="785808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rastorno de desregulación emocional disrupti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rastorno depresivo may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rastorno depresivo persistente (distim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rastorno disfórico premestr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Trastorno depresivo inducido por sustancias/medic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Trastorno depresivo debido a otra condición méd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Otros trastorno depresivo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Trastorno depresivo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E919-D260-4603-9A31-ACD5CD0B253A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47" name="10 Rectángulo redondeado" descr=""/>
            <p:cNvPicPr/>
            <p:nvPr/>
          </p:nvPicPr>
          <p:blipFill>
            <a:blip r:embed="rId10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11 Rectángulo redondeado"/>
          <p:cNvGrpSpPr/>
          <p:nvPr/>
        </p:nvGrpSpPr>
        <p:grpSpPr>
          <a:xfrm>
            <a:off x="725400" y="1322280"/>
            <a:ext cx="5327640" cy="750960"/>
            <a:chOff x="725400" y="1322280"/>
            <a:chExt cx="5327640" cy="750960"/>
          </a:xfrm>
        </p:grpSpPr>
        <p:pic>
          <p:nvPicPr>
            <p:cNvPr id="50" name="11 Rectángulo redondeado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725400" y="1322280"/>
              <a:ext cx="532764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817560" y="1389240"/>
              <a:ext cx="5151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Cambios en DSM-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ASPECTOS DESTAC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eparado de otros trastornos del ánimo (en DSM-IV-TR dentro de esa categoría). Capítulo aparte de los trastornos bipolar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o trastorno en la etapa de infancia: desregulación emocional disruptivo. Hasta los 18 años, por irritabilidad persistente y episodios de descontrol conductual extrem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l episodio depresivo pasa a ser la definición de trastorno depresivo mayo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e crea trastorno depresivo persistente (agrupa trastorno depresivo mayor y distimia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e añade el especificador “con síntomas mixtos, cuando se cumple varios síntomas de episodio manía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e elimina el criterio de “ 2 meses después de fallecimiento” para diagnóstico de trastorno depresivo mayor en duelo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l trastorno  disfórico premenstrual abandona el trastorno depresivo “no especificado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EB00-7D8A-4380-A9DB-1446F1F8EBC1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58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61" name="11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DISREGULACIÓN DISRUPTIVA DEL ESTADO DE ÁNI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categoría, para evitar sobre-diagnóstico y excesivo tratamiento en ni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Graves pataletas verbales y/o conductuales, desproporcionadas en intensidad y duración. No acordes al nivel de desarroll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Frecuencia: 3 o más veces por semana. Duración: al menos 12 meses, sin 2 o más meses sin síntomas. Ambientes: al menos en dos (casa, escuela, compañero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tado de ánimo persistentemente irritable, enfadado cada día y observable por otr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ntre los 6 y los 18 años. Aparece antes de los 10 a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pisodio maniaco o hipomaniaco: todos los criterios, nunca más de 1 dí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deben ocurrir durante un trastorno depresivo mayor u otro trastorno ment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4431-CACE-47B6-B120-1D9DBE455845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69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12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72" name="12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9 Rectángulo redondeado"/>
          <p:cNvSpPr/>
          <p:nvPr/>
        </p:nvSpPr>
        <p:spPr>
          <a:xfrm>
            <a:off x="642960" y="2214720"/>
            <a:ext cx="8215200" cy="4214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57160" y="2285640"/>
            <a:ext cx="78580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PRESIVO MAY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inco síntomas durante 2 semanas, uno será estado de ánimo depresivo la mayor parte del día (en niños puede ser irritable) y pérdida de interés o capacidad para el placer, además d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Pérdida importante de peso, pérdida o aumento de apetit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Insomnio, hipersom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Agitación o enlentecimiento psicomotor. Fatiga o pérdida de energí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Sentimiento de inutilidad o culpa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Disminución de l a capacidad para concentrar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Pensamiento recurrentes de muerte, ideación suicida o tentativa o plan específic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alestar clínico significativo y deterioro social, laboral o otras áre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debido a una sustancia o enfermedad médic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ha habido episodio maniaco o hipomaníac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malestar ansioso, características mixtas, melancólicas, atípicas, catatonia, comienzo en el post-parto, patrón estacional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0D2A-F803-4000-AC32-E93A5B91B901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80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83" name="11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57160" y="2286000"/>
            <a:ext cx="785808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PRESIVO PERSISTE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onsolidación del trastorno distímico y del trastorno depresivo crónic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tado de ánimo triste  durante al menos dos años. En niños puede ser irritable, al menos 1 año. C. No ha estado dos meses sin síntom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resencia de dos o más síntoma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Pérdida o aumento de apetito; Insomnio, hipersomnia; Fatiga o pérdida de energía; Baja autoestima; Disminución de l a capacidad para concentrarse; Sentimientos de desesperanz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ha habido episodio maniaco o hipomaníaco. No debido a sustancia o enfermeda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malestar ansioso, características mixtas, melancólicas, atípicas, comienzo en el post-parto, 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remisión total o parcial; comienzo temprano o tardío; c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1B18-DD24-4157-B1B7-DD5FC56B8AE9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91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94" name="11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ISFÓRICO PREMESTR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bandona el grupo de trastorno no especificad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rincipales indicadores( 1 o más): labilidad emocional, irritabilidad, disforia y ansiedad , que ocurren repetidamente en el ciclo premenstru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íntomas combinados: disminución del interés, dificultad de concentración, letargia, cambio del apetito, cambio del sueño, sentido de estar sobrepasado, síntomas físic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Remiten después de la menstru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F84D-FDA7-41FB-B2CE-7C99CD39BB20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102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05" name="11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PRESIVO INDUCIDO POR SUSTANCIAS O MEDIC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esaparece el “trastorno del estado de ánimo inducido por sustancias” y aparecen dos: trastorno bipolar inducido/relacionado por sustancias/medicación y  trastorno depresivo inducido por sustancias/medic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lteración del estado de ánimo deprimid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urante o después de intoxicación de sustancia, síndrome de abstinencia o exposición a medic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parece en transcurso de deliriu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comienzo durante intoxicación o abstinenc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5 CuadroTexto"/>
          <p:cNvSpPr/>
          <p:nvPr/>
        </p:nvSpPr>
        <p:spPr>
          <a:xfrm>
            <a:off x="1054080" y="714240"/>
            <a:ext cx="41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Trastornos depre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74D2-F065-460B-B6D8-F2E1AE85B6A3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114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17" name="11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PRESIVO DEBIDO A OTRA CONDICIÓN MÉD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lteración del estado de ánimo deprimid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onsecuencia fisiológica de una enfermedad médic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parece en transcurso de deliriu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con características depresivas, de episodio depresivo mayor o mixt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5 CuadroTexto"/>
          <p:cNvSpPr/>
          <p:nvPr/>
        </p:nvSpPr>
        <p:spPr>
          <a:xfrm>
            <a:off x="1054080" y="714240"/>
            <a:ext cx="41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Trastornos depre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CDB2-9D86-456F-AD59-B4C93E7763E5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126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29" name="11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OTRO TRASTORNO DEPRESIV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categorí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epresión breve recurrente(2-13 días, al menos 4 síntomas, al menos 1 vez al me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pisodio depresivo breve (4-13 días, al menos 4 síntoma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pisodio depresivo con síntomas insuficientes (al menos 1 síntoma, dos semana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POR SÍNTOMAS SOMÁTICOS Y RELACIONADOS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uando no hay suficiente información para diagnóstico más específic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: con malestar ansioso, gravedad (4 niveles), síntomas mixt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4174-B9A7-4AAD-B058-9F24A4DA1805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137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40" name="11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1:53:55Z</dcterms:created>
  <dc:creator>USUARIO</dc:creator>
  <dc:description/>
  <dc:language>en-US</dc:language>
  <cp:lastModifiedBy>USUARIO</cp:lastModifiedBy>
  <dcterms:modified xsi:type="dcterms:W3CDTF">2014-06-01T22:10:17Z</dcterms:modified>
  <cp:revision>30</cp:revision>
  <dc:subject/>
  <dc:title>Diapositiva 1</dc:title>
</cp:coreProperties>
</file>