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F99B-6BE5-4962-B933-F8A95078F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4E7A-FAEA-4CCE-8F85-3814D1850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0F97-A93C-4E37-9831-B53291714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70C9-C2A4-4D72-9BB8-57D6158BC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CC0D-674C-496B-8872-961448E92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5BE1-24AF-4721-89A8-C0711FFAF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DE3C-251D-4B88-BB1C-5F19F54B5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1854-4E96-4064-A949-86FA54F13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D97C-F2B5-4B49-BC52-572456E8F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5148-5035-4A74-AE24-4B359883E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68D1-76E8-476E-9C54-D0CADF002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38D9-27B5-4396-A8C3-5C58AB553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34E5D-879E-4612-943C-AAE456702A5A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DSM-V.ppt" TargetMode="Externa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6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8.xml"/><Relationship Id="rId9" Type="http://schemas.openxmlformats.org/officeDocument/2006/relationships/slide" Target="slide2.xml"/><Relationship Id="rId10" Type="http://schemas.openxmlformats.org/officeDocument/2006/relationships/image" Target="../media/image1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rastorno de la vinculación reactiv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rastorno de la actividad social desinhibi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rastorno de estrés postraumátic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rastorno por estrés agu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6" action="ppaction://hlinksldjump"/>
              </a:rPr>
              <a:t>Trastornos adaptativ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7" action="ppaction://hlinksldjump"/>
              </a:rPr>
              <a:t>Otro trastorno relacionados con trauma y estresores especific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8" action="ppaction://hlinksldjump"/>
              </a:rPr>
              <a:t>Trastorno relacionados con trauma y estresores no especific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8F348-F828-4B86-8F77-BF88B2AB8CC9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10 Rectángulo redondeado"/>
          <p:cNvGrpSpPr/>
          <p:nvPr/>
        </p:nvGrpSpPr>
        <p:grpSpPr>
          <a:xfrm>
            <a:off x="5797440" y="1463760"/>
            <a:ext cx="3260880" cy="755640"/>
            <a:chOff x="5797440" y="1463760"/>
            <a:chExt cx="3260880" cy="755640"/>
          </a:xfrm>
        </p:grpSpPr>
        <p:pic>
          <p:nvPicPr>
            <p:cNvPr id="47" name="10 Rectángulo redondeado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5797440" y="1463760"/>
              <a:ext cx="326088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5889600" y="1531800"/>
              <a:ext cx="3079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Cambios en DSM-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11 Rectángulo redondeado"/>
          <p:cNvGrpSpPr/>
          <p:nvPr/>
        </p:nvGrpSpPr>
        <p:grpSpPr>
          <a:xfrm>
            <a:off x="938160" y="792000"/>
            <a:ext cx="4329000" cy="993960"/>
            <a:chOff x="938160" y="792000"/>
            <a:chExt cx="4329000" cy="993960"/>
          </a:xfrm>
        </p:grpSpPr>
        <p:pic>
          <p:nvPicPr>
            <p:cNvPr id="50" name="11 Rectángulo redondeado" descr=""/>
            <p:cNvPicPr/>
            <p:nvPr/>
          </p:nvPicPr>
          <p:blipFill>
            <a:blip r:embed="rId11"/>
            <a:stretch/>
          </p:blipFill>
          <p:spPr>
            <a:xfrm>
              <a:off x="938160" y="792000"/>
              <a:ext cx="432900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1041480" y="898560"/>
              <a:ext cx="413208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relacionados con trauma y estreso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9 Rectángulo redondeado"/>
          <p:cNvSpPr/>
          <p:nvPr/>
        </p:nvSpPr>
        <p:spPr>
          <a:xfrm>
            <a:off x="642960" y="2214720"/>
            <a:ext cx="8215200" cy="314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ASPECTOS DESTACAD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ueva categoría con los trastornos de estré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Integra algunos que aparecían con los trastornos de ansiedad y otros que estaban dentro de la categoría de la infancia y adolescenci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ambios significativos en el trastorno de estrés postraumático (eventos más explícitos, desaparece el criterio A2, cuatro grupos de síntomas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riterios separados para menores de 6 añ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Trastorno de estrés agudo, directo o indirecto. Eliminación criterio A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Trastorno de vinculación reactivo,  y trastorno de la actividad social desinhibida (trastornos separados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F52A3-0176-4365-815F-05C16AA9698A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8 Marcador de pie de página"/>
          <p:cNvSpPr/>
          <p:nvPr/>
        </p:nvSpPr>
        <p:spPr>
          <a:xfrm>
            <a:off x="314316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10 Rectángulo redondeado"/>
          <p:cNvGrpSpPr/>
          <p:nvPr/>
        </p:nvGrpSpPr>
        <p:grpSpPr>
          <a:xfrm>
            <a:off x="938160" y="792000"/>
            <a:ext cx="4329000" cy="993960"/>
            <a:chOff x="938160" y="792000"/>
            <a:chExt cx="4329000" cy="993960"/>
          </a:xfrm>
        </p:grpSpPr>
        <p:pic>
          <p:nvPicPr>
            <p:cNvPr id="58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938160" y="792000"/>
              <a:ext cx="432900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041480" y="898560"/>
              <a:ext cx="413208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relacionados con trauma y estreso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13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61" name="13 Flecha izquierda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9 Rectángulo redondeado"/>
          <p:cNvSpPr/>
          <p:nvPr/>
        </p:nvSpPr>
        <p:spPr>
          <a:xfrm>
            <a:off x="642960" y="2214720"/>
            <a:ext cx="8215200" cy="4071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857160" y="2499840"/>
            <a:ext cx="785808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DE LA VINCULACIÓN REACTIV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Mantiene los mismos criterios que DSM-IV-TR, pero separa los dos tipos (inhibido y desinhibido), como trastorno de la vinculación reactivo y trastorno de la actividad social desinhibid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n el trastorno de vinculación reactivo especifica más los indicadores y añade varios criterios de exclusió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Patrón constante de conducta inhibida, emocional retraída hacia adultos cuidadores: falta de búsqueda de consuelo, o falta de respuesta cuando se consuel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persistente alteración social: mínima respuesta social, limitado afecto positivo, episodios de irritabilidad inexplicabl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Patrón extremo de insuficientes cuidados (3 criterios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cumple criterios de TEA. Antes de los 5 añ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r: persistencia, graveda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E1441-A04C-447A-A421-EAA1804439DB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8 Marcador de pie de página"/>
          <p:cNvSpPr/>
          <p:nvPr/>
        </p:nvSpPr>
        <p:spPr>
          <a:xfrm>
            <a:off x="314316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10 Rectángulo redondeado"/>
          <p:cNvGrpSpPr/>
          <p:nvPr/>
        </p:nvGrpSpPr>
        <p:grpSpPr>
          <a:xfrm>
            <a:off x="938160" y="792000"/>
            <a:ext cx="4329000" cy="993960"/>
            <a:chOff x="938160" y="792000"/>
            <a:chExt cx="4329000" cy="993960"/>
          </a:xfrm>
        </p:grpSpPr>
        <p:pic>
          <p:nvPicPr>
            <p:cNvPr id="69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938160" y="792000"/>
              <a:ext cx="432900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1041480" y="898560"/>
              <a:ext cx="413208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relacionados con trauma y estreso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13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72" name="13 Flecha izquierda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DE LA ACTIVIDAD SOCIAL DESINHIBI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l niño se acerca activamente a adultos no familiares: reducida reticencia a acercarse, conducta excesivamente familiar, reducida comprobación de la opinión de los adultos cuidadores, disposición a irs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tas conductas no se limitan a impulsivida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Patrón extremo de cuidados insuficientes (3 criterios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dad mínima 9 mes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r: persistencia, graveda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09129-3459-49D8-8593-CE018D27583E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10 Rectángulo redondeado"/>
          <p:cNvGrpSpPr/>
          <p:nvPr/>
        </p:nvGrpSpPr>
        <p:grpSpPr>
          <a:xfrm>
            <a:off x="938160" y="792000"/>
            <a:ext cx="4329000" cy="993960"/>
            <a:chOff x="938160" y="792000"/>
            <a:chExt cx="4329000" cy="993960"/>
          </a:xfrm>
        </p:grpSpPr>
        <p:pic>
          <p:nvPicPr>
            <p:cNvPr id="80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938160" y="792000"/>
              <a:ext cx="432900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1041480" y="898560"/>
              <a:ext cx="413208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relacionados con trauma y estreso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13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83" name="13 Flecha izquierda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9 Rectángulo redondeado"/>
          <p:cNvSpPr/>
          <p:nvPr/>
        </p:nvSpPr>
        <p:spPr>
          <a:xfrm>
            <a:off x="642960" y="2214720"/>
            <a:ext cx="8215200" cy="4214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DE ESTRÉS POSTRAUMÁTIC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Separa adultos y mayores de 6 años, de los niños menores de 6 añ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Adultos: exposición a muerte real o peligro de muerte, lesiones o violencia sexual (4 criterios); presencia de síntomas intrusivos (recuerdos recurrentes, sueños, sensación de que el acontecimiento está sucediendo, malestar ante estímulos que lo recuerdan); evitación de estímulos asociados al trauma (7 criterios); alteraciones negativas de las cogniciones (7 criterios); alteraciones de la activación y reactividad (6 criterios). Duran más de 1 m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r: síntomas disociativos (despersonalización, desrealización), inicio demorad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n niños: exposición a muerte real o peligro de muerte, lesiones o violencia sexual (2 criterios); presencia de síntomas intrusivos (recuerdos recurrentes, sueños, sensación de que el acontecimiento está sucediendo, malestar ante estímulos que lo recuerdan); evitación de estímulos asociados al trauma (5 criterios); alteraciones negativas de las cogniciones (5 criterios); alteraciones de la activación y reactividad (5 criterios). Duran más de 1 m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A685E-CDFE-4524-BF8B-AA6CE83A3814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10 Rectángulo redondeado"/>
          <p:cNvGrpSpPr/>
          <p:nvPr/>
        </p:nvGrpSpPr>
        <p:grpSpPr>
          <a:xfrm>
            <a:off x="938160" y="792000"/>
            <a:ext cx="4329000" cy="993960"/>
            <a:chOff x="938160" y="792000"/>
            <a:chExt cx="4329000" cy="993960"/>
          </a:xfrm>
        </p:grpSpPr>
        <p:pic>
          <p:nvPicPr>
            <p:cNvPr id="91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938160" y="792000"/>
              <a:ext cx="432900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041480" y="898560"/>
              <a:ext cx="413208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relacionados con trauma y estreso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13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94" name="13 Flecha izquierda" descr=""/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DE ESTRÉS AGU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riterios: exposición a muerte real o peligro de muerte, lesiones o violencia sexual (4 criterios)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Síntomas intrusivos (recuerdos recurrentes, sueños, sensación de que el acontecimiento está sucediendo, malestar ante estímulos que lo recuerdan)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Síntomas  de evitación de estímulos asociados al trauma (2 criterios)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Síntomas de afecto negativo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Síntomas disociativos (2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Síntomas de activación (5): problemas de sueños, irritabilidad, hiper-vigilancia, concentración, respuestas exageradas de sobresalto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Duración mínima 3 días y un m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DC866-D4DD-4609-809A-7947FE1D6FE1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10 Rectángulo redondeado"/>
          <p:cNvGrpSpPr/>
          <p:nvPr/>
        </p:nvGrpSpPr>
        <p:grpSpPr>
          <a:xfrm>
            <a:off x="938160" y="792000"/>
            <a:ext cx="4329000" cy="993960"/>
            <a:chOff x="938160" y="792000"/>
            <a:chExt cx="4329000" cy="993960"/>
          </a:xfrm>
        </p:grpSpPr>
        <p:pic>
          <p:nvPicPr>
            <p:cNvPr id="102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938160" y="792000"/>
              <a:ext cx="432900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1041480" y="898560"/>
              <a:ext cx="413208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relacionados con trauma y estreso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13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05" name="13 Flecha izquierda" descr=""/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S ADAPTATIV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Síntomas emocionales o de conducta e respuesta a estresores, dentro de los tres meses siguientes al evento, con malestar y deterioro social significativo. No persisten más de 6 mes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responden a duel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r: ánimo depresivo, ansiedad, mixto, alteraciones del comportamiento, mixto con alteraciones emocionales y comportamiento, no especificad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97B5D-1BD7-46F4-AC0E-20D1FD5D17DB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10 Rectángulo redondeado"/>
          <p:cNvGrpSpPr/>
          <p:nvPr/>
        </p:nvGrpSpPr>
        <p:grpSpPr>
          <a:xfrm>
            <a:off x="938160" y="792000"/>
            <a:ext cx="4329000" cy="993960"/>
            <a:chOff x="938160" y="792000"/>
            <a:chExt cx="4329000" cy="993960"/>
          </a:xfrm>
        </p:grpSpPr>
        <p:pic>
          <p:nvPicPr>
            <p:cNvPr id="113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938160" y="792000"/>
              <a:ext cx="432900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1041480" y="898560"/>
              <a:ext cx="413208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relacionados con trauma y estreso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13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16" name="13 Flecha izquierda" descr=""/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5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OTRO TRASTORNOS ESPECIFICOS RELACIONADOS CON TRAUMA Y ESTRESO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ueva categoría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cumple todos los criterios de alguna de las categorías precedent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umplimentar como “otro trastorno específico relacionados con trauma y estresores” más la razón especific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RELACIONADOS CON TRAUMA Y ESTRESORES NO ESPECIFIC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-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uando no hay suficiente información para diagnóstico más específico y no comunica razón específic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329FC-EA15-4C45-AE4A-7F2EEB9C15DC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10 Rectángulo redondeado"/>
          <p:cNvGrpSpPr/>
          <p:nvPr/>
        </p:nvGrpSpPr>
        <p:grpSpPr>
          <a:xfrm>
            <a:off x="938160" y="792000"/>
            <a:ext cx="4329000" cy="993960"/>
            <a:chOff x="938160" y="792000"/>
            <a:chExt cx="4329000" cy="993960"/>
          </a:xfrm>
        </p:grpSpPr>
        <p:pic>
          <p:nvPicPr>
            <p:cNvPr id="124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938160" y="792000"/>
              <a:ext cx="432900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1041480" y="898560"/>
              <a:ext cx="413208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relacionados con trauma y estreso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13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27" name="13 Flecha izquierda" descr=""/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2:52:41Z</dcterms:created>
  <dc:creator>USUARIO</dc:creator>
  <dc:description/>
  <dc:language>en-US</dc:language>
  <cp:lastModifiedBy>USUARIO</cp:lastModifiedBy>
  <dcterms:modified xsi:type="dcterms:W3CDTF">2014-06-02T07:28:38Z</dcterms:modified>
  <cp:revision>26</cp:revision>
  <dc:subject/>
  <dc:title>DSM-V</dc:title>
</cp:coreProperties>
</file>