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DB1-7192-41AF-B047-23E77F55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6F2-CFD7-4B80-AFDE-D00CBF6B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5CC-5DB9-4074-8422-0AFCC335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DE2-6CBF-4DF4-94C7-DD2C9353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CC5-9D86-4F4B-8AED-3B1756DB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3AC-A0C1-4DE9-9E14-FDB9E89B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85D-3553-4AFD-890D-AEF7F05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F3C-8B85-4B44-AB86-12293754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4F0-9463-4D33-A962-4314109A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232-F9A2-4EE7-89D3-B5A794D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B83-0FD2-4C9E-8B06-073D0ABB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940-8F16-43B2-95EB-EC10DD0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6FC0-94D9-4901-B6AE-4D78C4946A2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rum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vitación /restricción de la ingestión de al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 trastorno alimentario o de la ingestión de alimento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alimentario o de la ingestión de aliment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1540-ED7B-4C9B-9949-023BF1DB569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corporación de trastornos de la infancia, niñez y adolescencia: Pica, rumiación; más el cambio de trastorno de la ingestión alimentaria en la infancia o de la niñez por  trastorno evitativo/restrictivo de la ingesta de comida (falta de interés por la comida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evitativo/restrictivo de la ingesta de comida aumenta de número d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ción de criterio de amenorrea de la anorexia y criterio temporal de la bulim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: trastorno por atracón. Cambio de criterio temporal: 1 por semana, durante 3 meses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AA1E-71C3-4945-9268-BA22227434D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ingestión de sustancias no nutritivas, inadecuadas al nivel de desarrollo y no forma parte de practicas sociales o culturales. Período al meno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a ingesta aparece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726D-9476-4594-8CEA-343E74C406F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RUMI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regurgitaciones repetidas de alimento. NO atribuible a alteración gastrointestinal u otra enfermedad médica. No ocurre en transcurso de anorexia, bulimia, atracón o trastorno de evitación/restricción de ingesta de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os síntomas aparecen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B414-1C62-4C69-A7D4-B825432EEDE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VITACIÓN/RESTRICCIÓN DE LA INGESTA DE COM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Cambio de nombre y de grupo (antes en trastorno de la infancia o de la niñez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cento en la aversión a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comida o alimentación, con manifestación en pérdida de peso significativa, deficiencia nutricional significativa, depende de nutrición oral, interferencia en el funcionamiento psico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por falta de disponibilidad de comida o práctica cultu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 durante anorexia o bulimia nerviosa ( no hay alteración de la imagen corporal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092C-4CC8-4DF2-B81A-9D2ECF0A515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n el criterio A, el peso inferior al 85%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tricción de ingesta, lleva peso significativamente bajo respecto a lo esperado por edad, sexo, salud, trayecto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nso miedo a ganar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percepción del propio peso, exageración de la influencia del peso o form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btipos: restrictivo (dieta, ayuno o ejercicio intenso), compulsivo/purgativo(atracón o comportamiento purgativ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gravedad: IMC. Curso (remisión parcial o total). Gravedad: 4 niveles (leve ≥17 a extremo 1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8573-EF26-402E-B96E-65DDCE4D738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compensatorias para prevenir ganancia de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utoevaluación influida por el peso y la siluet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curso (remisión parcial o total) y gravedad: 4 niveles (leve 1-3 episodios/semana a extremo 14 o má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67D4-0C44-4EF9-BA0C-C3186B1EC94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( no es una afección en estudio como en DSM-IV-TR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s a: comer más rápido, sentirse desagradablemente lleno, comer gran cantidad de comida aunque no sienta hambre, comer a solas por sentimiento de vergüenza, sentirse a disgusto con uno mismo, depresión o culp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al recordar los atrac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asocia a estrategias compensatorias ( no aparece en curso de anorexia o bul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738D-2CCE-41CA-A8B1-876FE8F7572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ALI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alimentación” más la razón especifica: anorexia nerviosa atípica, bulimia nerviosa de baja frecuencia y/o de limitada duración, trastorno por atracón de baja frecuencia y/o de limitada duración, trastorno por purg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LIMENTA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7BFB-89E8-4EF9-A8A9-80F675C427E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38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2:38Z</dcterms:modified>
  <cp:revision>14</cp:revision>
  <dc:subject/>
  <dc:title>DSM-V</dc:title>
</cp:coreProperties>
</file>