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8C2-AFEC-40C2-A842-1C715702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311-48C1-4B59-A291-88C8FE2A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CBE-01F1-4890-9E3B-D89DA2A5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2A8-7F64-4CE9-81BB-B87D3309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877-759F-43BA-B890-B0E98E90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FFB-63B0-4881-841E-E7D294AB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F51-CE62-4D47-9073-3C6DE8B4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E77-C2F1-40CD-B612-F6C641AE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1A9-91AE-45FC-AEC6-5A7A8B6E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908-DE89-4797-819C-413FAB8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922-E5B3-489A-B40D-C12A9178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DA4-9A49-4025-BE1C-894FE226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120A-7E69-41C3-8E88-3553F5E63E4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negativista desafi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explosivo intermit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conduc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antisocial de la personalidad (indicadores en trast. Personalida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Pir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Clept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s destructivos del control de los impulsos y de la conducta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structivo del control de los impulsos y de la conducta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45" name="3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46" name="3 Rectángulo redondeado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2C97-7A88-4785-8977-9766796CCDA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Rectángulo redondeado">
            <a:hlinkClick r:id="rId11" action="ppaction://hlinksldjump"/>
          </p:cNvPr>
          <p:cNvSpPr/>
          <p:nvPr/>
        </p:nvSpPr>
        <p:spPr>
          <a:xfrm>
            <a:off x="6143760" y="1500120"/>
            <a:ext cx="235728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Cambios en DSM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Se incluyen los trastornos de conducta perturbadora que estaban en los trastornos de inicio en la infancia y la adolesc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Desaparecen otros trastornos del control de impulsos (la tricotilomanía) o el juego patológico( trastornos relacionados con otras sustancias y otras adiccion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5C78-3EE5-4E76-9105-6D51D943AB3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58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59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(3 GRUPOS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enfadado o irri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mportamiento discutidor /desafia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enti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 a malestar personal o en otros, o tiene impacto negativo en el funcionamiento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n en transcurso de trastorno psicótico, uso de sustancias, depresión, t. bipol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la mayoría de los días durante 6 meses (menores de 5 años), 1 vez por semana durante 6 meses (mayores de 5 añ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gravedad (3 nive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DCD1-E64F-40D3-A27E-D7A99BB192E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69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70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CONDUCTA (antes diso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repetitivo en el que se violan los derechos de personas o normas so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resión a personas y animales (7 criterios). Amenazas, peleas, uso de arma, crueldad física con personas o animales, robos con enfrentamiento, forzar sexualm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estrucción de la propiedad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Fraudelencia o robo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Violaciones graves de las normas (3), permanecer fuera de casa, novillos antes de los 13 añ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 más de 18 años, no cumple criterios de trastorno antisocial de la persona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criterio durante 6 meses o 3 en los últimos 12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limitadas emociones prosociales. (NOVEDAD ), falta de remordimiento o culpa, callosidad-falta de empatía, despreocupado por el rendimiento , afecto superficial o deficiente. Tipo de inicio: infantil, adolescente, inespecífico. Grav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D85D-BD5D-4892-9DB9-2366A667581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80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8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mplían los criterios y las especificac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llidos de comportamiento, fallo para controlar impulsos agresivos. Agresiones verbales o físicas, 2 veces por semana, en 3 meses ( no produce daño físico o a la propiedad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es estallidos en 12 meses con daños físicos o a la propi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premeditados y no persiguen objetivos tangi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usan marcado malestar personal o funcionamiento social, interpers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puede añadirse a diagnóstico por TDAH, conducta, TEA, oposicionista-desafiante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E46B-9888-4087-A025-5CD3AF0BCC9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91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92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TISOCIAL DE LA PERSON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A. Desajuste moderado o mayor en el funcionamiento de la personalidad (2 áreas): identidad, autodirección, empatía, intim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B. 6 o más rasgos atópicos: manipulación, crueldad, falsedad, hostilidad, arriesgarse, impulsividad e irrespons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con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psicopát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BE7A-36F1-40AD-ABD6-98224114BFC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02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03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R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CLEPT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746A-F97A-4058-B280-25DB7A74594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13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14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POR SINTOMA SOMÁTICO ESPECIFICADO O RELACION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breve, menor de 6 mes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por ansiedad, pero no aparece criterio D (sin excesivas preocupacio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seudociesis o falsa creencia de estar embaraz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1CF5-FE78-4B06-8C8E-6E25E9FCB18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6 Grupo"/>
          <p:cNvGrpSpPr/>
          <p:nvPr/>
        </p:nvGrpSpPr>
        <p:grpSpPr>
          <a:xfrm>
            <a:off x="938160" y="723960"/>
            <a:ext cx="4572000" cy="1428840"/>
            <a:chOff x="938160" y="723960"/>
            <a:chExt cx="4572000" cy="1428840"/>
          </a:xfrm>
        </p:grpSpPr>
        <p:grpSp>
          <p:nvGrpSpPr>
            <p:cNvPr id="124" name="11 Rectángulo redondeado"/>
            <p:cNvGrpSpPr/>
            <p:nvPr/>
          </p:nvGrpSpPr>
          <p:grpSpPr>
            <a:xfrm>
              <a:off x="938160" y="723960"/>
              <a:ext cx="4572000" cy="1428840"/>
              <a:chOff x="938160" y="723960"/>
              <a:chExt cx="4572000" cy="1428840"/>
            </a:xfrm>
          </p:grpSpPr>
          <p:pic>
            <p:nvPicPr>
              <p:cNvPr id="125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938160" y="723960"/>
                <a:ext cx="45720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064880" y="82116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5 CuadroTexto"/>
            <p:cNvSpPr/>
            <p:nvPr/>
          </p:nvSpPr>
          <p:spPr>
            <a:xfrm>
              <a:off x="1259280" y="88920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1:37:01Z</dcterms:modified>
  <cp:revision>18</cp:revision>
  <dc:subject/>
  <dc:title>Diapositiva 1</dc:title>
</cp:coreProperties>
</file>