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A7E-61F2-425F-9D23-2DCC7445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9CC-6362-469F-98C8-E784B013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CDC-0161-436B-A8A6-B029CE83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5C9-67D9-4622-A66E-E70D26DF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E8A-3A0A-4A68-9420-B8BEF0EF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95B-005B-48C0-9F6D-85580DA8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8FE-866F-49C3-A06D-C760A2AC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52D-2984-4D97-A0D2-8DEC8D8D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A78-4010-4D3E-87EC-5D2A91EC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11D-7217-4E04-9D7E-A7650AF6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DC0-4FBF-4520-9260-11B1BD52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2A6-12D3-4E92-8999-741B27C4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3AC4-758C-411A-8F6A-2A1548D3DF9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desregulación emocional disrup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presivo persistente (disti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presivo inducido por sustancias/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3165-B7AB-4AB3-946B-AB9E34A682C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do de otros trastornos del ánimo (en DSM-IV-TR dentro de esa categoría). Capítulo aparte de los trastornos bipol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en la etapa de infancia: desregulación emocional disruptivo. Hasta los 18 años, por irritabilidad persistente y episodios de descontrol conductual extrem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episodio depresivo pasa a ser la definición de trastorno depresivo may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crea trastorno depresivo persistente (agrupa trastorno depresivo mayor y dist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ñade el especificador “con síntomas mixtos, cuando se cumple varios síntomas de episodio maní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criterio de “ 2 meses después de fallecimiento” para diagnóstico de trastorno depresivo mayor en duel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trastorno  disfórico premenstrual abandona el trastorno depresivo “no especificado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3686-FF8D-41FB-B416-EFDF41DAD4D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DISREGULACIÓN DISRUPTIVA DEL ESTADO DE ÁNI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, para evitar sobre-diagnóstico y excesivo tratamiento en ni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Graves pataletas verbales y/o conductuales, desproporcionadas en intensidad y duración. No acordes al nivel de desarro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3 o más veces por semana. Duración: al menos 12 meses, sin 2 o más meses sin síntomas. Ambientes: al menos en dos (casa, escuela, compañer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persistentemente irritable, enfadado cada día y observable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tre los 6 y los 18 años. Aparece antes de los 10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maniaco o hipomaniaco: todos los criterios, nunca más de 1 dí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en ocurrir durante un trastorno depresivo mayor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3EF-17FD-4DA2-8F78-7733381FC5F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inco síntomas durante 2 semanas, uno será estado de ánimo depresivo la mayor parte del día (en niños puede ser irritable) y pérdida de interés o capacidad para el placer, además d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importante de peso, pérdida o aumento de apetit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Insomnio, hipersom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itación o enlentecimiento psicomotor. Fatiga o pérdida de energí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Sentimiento de inutilidad o culp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isminución de l a capacidad para concentra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ensamiento recurrentes de muerte, ideación suicida o tentativa o plan específ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clínico significativo y deterioro social, laboral o otras áre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una sustancia o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atatonia, comienzo en el post-parto, patrón estacional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6891-1B3C-46EE-BC30-0849C73AF7C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PERSIS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olidación del trastorno distímico y del trastorno depresivo crón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triste  durante al menos dos años. En niños puede ser irritable, al menos 1 año. C. No ha estado dos meses sin sínto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dos o más sínto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o aumento de apetito; Insomnio, hipersomnia; Fatiga o pérdida de energía; Baja autoestima; Disminución de l a capacidad para concentrarse; Sentimientos de desesperanz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 No debido a sustancia o enferm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omienzo en el post-parto,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remisión total o parcial; comienzo temprano o tardío;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0B6A-A0D1-4BCA-8A62-2502336DAFC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bandona el grupo de trastorno no especific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incipales indicadores( 1 o más): labilidad emocional, irritabilidad, disforia y ansiedad , que ocurren repetidamente en el ciclo premenstru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combinados: disminución del interés, dificultad de concentración, letargia, cambio del apetito, cambio del sueño, sentido de estar sobrepasado,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miten después de la menstru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99B5-3BC3-4A4D-883C-BCC9B1840E1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INDUCIDO POR SUSTANCIAS O 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l “trastorno del estado de ánimo inducido por sustancias” y aparecen dos: trastorno bipolar inducido/relacionado por sustancias/medicación y  trastorno depresivo inducido por sustancias/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nte o después de intoxicación de sustancia, síndrome de abstinencia o exposición a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mienzo durante intoxicación o abstin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459F-408B-40C2-BFEE-3E1265170B0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 características depresivas, de episodio depresivo mayor o mixt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E159-F5E1-4BAA-BB05-6B21FCC2057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PRESIV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presión breve recurrente(2-13 días, al menos 4 síntomas, al menos 1 vez al m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breve (4-13 días, al menos 4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con síntomas insuficientes (al menos 1 síntoma, dos sema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malestar ansioso, gravedad (4 niveles), síntomas mix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F20-0B32-4D09-AC35-5422500A1D2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7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0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2:10:17Z</dcterms:modified>
  <cp:revision>30</cp:revision>
  <dc:subject/>
  <dc:title>Diapositiva 1</dc:title>
</cp:coreProperties>
</file>