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69F-F9D1-4388-9E84-32A4D769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88F-8697-4593-9564-98019857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DA3-E435-40A0-AA61-535744AE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9B4-F9D9-426C-A5B4-344073D5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389-7011-460A-BF82-83E404FD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7B9-362B-4D2B-B10A-08BDC901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B51-2C28-4C79-8CA2-E10883B7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F3E-37DC-4F53-8F28-9FB8C856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D44-E40C-4E81-A407-8F411760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106-571D-424E-9FE8-A9D18A5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E07-EA92-40D3-9CFF-359E76E5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A62-18DA-4DC1-9EAC-8F497B86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7BAE-A65B-4704-947B-C0D980FB462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2.xml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tro trastorno alimentario de la excreción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B6A9-47D5-43A1-90FC-0A82F084E95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ición de la categoría de trastornos de inicio en la infancia y la adolescencia y pasa a ser una categorí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vinculado de otros cuadros o trastornos por la alteración de hábitos básicos o por la edad de apari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369F-2BCE-4B96-A4F1-4F988C88BED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misión repetida de orina en la cama o en la ropa (involuntaria o intenciona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2 episodios por semana en 3 meses consecutivos o malestar clínicamente significativo o deterioro social, académico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cronológica al men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sólo nocturna, sólo diurna, nocturna y diurn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8CD8-50AE-4780-86EE-96F9B73815B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vacuación repetida de heces, involuntaria o intencion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1 episodio al mes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: por lo menos 4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estreñimiento e incontinencia por rebosamiento o sin estreñimiento e incontinencia por rebosamiento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144A-E6C2-4BD2-8A0B-EA27D834EDE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EXCRE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excreción” más la razón especifica: baja frecuencia de enuresis o encopres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2AA6-3776-4309-926E-275FC51A3B1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1:33Z</dcterms:modified>
  <cp:revision>20</cp:revision>
  <dc:subject/>
  <dc:title>DSM-V</dc:title>
</cp:coreProperties>
</file>