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7E5-CE47-472F-B7F0-5772052A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4AC-B6C6-42E3-B70F-688F6BD5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1DD-C067-4BBC-AD6D-333C25BB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8382-E653-47D4-A005-F2DDF9C0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5FB-C879-44DF-81EC-ADFCDAAB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601-A3FA-456A-B3AF-2378101D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E40-E6E8-4C6C-8148-E5BFA12A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F5D4-65CB-4870-9FD5-0F0E8482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65C9-4EDA-467B-893E-B88F9289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B48-8DE8-4A98-AA31-51FB9E57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8EC0-B0E6-4398-9583-C90367D5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192-0A7C-45C8-ADC5-D4ED5C78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4F23-82A3-4BD5-B0DA-990353AA98D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2.xml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de la vinculación rea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e la actividad social desinhib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 estrés postraumá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por estrés agu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s adapta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Otro trastorno relacionados con trauma y estresores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Trastorno relacionados con trauma y estresore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6BB5-B2CE-4A98-BD27-C1BCFD5FA61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47" name="10 Rectángulo redondeado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50" name="11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31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 con los trastornos de estré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tegra algunos que aparecían con los trastornos de ansiedad y otros que estaban dentro de la categoría de la infancia y adolesc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s significativos en el trastorno de estrés postraumático (eventos más explícitos, desaparece el criterio A2, cuatro grupos de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 separados para menores de 6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de estrés agudo, directo o indirecto. Eliminación criterio A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de vinculación reactivo,  y trastorno de la actividad social desinhibida (trastornos separad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49FE-782C-4F6E-9B3C-40D8AAD7E5D6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3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7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VINCULACIÓN REA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mismos criterios que DSM-IV-TR, pero separa los dos tipos (inhibido y desinhibido), como trastorno de la vinculación reactivo y trastorno de la actividad social desinhib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n el trastorno de vinculación reactivo especifica más los indicadores y añade varios criterios de exclus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constante de conducta inhibida, emocional retraída hacia adultos cuidadores: falta de búsqueda de consuelo, o falta de respuesta cuando se consuel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ersistente alteración social: mínima respuesta social, limitado afecto positivo, episodios de irritabilidad inexplica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extremo de insuficientes cuidados (3 criteri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criterios de TEA. Antes de los 5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persistencia, grave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8E4D-910F-47A9-86D0-A0833EBC5682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3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ACTIVIDAD SOCIAL DESINHIB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 niño se acerca activamente a adultos no familiares: reducida reticencia a acercarse, conducta excesivamente familiar, reducida comprobación de la opinión de los adultos cuidadores, disposición a ir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s conductas no se limitan a impulsiv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extremo de cuidados insuficientes (3 criteri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 mínima 9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persistencia, grave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6492-BD7D-4A5B-9BF9-CAE13C88746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3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21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ESTRÉS POSTRAUMÁ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para adultos y mayores de 6 años, de los niños menores de 6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dultos: exposición a muerte real o peligro de muerte, lesiones o violencia sexual (4 criterios); presencia de síntomas intrusivos (recuerdos recurrentes, sueños, sensación de que el acontecimiento está sucediendo, malestar ante estímulos que lo recuerdan); evitación de estímulos asociados al trauma (7 criterios); alteraciones negativas de las cogniciones (7 criterios); alteraciones de la activación y reactividad (6 criterios). Duran más de 1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disociativos (despersonalización, desrealización), inicio demor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n niños: exposición a muerte real o peligro de muerte, lesiones o violencia sexual (2 criterios); presencia de síntomas intrusivos (recuerdos recurrentes, sueños, sensación de que el acontecimiento está sucediendo, malestar ante estímulos que lo recuerdan); evitación de estímulos asociados al trauma (5 criterios); alteraciones negativas de las cogniciones (5 criterios); alteraciones de la activación y reactividad (5 criterios). Duran más de 1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9EAA-CC60-46DC-A585-DBF05995307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ESTRÉS AGU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exposición a muerte real o peligro de muerte, lesiones o violencia sexual (4 criterios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intrusivos (recuerdos recurrentes, sueños, sensación de que el acontecimiento está sucediendo, malestar ante estímulos que lo recuerdan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 de evitación de estímulos asociados al trauma (2 criterios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de afecto negativo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disociativos (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de activación (5): problemas de sueños, irritabilidad, hiper-vigilancia, concentración, respuestas exageradas de sobresalt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uración mínima 3 días y un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2A86-4CAA-4598-809B-E06516B2788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102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5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S ADAPTA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emocionales o de conducta e respuesta a estresores, dentro de los tres meses siguientes al evento, con malestar y deterioro social significativo. No persisten más de 6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responden a due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ánimo depresivo, ansiedad, mixto, alteraciones del comportamiento, mixto con alteraciones emocionales y comportamiento, no especific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1C2F-220E-4949-AE3E-10989F6B27E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113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6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S ESPECIFICOS RELACIONADOS CON TRAUMA Y ESTRES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mplimentar como “otro trastorno específico relacionados con trauma y estresores” más la razón especif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RELACIONADOS CON TRAUMA Y ESTRESORE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 y no comunica razón específ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2912-0CEC-4C9D-901A-B1BEC8B20946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124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7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2T07:28:38Z</dcterms:modified>
  <cp:revision>26</cp:revision>
  <dc:subject/>
  <dc:title>DSM-V</dc:title>
</cp:coreProperties>
</file>